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2E9-DC37-4D45-ACB6-46AD76BE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B3FD-F885-4F8D-B2BD-A7C8F699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37E1-BC23-4E5B-8508-F48345CD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034D-C4A6-48C9-8936-BB338D36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43BFE-9FC0-475E-80A2-61BF5D2F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B49AD-F251-4205-99EA-08BBE6AB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215DC-E9A2-459D-823B-55FF22C3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51BA2-B897-4E88-B12D-8D6FCF65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CA3F1-BDD4-48CE-B4E3-9B1CB1D7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28B75-41D5-437E-A33E-FB4564B9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2B730-8144-4BAF-8D2E-EF767D52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9A2D-1516-4169-94E2-FD3F9A42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E9713-88E3-4649-9592-558B5AA1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942B7-E45C-482E-8569-989DF3ED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9B6A7-4B61-4B20-9855-466A3782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3F28B-9714-452F-BE41-F4BAD84C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1170D-CE89-49EF-92E7-EED6BDBA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096DE-5E02-41F8-89F1-40B01B3E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04DA0-24E5-457E-8368-3BE62646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F9704-B71A-436F-B112-2C7E4932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80D99-1412-456F-8D86-4AADB0BC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E8173-ECBE-44A7-B726-0AE57DE4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4AC-1ED0-4BC3-90E2-2B2F8CA1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1D96D-C2E4-4A67-8594-BC4148D1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D8950-2DF6-4A4A-8646-E3C32E40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CB4C6-0A1F-489B-951C-0B73B619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D2A02-B5A3-4A1E-A908-3B262DEB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95141-E34D-48AA-90E2-3FDE8CC9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5E11D-40A9-418D-97CA-58D2C200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2D072-23BD-4FF0-9471-01AA5B58E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C1248-00EC-4516-90A3-FC093B6F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8F19B-EA26-44BC-956D-B4D2D17A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21817-C8ED-4648-BE10-F57771BC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C59-4B71-4207-871E-80E071DF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4B4ED-3B8E-4170-A615-23E382A3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75C1F-C7CB-4B62-BE3F-6196D175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57316-D5DF-4361-A101-874569DF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42910-477B-423A-9761-F111ACDD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3BB06-0319-4A73-AC2A-B655A9DA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76EE1-76A1-46CE-B2F0-C20D9BE8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A277B-B165-4159-A80D-A82B0DE4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BB8F4-C2F7-4C6F-B0A1-5F1B6547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CA281-7BFE-4022-872C-1A6D3ECD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081-6BF8-428E-88BE-7D6258BF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1F56-3699-4588-81A1-3AE5F256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AB37-EAD4-4369-88DE-91F67877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C4AD-EA92-4186-B5C7-62506220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8A9F-D8D4-48CC-A715-743828FA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3.xml"/><Relationship Id="rId23" Type="http://schemas.openxmlformats.org/officeDocument/2006/relationships/slideLayout" Target="../slideLayouts/slideLayout14.xml"/><Relationship Id="rId24" Type="http://schemas.openxmlformats.org/officeDocument/2006/relationships/slideLayout" Target="../slideLayouts/slideLayout15.xml"/><Relationship Id="rId25" Type="http://schemas.openxmlformats.org/officeDocument/2006/relationships/slideLayout" Target="../slideLayouts/slideLayout16.xml"/><Relationship Id="rId26" Type="http://schemas.openxmlformats.org/officeDocument/2006/relationships/slideLayout" Target="../slideLayouts/slideLayout17.xml"/><Relationship Id="rId27" Type="http://schemas.openxmlformats.org/officeDocument/2006/relationships/slideLayout" Target="../slideLayouts/slideLayout18.xml"/><Relationship Id="rId28" Type="http://schemas.openxmlformats.org/officeDocument/2006/relationships/slideLayout" Target="../slideLayouts/slideLayout19.xml"/><Relationship Id="rId29" Type="http://schemas.openxmlformats.org/officeDocument/2006/relationships/slideLayout" Target="../slideLayouts/slideLayout20.xml"/><Relationship Id="rId30" Type="http://schemas.openxmlformats.org/officeDocument/2006/relationships/slideLayout" Target="../slideLayouts/slideLayout21.xml"/><Relationship Id="rId31" Type="http://schemas.openxmlformats.org/officeDocument/2006/relationships/slideLayout" Target="../slideLayouts/slideLayout22.xml"/><Relationship Id="rId32" Type="http://schemas.openxmlformats.org/officeDocument/2006/relationships/slideLayout" Target="../slideLayouts/slideLayout23.xml"/><Relationship Id="rId3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E2F1-6828-4891-80F4-C22E58CBC1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AF14-ACE7-4AC9-9D6A-12F74AB0E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48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4" name="Rectangle 6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6" descr="star"/>
          <p:cNvPicPr/>
          <p:nvPr/>
        </p:nvPicPr>
        <p:blipFill>
          <a:blip r:embed="rId6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9" descr="star"/>
          <p:cNvPicPr/>
          <p:nvPr/>
        </p:nvPicPr>
        <p:blipFill>
          <a:blip r:embed="rId7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9" descr="star"/>
          <p:cNvPicPr/>
          <p:nvPr/>
        </p:nvPicPr>
        <p:blipFill>
          <a:blip r:embed="rId8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oup 101" descr=""/>
          <p:cNvPicPr/>
          <p:nvPr/>
        </p:nvPicPr>
        <p:blipFill>
          <a:blip r:embed="rId9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68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69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0" name="Freeform 21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3" name="Freeform 22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" name="Straight Connector 8" descr=""/>
            <p:cNvPicPr/>
            <p:nvPr/>
          </p:nvPicPr>
          <p:blipFill>
            <a:blip r:embed="rId12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7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78" name="Freeform 19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1" name="Freeform 20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4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5" name="Freeform 17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88" name="Freeform 18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1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2" name="Freeform 15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98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99" name="Freeform 13" descr=""/>
                <p:cNvPicPr/>
                <p:nvPr/>
              </p:nvPicPr>
              <p:blipFill>
                <a:blip r:embed="rId19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2" name="Freeform 14" descr=""/>
                <p:cNvPicPr/>
                <p:nvPr/>
              </p:nvPicPr>
              <p:blipFill>
                <a:blip r:embed="rId20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4" name="Picture 230" descr="star"/>
          <p:cNvPicPr/>
          <p:nvPr/>
        </p:nvPicPr>
        <p:blipFill>
          <a:blip r:embed="rId21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EDBA-CD69-4889-8787-C7D0E76D02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5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A792-3922-4924-B7F2-0AD15A582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2"/>
    <p:sldLayoutId id="2147483663" r:id="rId23"/>
    <p:sldLayoutId id="2147483664" r:id="rId24"/>
    <p:sldLayoutId id="2147483665" r:id="rId25"/>
    <p:sldLayoutId id="2147483666" r:id="rId26"/>
    <p:sldLayoutId id="2147483667" r:id="rId27"/>
    <p:sldLayoutId id="2147483668" r:id="rId28"/>
    <p:sldLayoutId id="2147483669" r:id="rId29"/>
    <p:sldLayoutId id="2147483670" r:id="rId30"/>
    <p:sldLayoutId id="2147483671" r:id="rId31"/>
    <p:sldLayoutId id="2147483672" r:id="rId32"/>
    <p:sldLayoutId id="2147483673" r:id="rId3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47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0E14-D58E-4251-BE0E-5D35480670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5D96-C60D-433C-A4B3-610F3CE7C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94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98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20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20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202" name="Freeform 21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205" name="Freeform 22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7" name="Straight Connector 8" descr=""/>
            <p:cNvPicPr/>
            <p:nvPr/>
          </p:nvPicPr>
          <p:blipFill>
            <a:blip r:embed="rId6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20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210" name="Freeform 1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213" name="Freeform 2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21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217" name="Freeform 17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220" name="Freeform 18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22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224" name="Freeform 15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227" name="Freeform 16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23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231" name="Freeform 13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234" name="Freeform 14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36" name="Picture 230" descr="star"/>
          <p:cNvPicPr/>
          <p:nvPr/>
        </p:nvPicPr>
        <p:blipFill>
          <a:blip r:embed="rId15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2622-8B30-404D-94B0-70EE4CD765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DCEA-EF5C-4D4D-A7D8-7F78FE2EA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овременные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еб-технолог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робный кур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Заголовок 1"/>
          <p:cNvSpPr/>
          <p:nvPr/>
        </p:nvSpPr>
        <p:spPr>
          <a:xfrm>
            <a:off x="214200" y="4286160"/>
            <a:ext cx="77155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оздание статического содержания. C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лекторы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ниверсальный селек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 { свойство1: значение; свойство2: значение;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рупп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електор 1, Селектор 2, ... Селектор N { свойство1: значение; свойство2: значение;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0E51-90E3-4D0C-8EA6-BD4AC234A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лекторы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Наследование –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еренос правил форматирования для элементов, находящихся внутри других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севдоклассы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пределение динамического состояние элементо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Элемент:Псевдокласс { свойство1: значение; свойство2: значение;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севдоэлементы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дание стиля логических элементов, не определенных в дереве элементов документ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електор:Псевдоэлемент { свойство1: значение; свойство2: значение;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F1A9-B970-4B9F-A877-B67DB3A20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200" y="92880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з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Picture 7" descr=""/>
          <p:cNvPicPr/>
          <p:nvPr/>
        </p:nvPicPr>
        <p:blipFill>
          <a:blip r:embed="rId1"/>
          <a:srcRect l="0" t="13157" r="0" b="15791"/>
          <a:stretch/>
        </p:blipFill>
        <p:spPr>
          <a:xfrm>
            <a:off x="928800" y="1500120"/>
            <a:ext cx="6966000" cy="19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 применения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379A-2A82-4AFF-AAE2-DB13F8E18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8" descr=""/>
          <p:cNvPicPr/>
          <p:nvPr/>
        </p:nvPicPr>
        <p:blipFill>
          <a:blip r:embed="rId2"/>
          <a:srcRect l="0" t="9067" r="0" b="25230"/>
          <a:stretch/>
        </p:blipFill>
        <p:spPr>
          <a:xfrm>
            <a:off x="1000080" y="3929040"/>
            <a:ext cx="6858000" cy="254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мен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менное им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символьное имя доме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ме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область иерархического пространства доменных имен сети Интернет, которая обозначается уникальным доменным имен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менная зон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совокупность доменных имен определенного уровня, входящих в конкретный дом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12DC-8E6C-4BE0-A716-453157399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Хостинг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остин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in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– услуга по предоставлению дискового пространства для физического размещения информации на сервере, постоянно находящемся в сети (обычно Интерне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атный и бесплатный хостин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37D6-671E-4B65-A561-F4222326C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нятие 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SS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SS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cading Style Sheet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каскадные таблицы стилей) – технология описания внешнего вида документа, написанного языком размет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деление содержания (написанного 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ли другом языке разметки) и представления (написанного 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ложено Хокон Виум Ли в 1994 го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 –12 мая 1998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E14D-7F46-45AB-803B-844A60875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имуществ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есколько дизайнов страницы для разных устройств просмотр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меньшение времени загрузки страниц сайта за счет переноса правил представления данных в отдельный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SS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-файл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ростота последующего изменения дизайн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ополнительные возможности оформления (например, можно сделать так, чтобы меню было всегда видно при прокрутке страницы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c8e7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8036-3597-4782-992D-C0930D4FF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достатк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ичное отображение верстки в различных браузерах (особенно устаревших), которые по-разному интерпретируют одни и те же данны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о встречающаяся необходимость на практике исправлять не только один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файл, но и тег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серверный код, которые сложным и ненаглядным способом связаны с селекторам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что значительно увеличивает время редактирования и тест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D5E3-22FD-4620-8BC1-69549BEF7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1168-B3B0-49EB-94A4-923F6A485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2286000" y="1071720"/>
            <a:ext cx="414828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бавление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18872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аблица связанных стил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link rel="stylesheet" type="text/css" href="mysite.css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аблица глобальных стилей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yle type="text/css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nt-size: 110%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sty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нутренние стил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 style="font-size: 110%;"&g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Текст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C483-CC5C-495F-B2D3-5DEACB812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интаксис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лекто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стиля, в котором указаны параметры формат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електор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войство1: значени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войство2: значени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29A9-F57D-46E5-89C7-FC70967E8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лекторы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електоры тего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стиля те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Тег { свойство1: значение; свойство2: значение;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стиля для индивидуального элемента или разных стилей для одного те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Тег.Имя класса { свойство1: значение; свойство2: значение;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дентификатор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уникальное имя элемен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Имя идентификатора { свойство1: значение; свойство2: значение; ...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9A80-53DC-4C4C-AD0D-869B32760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лекторы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S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Контекстные селектор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Тег1 Тег2 { свойство1: значение; свойство2: значение;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Соседние селектор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електор 1 + Селектор 2</a:t>
            </a: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 свойство1: значение; свойство2: значение;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очерние селектор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Селектор 1 &gt; Селектор 2 { свойство1: значение; свойство2: значение; ...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Селекторы атрибутов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(со значением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атрибут="значение"] { Описание правил стиля } Селектор[атрибут="значение"] { Описание правил стиля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F1D2-CF5C-456E-AB47-87F44C8FB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3:06:53Z</dcterms:created>
  <dc:creator>Несвижский А.И., Рябов В.А.</dc:creator>
  <dc:description/>
  <dc:language>en-US</dc:language>
  <cp:lastModifiedBy>Bleff</cp:lastModifiedBy>
  <dcterms:modified xsi:type="dcterms:W3CDTF">2010-03-15T11:44:12Z</dcterms:modified>
  <cp:revision>19</cp:revision>
  <dc:subject> Лекция 3. Создание статического содержания. CSS </dc:subject>
  <dc:title>Современные веб-технологии. Подробный курс</dc:title>
</cp:coreProperties>
</file>