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3.png" ContentType="image/png"/>
  <Override PartName="/ppt/media/image21.wmf" ContentType="image/x-wmf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7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555A-5181-477A-9AE4-2D6D4BAE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33A6-0A5F-452D-A08D-81D23985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428A-09C1-42D2-8365-6CCF192D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4CF4-138F-4BAC-990E-C4E86113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F5503-696A-4098-9DFA-E0D3AB66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4A421-269D-426E-AAB3-24451A44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15883-09F6-487F-9169-794E2CDB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EB594-1CA4-4257-8977-4F1E8E74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FED5A-134D-4513-8E14-E0BED8A2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ECE08-5D36-4979-8E9E-1BB59926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5C445-302C-4E13-9A49-43407B28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E0F7-AD2F-43EB-A37C-3446A1FD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7863C-043D-4212-A635-55619BEF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B5646-4DE7-4501-8997-BD59C0E3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8DCD4-47B8-4706-8304-884BB1CC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3065F-FC11-43E6-B133-87963318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2D29E-701A-4D27-B89C-B3FB9AA4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35940-54D4-4DAB-8406-41E20EEA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99AE2-E766-4A2B-B64D-9BB3AC06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32BF9-C921-4844-B170-4E031FB5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3DBC1-47E8-4CAB-B85B-49DFEA81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8D689-5CD5-4248-B1BB-DFDC2010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547D-5E6D-4567-83D4-9B546C85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36D09-A82E-4A54-A50D-87104313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4A891-6331-4D48-BE89-6C8DB767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7A448-68D7-4BCF-9011-53AAA899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B464C-7ED5-402F-AB57-204D1D70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BE5FA-9B2C-4BC4-8D8D-0B476D69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273A8-12BC-4962-BE5D-FBB2091F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0A86B-CB24-4734-9282-9B491DD9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3A0A8-CC29-4025-8F2F-54515D36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F2F2D-AC1E-42C5-8FAE-76BAF191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C622D-1E77-4711-A7DC-F6F33A60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A540-1048-473E-8560-E84B0DCB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6A6F5-152A-48BB-B8B3-8D2DFE23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60F07-02E0-4C15-AFC8-363EAF7D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1584F-C6FB-4377-A979-BF9BEA67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71F54-6F2A-4790-A780-02C934AE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2DF64-5370-4269-8455-CE8E2FE0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5AA42-592B-46E9-A824-FA3BCBC4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CC0AB-83E9-46D2-994E-537DABA8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08784-A37E-469E-B26E-D819F172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FE376-C2F1-49FA-B412-B5FCE692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5811-FE89-43C0-8BBB-28F0F150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0959-7644-47E7-96E2-2A1AA96D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140-EB92-4448-A052-B17ABE27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F542-C30A-474B-BF3D-D89E27C1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2D9-8FED-4B83-8907-4AB625FF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3.xml"/><Relationship Id="rId23" Type="http://schemas.openxmlformats.org/officeDocument/2006/relationships/slideLayout" Target="../slideLayouts/slideLayout14.xml"/><Relationship Id="rId24" Type="http://schemas.openxmlformats.org/officeDocument/2006/relationships/slideLayout" Target="../slideLayouts/slideLayout15.xml"/><Relationship Id="rId25" Type="http://schemas.openxmlformats.org/officeDocument/2006/relationships/slideLayout" Target="../slideLayouts/slideLayout16.xml"/><Relationship Id="rId26" Type="http://schemas.openxmlformats.org/officeDocument/2006/relationships/slideLayout" Target="../slideLayouts/slideLayout17.xml"/><Relationship Id="rId27" Type="http://schemas.openxmlformats.org/officeDocument/2006/relationships/slideLayout" Target="../slideLayouts/slideLayout18.xml"/><Relationship Id="rId28" Type="http://schemas.openxmlformats.org/officeDocument/2006/relationships/slideLayout" Target="../slideLayouts/slideLayout19.xml"/><Relationship Id="rId29" Type="http://schemas.openxmlformats.org/officeDocument/2006/relationships/slideLayout" Target="../slideLayouts/slideLayout20.xml"/><Relationship Id="rId30" Type="http://schemas.openxmlformats.org/officeDocument/2006/relationships/slideLayout" Target="../slideLayouts/slideLayout21.xml"/><Relationship Id="rId31" Type="http://schemas.openxmlformats.org/officeDocument/2006/relationships/slideLayout" Target="../slideLayouts/slideLayout22.xml"/><Relationship Id="rId32" Type="http://schemas.openxmlformats.org/officeDocument/2006/relationships/slideLayout" Target="../slideLayouts/slideLayout23.xml"/><Relationship Id="rId3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3D33-7B96-49C4-A0FA-3271807F35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8B33-6538-4E5E-92D3-0D1E2E3C0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48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2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4" name="Rectangle 6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6" descr="star"/>
          <p:cNvPicPr/>
          <p:nvPr/>
        </p:nvPicPr>
        <p:blipFill>
          <a:blip r:embed="rId6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9" descr="star"/>
          <p:cNvPicPr/>
          <p:nvPr/>
        </p:nvPicPr>
        <p:blipFill>
          <a:blip r:embed="rId7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9" descr="star"/>
          <p:cNvPicPr/>
          <p:nvPr/>
        </p:nvPicPr>
        <p:blipFill>
          <a:blip r:embed="rId8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oup 101" descr=""/>
          <p:cNvPicPr/>
          <p:nvPr/>
        </p:nvPicPr>
        <p:blipFill>
          <a:blip r:embed="rId9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68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69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70" name="Freeform 21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73" name="Freeform 22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5" name="Straight Connector 8" descr=""/>
            <p:cNvPicPr/>
            <p:nvPr/>
          </p:nvPicPr>
          <p:blipFill>
            <a:blip r:embed="rId12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77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78" name="Freeform 19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81" name="Freeform 20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84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85" name="Freeform 17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88" name="Freeform 18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91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92" name="Freeform 15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95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98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99" name="Freeform 13" descr=""/>
                <p:cNvPicPr/>
                <p:nvPr/>
              </p:nvPicPr>
              <p:blipFill>
                <a:blip r:embed="rId19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02" name="Freeform 14" descr=""/>
                <p:cNvPicPr/>
                <p:nvPr/>
              </p:nvPicPr>
              <p:blipFill>
                <a:blip r:embed="rId20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4" name="Picture 230" descr="star"/>
          <p:cNvPicPr/>
          <p:nvPr/>
        </p:nvPicPr>
        <p:blipFill>
          <a:blip r:embed="rId21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46E1-0BEF-4FFA-A93E-9543D10C4B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5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F929-5328-447A-899E-0F582F0EB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2"/>
    <p:sldLayoutId id="2147483663" r:id="rId23"/>
    <p:sldLayoutId id="2147483664" r:id="rId24"/>
    <p:sldLayoutId id="2147483665" r:id="rId25"/>
    <p:sldLayoutId id="2147483666" r:id="rId26"/>
    <p:sldLayoutId id="2147483667" r:id="rId27"/>
    <p:sldLayoutId id="2147483668" r:id="rId28"/>
    <p:sldLayoutId id="2147483669" r:id="rId29"/>
    <p:sldLayoutId id="2147483670" r:id="rId30"/>
    <p:sldLayoutId id="2147483671" r:id="rId31"/>
    <p:sldLayoutId id="2147483672" r:id="rId32"/>
    <p:sldLayoutId id="2147483673" r:id="rId3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47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3582-A3EB-4F24-BEB5-D96D8A1AD0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1EC2-267D-43B4-92EF-B0227AF94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94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98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200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201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202" name="Freeform 21" descr=""/>
                <p:cNvPicPr/>
                <p:nvPr/>
              </p:nvPicPr>
              <p:blipFill>
                <a:blip r:embed="rId4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3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205" name="Freeform 22" descr=""/>
                <p:cNvPicPr/>
                <p:nvPr/>
              </p:nvPicPr>
              <p:blipFill>
                <a:blip r:embed="rId5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07" name="Straight Connector 8" descr=""/>
            <p:cNvPicPr/>
            <p:nvPr/>
          </p:nvPicPr>
          <p:blipFill>
            <a:blip r:embed="rId6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209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210" name="Freeform 19" descr=""/>
                <p:cNvPicPr/>
                <p:nvPr/>
              </p:nvPicPr>
              <p:blipFill>
                <a:blip r:embed="rId7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213" name="Freeform 20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216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217" name="Freeform 17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220" name="Freeform 18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223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224" name="Freeform 15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227" name="Freeform 16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230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231" name="Freeform 13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234" name="Freeform 14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5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36" name="Picture 230" descr="star"/>
          <p:cNvPicPr/>
          <p:nvPr/>
        </p:nvPicPr>
        <p:blipFill>
          <a:blip r:embed="rId15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7EFE-48BE-43BD-8295-ABBB20285D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92AA-D038-4538-9B73-5C85E3671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6080" y="1069920"/>
            <a:ext cx="747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овременные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еб-технологи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робный кур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Заголовок 1"/>
          <p:cNvSpPr/>
          <p:nvPr/>
        </p:nvSpPr>
        <p:spPr>
          <a:xfrm>
            <a:off x="214200" y="4286160"/>
            <a:ext cx="8143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кция 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ch Internet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obe Flas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2F41-BF94-4238-9BDC-3C3B659EF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785880" y="1285920"/>
            <a:ext cx="75866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obe Fle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00040" y="1143000"/>
            <a:ext cx="82296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Источник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Adobe Flex Builder 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http://pshyama.files.wordpress.com/2009/06/flexbld2.jpg?w=455&amp;h=33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4464-D508-422B-B700-FA65F4945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1285920" y="1285920"/>
            <a:ext cx="61070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obe Fle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реимущества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быстрый цикл освоения и разработк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развитое communit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много учебных материалов и документаци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нтеграция с дизайнерскими инструментами от Adob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адежная простая и эффективная платформ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Недостатк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едрассудок «Flex это для мультиков»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ущественные (по сравнению с Java) ограничения «песочницы»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многие разработчики акцентированы на визуализации, как следствие плохой серверный код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1A60-4527-4A52-AB0D-92B7784E0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obe Ai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DB3B-322E-4A4F-9A90-D0049819F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1"/>
          <p:cNvGraphicFramePr/>
          <p:nvPr/>
        </p:nvGraphicFramePr>
        <p:xfrm>
          <a:off x="571680" y="1428840"/>
          <a:ext cx="80010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428840"/>
                    <a:ext cx="80010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obe Ai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еимущества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используя AIR, можно легко перенести готовое HTML или Adobe Flex приложение на компьютер пользовател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иложения имеют доступ к файловой системе, буферу обмена, имеется поддержка нескольких окон, технологии drag-and-dro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едостатк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ограниченный доступ к SQLite и веб-сервисам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иложения, написанные на AIR, являются однопоточным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иложения, написанные на AIR, зависят от среды выполнения Adob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72A0-C1BE-4E65-853E-618036B9F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JA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еимущества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есть в любом браузере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ост в освоени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быстрый цикл разработк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развитый инструментарий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развитое сообщество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едостатк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иногда кросс-браузерная несовместимост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ложно/дорого разрабатывать большие приложени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ложно отлаживать, дорого поддерживать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низкая производительност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7819-C6AD-4409-A8FE-F084D2ED9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e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имуществ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исполняется native-код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достат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только IE и Window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нетривиален в разработке и отладке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большой период освоения технолог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имеются некоторые проблемы с безопасностью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AD85-2334-41D8-8237-D238822A7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Windows Presentation Found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Windows Presentation Foundation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(WPF, кодовое название – Avalon) – графическая (презентационная) подсистема в составе .NET Framework 3.0, имеющая прямое отношение к XAML (Extensible Application Markup Language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снова WPF – это независимый от разрешения экрана и основанный на векторной графике механизм отрисовки, который был построен для использования всех преимуществ современного графического оборудовани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65D9-A6BE-4F60-8E8D-6BED6807F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lverligh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94A7-9446-4CF0-ADD0-6E09442A4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Object 1"/>
          <p:cNvGraphicFramePr/>
          <p:nvPr/>
        </p:nvGraphicFramePr>
        <p:xfrm>
          <a:off x="2286000" y="1143000"/>
          <a:ext cx="407196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143000"/>
                    <a:ext cx="407196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lverligh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Технология Deep Zo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Комплексная поддержка работы в сет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Языковая поддержка .NET Framewor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Защита контента – Silverlight D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Кросс-платформенная и кросс-браузерная поддержк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оддержка высококачественного видео и ауди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Технология Smooth Stream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оддержка аппаратного ускорения при работе с трехмерной графико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Глубокое связывание (Deep linking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O-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дружелюбност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озможности работы без браузер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оддержка устройств с multitouch-интерфейсом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525A-4025-4521-B862-513A0D659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нятие 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A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RIA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(Rich Internet application, Rich Interactive Applications) – это приложение, доступное через Интернет, богатое функциональностью традиционных настольных приложений, не поддерживаемой браузерами непосредственно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RI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иложение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ередает веб-клиенту необходимую часть пользовательского интерфейса, оставляя большую часть данных (ресурсы программы, данные и пр.) на сервере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запускается в браузере и не требует дополнительной установки П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запускается локально в среде безопасности, называемой «песочница» (sandbo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6D93-A3EB-4574-9A5E-1E9E27DE8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500040" y="1143000"/>
            <a:ext cx="82296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Источник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JavaOne: Sun rolls out JavaF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http://news.cnet.com/8301-13953_3-9937054-80.html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ологи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racle (Su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A687-8775-4831-A8E4-0F8991179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1357200" y="1357200"/>
            <a:ext cx="607248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равнение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A-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ологи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E15E-18D5-47F5-83A5-2538381D1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357120" y="1071720"/>
          <a:ext cx="8358120" cy="5364000"/>
        </p:xfrm>
        <a:graphic>
          <a:graphicData uri="http://schemas.openxmlformats.org/drawingml/2006/table">
            <a:tbl>
              <a:tblPr/>
              <a:tblGrid>
                <a:gridCol w="1571760"/>
                <a:gridCol w="1143000"/>
                <a:gridCol w="1143000"/>
                <a:gridCol w="1071360"/>
                <a:gridCol w="1143000"/>
                <a:gridCol w="1143000"/>
                <a:gridCol w="1143000"/>
              </a:tblGrid>
              <a:tr h="244440">
                <a:tc>
                  <a:txBody>
                    <a:bodyPr lIns="15120" rIns="15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ноло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P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lverl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l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JavaF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indo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indo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nu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indo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nu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indo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nu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indo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nu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indo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nu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рауз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E, Firefo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E, Firefox, Safari, Chr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E, Firefox, Safari, Opera, Netscape, Chr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E, Firefox, Safari, Opera, Netscape, Chr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E, Firefox, Safari, Opera, Netscape, Chr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зы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AML+CLS (C#, VB…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AML+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JavaScript/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LS(C#, VB…)/DLR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Python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XML+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onScrip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onScrip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XML/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onScript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avaScript/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TM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avaFX Script, Java platform (Java, Groovy…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идео коде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Windows Media Playe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MV, VC-1, H.264, ACC Video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renson Spark, On2 VP6-E, On2 VP6-S, H.264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l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renson Spark, On2 VP6-E, On2 VP6-S, H.264 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l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renson Spark, On2 VP6-E, On2 VP6-S, H.264 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l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аты зву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Windows Media Playe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P3, WMA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R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P3, AA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P3, AA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P3, AA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, AIFF, WAV, MID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строенная поддержка 3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ддержка микрофона и вебкам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A (Flash/Flex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E758-FCA6-4217-9C9B-218486D70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6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5932440" cy="2933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2"/>
          <a:stretch/>
        </p:blipFill>
        <p:spPr>
          <a:xfrm>
            <a:off x="2571840" y="3286080"/>
            <a:ext cx="59324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A (Ajax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020B-0CD4-4875-ADEF-64F41F9F2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5932440" cy="29671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Рис. 2. Редактирование документа в текстовом процессоре Google Docs"/>
          <p:cNvPicPr/>
          <p:nvPr/>
        </p:nvPicPr>
        <p:blipFill>
          <a:blip r:embed="rId2"/>
          <a:stretch/>
        </p:blipFill>
        <p:spPr>
          <a:xfrm>
            <a:off x="3643200" y="2786040"/>
            <a:ext cx="460404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A (Silverlight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BCAC-338D-40D9-B67D-9D4BBF9DB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5986440" cy="3019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2714760" y="3214800"/>
            <a:ext cx="593244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нятие 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A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A9EF-6004-4AE2-932E-DC507FBDE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5"/>
          <p:cNvGraphicFramePr/>
          <p:nvPr/>
        </p:nvGraphicFramePr>
        <p:xfrm>
          <a:off x="1714680" y="1357200"/>
          <a:ext cx="5357520" cy="45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1357200"/>
                    <a:ext cx="5357520" cy="45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рия развития приложени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F2D5-BFDC-46D6-98BE-0405696F2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5"/>
          <p:cNvGraphicFramePr/>
          <p:nvPr/>
        </p:nvGraphicFramePr>
        <p:xfrm>
          <a:off x="1571760" y="1285920"/>
          <a:ext cx="6286320" cy="47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1285920"/>
                    <a:ext cx="628632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IA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классическое веб-приложе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2D3D-984A-43B5-9430-6266A6F0B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1571760" y="1214280"/>
          <a:ext cx="579744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1214280"/>
                    <a:ext cx="579744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A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 «толстый» клиен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59EA-9B0A-46C1-9C4D-F41DC2E1A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3"/>
          <p:cNvGraphicFramePr/>
          <p:nvPr/>
        </p:nvGraphicFramePr>
        <p:xfrm>
          <a:off x="133200" y="1143000"/>
          <a:ext cx="4295880" cy="47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" y="1143000"/>
                    <a:ext cx="429588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5"/>
          <p:cNvGraphicFramePr/>
          <p:nvPr/>
        </p:nvGraphicFramePr>
        <p:xfrm>
          <a:off x="4500720" y="1143000"/>
          <a:ext cx="4257360" cy="514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1143000"/>
                    <a:ext cx="425736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стоинства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«Богатый» интерфейс по сравнению с HTML-приложениями (drag-and-drop, использование ползунка для изменения данных, возможность производить вычисления, которые не отправляются обратно на сервер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спользование вычислительных ресурсов клиента и сервера лучше сбалансирован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иложения доступны через браузер и не требуют установк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Кросс-платформены и кросс-браузерн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Автоматическое обновление верси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Меньше опасность заражения вирусами для пользователей за счет использования «песочницы»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Частичная возможность работы в режиме offli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B096-65AC-4B70-8E75-FF13EAE8C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достатк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Из-за «песочница» имеют ограниченный доступ к системным ресурсам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и отключение активных сценариев в браузере RIA может не работат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Конфликты с XHTM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исковые системы могут не проиндексировать содержимое приложения R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Требуют регулярного или постоянного подключения к Интернету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облем веб-совместимости с R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Нельзя расширять плагинами и модам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ложность интеграции с браузером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Дорогая разработка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73FF-140A-451E-8027-1578A0BA6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ологи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ob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00040" y="1143000"/>
            <a:ext cx="82296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Источник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Adobe Flash Platform ActionScript reference for RIA developmen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http://www.adobe.com/devnet/actionscript/articles/atp_ria_guide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c8e79e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1254-9140-41E1-9C1C-47EDECE27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5" descr=""/>
          <p:cNvPicPr/>
          <p:nvPr/>
        </p:nvPicPr>
        <p:blipFill>
          <a:blip r:embed="rId1"/>
          <a:stretch/>
        </p:blipFill>
        <p:spPr>
          <a:xfrm>
            <a:off x="2643120" y="1000080"/>
            <a:ext cx="335772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3:06:53Z</dcterms:created>
  <dc:creator>Несвижский А.И., Рябов В.А.</dc:creator>
  <dc:description/>
  <dc:language>en-US</dc:language>
  <cp:lastModifiedBy>Мохова</cp:lastModifiedBy>
  <dcterms:modified xsi:type="dcterms:W3CDTF">2010-03-29T18:25:05Z</dcterms:modified>
  <cp:revision>20</cp:revision>
  <dc:subject> Лекция 12. Rich Internet application</dc:subject>
  <dc:title>Современные веб-технологии. Подробный курс</dc:title>
</cp:coreProperties>
</file>