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media/image1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242-2FE3-45AF-8469-7B0B7D8C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924-3499-483D-BBEC-4959952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262-ADCB-4275-BC3D-CA6F8B98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6A1-870F-4793-AA0B-219F18C4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5F52B-7334-4B19-8687-93B59871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7F67D-7EE3-4EDA-ABA5-BE2A1CB3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7253E-5C74-40BD-9718-2A17D34F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9A49A-29A5-4D9B-AB87-DF115700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13F2F-9EFF-43E1-95D7-CD888152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88B8C-BC13-41A8-910A-E42784FE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63428-63F7-4627-A4D1-9958EA01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09C-329E-44A5-80FB-51A824B5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9A16E-6847-44DB-816F-663A41CC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D562B-9BCB-47D4-B4C6-0CD7273E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4B324-E730-4C10-AA73-FCB9319F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AC52C-8C2C-4452-821C-E7819796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0E05F-C613-464C-BD19-1BBBD0A3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D87B-58D9-4393-BF2A-830F20FE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2F36-D75E-4886-BC24-54B03887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A7BE-A9FC-44A8-B4B8-779CA226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7D53-D27D-43D7-A457-32B08AE9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73D5-0826-46BA-A7D0-594625D9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EB5-65FD-453D-A677-9F827E54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4207-00EB-441A-9F8F-AD4E2FB9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26F7-7132-408A-A896-387B16B7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31FA-4AF9-41B9-9C43-F57D64C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124E-5AFA-4924-BB60-55218A08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818F-33C2-4674-A722-AB7009B2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0931-C734-418F-9E49-4A5CCABA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2AD7-72E3-4DC9-8721-5C470F64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D18A-1881-43D1-A779-D86F6CB6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4A9F4-B20F-4192-9C72-AD1CE832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AD2B-0B70-4B2B-9E8C-EF056C8E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D30-01E5-45EE-88BB-5DCB6B17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9C42-3287-438C-9146-4A3FEFD9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B0E6A-3848-43C8-8F71-C52A9742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DCB1-34F2-4572-87A0-3E1FF949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A0B6-8D8C-4625-BBCF-92DF5064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71CD-3BCB-404E-A928-EAE2F2F4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FD44-54B3-4FB5-9E9E-970CB6D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4E1AA-9517-4D19-9543-278DAA1B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C18E-A1F4-4674-A0E3-95432288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4BF2-D45E-486E-A958-79FEEE98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D6B-5EC3-4A0C-B8CE-712C86E0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A30-A24C-446E-891A-6B9A8910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DBB-7012-41B3-9B0C-6729D5F1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F12-81CB-4DA5-82A7-0E87E355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4D2-02F8-4371-8E27-741513B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C397-30C5-461E-A910-43E228BCD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295D-A206-42B5-AC06-63B71910B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D504-AD19-4631-8FD2-FD813F333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6E98-E452-47F4-9306-527188167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EAB4-10A4-4865-8B13-219BABA42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6C54-FD10-4A6D-8BEE-7E635CCCC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8339-3EC3-4D2A-BF0C-0544468BC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CFCE-7DB0-43C2-AA9B-532169D39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82868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Проектирование баз данных и работа с ними Веб-приложений. LINQ, ADO.NET Entities, D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ADO.NET Entity Frame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ADO.NET Entity Framework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EF) – объектно-ориентированная технология доступа к данным, является object-relational mapping (ORM) решением для .NET Framework от Microsof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зможность взаимодействия посредством LINQ to Entities и с использованием Entity SQ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спользуется ADO.NET Data Services и связка из Windows Communication Foundation и Windows Presentation Foun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F20-D7FE-41FC-9D1F-C5872B76F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имущества приложений ADO.NET Entity Frame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гут работать концептуальной моделью в терминах предметной област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свобождаются от жестких зависимостей от конкретного ядра СУБД или схемы хран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опоставления между концептуальной моделью и схемой, специфичной для конкретного хранилищ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озможность работы с согласованной моделью объектов приложения, которая может быть сопоставлена с различными схемами хран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есколько концептуальных моделей могут быть сопоставлены с единой схемой хран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ддержка LINQ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1123-C4EA-466B-94E6-FD44AEA0F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мпоненты Entity Frame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дель Entity Data Model (ED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мпонент Object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мпонент LINQ to Entiti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Язык Entity SQ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тавщик EntityCli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мпонент метаданных ADO.NE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бор средств, которые создают сопоставления и разделяемые классы, представляющие сущности концептуальной моде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тавщик данных SqlCli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4C84-0CCA-48E3-889A-DFBF1A2D3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Entity Data Mode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9927-ACAB-4E60-985D-0783CBAEA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5"/>
          <p:cNvGraphicFramePr/>
          <p:nvPr/>
        </p:nvGraphicFramePr>
        <p:xfrm>
          <a:off x="2286000" y="1143000"/>
          <a:ext cx="4357800" cy="51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35780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хитектура Entity Frame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8A1D-693B-4EEC-9375-0B168C6ED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928800" y="1285920"/>
          <a:ext cx="655776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285920"/>
                    <a:ext cx="65577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но-ориентированное проект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188720"/>
            <a:ext cx="84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облемно-ориентированное проектирование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(Domain-Driven Design, DDD) является подходом к разработке программного обеспечения для решения сложных задач, глубоко связывающем реализацию программной систем с развивающейся моделью бизнес-концепци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войства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D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кусировка проекта на основной проблемной области (домене) и бизнес-логике эт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зирование всего проектирования на мо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ие творческого сотрудничества между техническими экспертами и экспертами в проблемной области, чтобы максимально понять концептуальную суть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782F-7316-4614-9D7E-295DD5F16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понятия DD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88720"/>
            <a:ext cx="84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ен (проблемная обла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щеупотребительный язык (Ubiquitous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E992-C398-4D66-9432-1F3CC7E5D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сновные аспекты DD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F97A-EB6D-44A1-B18E-DC0606EA5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1"/>
          <p:cNvGraphicFramePr/>
          <p:nvPr/>
        </p:nvGraphicFramePr>
        <p:xfrm>
          <a:off x="571680" y="1643040"/>
          <a:ext cx="7537320" cy="32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643040"/>
                    <a:ext cx="753732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рхитектурный аспект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D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188720"/>
            <a:ext cx="84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ность (Ent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 со значением (Value Obj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 (Aggreg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бы (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позитории (Reposito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брики (Facto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82AE-76AE-4206-8E68-858F659D3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Q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Language Integrated Query (LINQ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проект Microsoft по добавлению синтаксиса языка запросов, напоминающего SQL, в языки программирования платформы .NET Framework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LINQ выпущен вместе с Visual Studio 2008 в конце ноября 2007 г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прашиваемые данные могут быть представлены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форм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XML (запросы LINQ к XML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з данных (LINQ к SQL, LINQ к наборам данных и LINQ к экземплярам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ктов (LINQ к объектам) и т.д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D702-2CF8-4F78-81BD-2173AE291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рхитектура LINQ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5D97-E755-4138-90DD-86BD7501F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1214280" y="1357200"/>
          <a:ext cx="6537600" cy="49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357200"/>
                    <a:ext cx="6537600" cy="49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меры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писания запроса LINQ на языке C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B263-364D-44F9-82E5-A0F509B48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3"/>
          <p:cNvGraphicFramePr/>
          <p:nvPr/>
        </p:nvGraphicFramePr>
        <p:xfrm>
          <a:off x="928800" y="1571760"/>
          <a:ext cx="652752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571760"/>
                    <a:ext cx="652752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ведение в запросы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Q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://msdn.microsoft.com/ru-ru/library/bb397926.asp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перация запроса в LINQ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7A6D-D5B5-4AB3-A7D3-0B5DF3E70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Завершенная операция запроса LINQ"/>
          <p:cNvPicPr/>
          <p:nvPr/>
        </p:nvPicPr>
        <p:blipFill>
          <a:blip r:embed="rId1"/>
          <a:stretch/>
        </p:blipFill>
        <p:spPr>
          <a:xfrm>
            <a:off x="1857240" y="1214280"/>
            <a:ext cx="478656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INQ to 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1887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LINQ to SQL – простая, но достаточно мощная система объектно-реляционного отображения (O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LINQ to SQL позволяет производить отображение реляционных данных на объектную модел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LINQ to SQL поддерживает все основные возможности, необходимые для разработчико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на SQ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бор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авк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новлени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даление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2736-3466-4CDD-A433-2C8E9B829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бота с реляционными данными по технологии ADO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FC56-2E4F-483B-B969-0841EFB0B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5"/>
          <p:cNvGraphicFramePr/>
          <p:nvPr/>
        </p:nvGraphicFramePr>
        <p:xfrm>
          <a:off x="1000080" y="1857240"/>
          <a:ext cx="7245360" cy="36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857240"/>
                    <a:ext cx="7245360" cy="36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бота с реляционными данными по технологии LINQ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SQ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4F84-567E-4AF1-AD7F-B2EFEF41B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3"/>
          <p:cNvGraphicFramePr/>
          <p:nvPr/>
        </p:nvGraphicFramePr>
        <p:xfrm>
          <a:off x="714240" y="1643040"/>
          <a:ext cx="761076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643040"/>
                    <a:ext cx="761076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8592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ображени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LINQ to SQ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0DFD-1482-4699-84E7-B145CFC36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5"/>
          <p:cNvGraphicFramePr/>
          <p:nvPr/>
        </p:nvGraphicFramePr>
        <p:xfrm>
          <a:off x="1285920" y="1428840"/>
          <a:ext cx="622620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428840"/>
                    <a:ext cx="62262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09T10:53:38Z</dcterms:modified>
  <cp:revision>26</cp:revision>
  <dc:subject> Лекция 8. Проектирование баз данных и работа с ними Веб-приложений. LINQ, ADO.NET Entities, DDD </dc:subject>
  <dc:title>Современные веб-технологии. Подробный курс</dc:title>
</cp:coreProperties>
</file>