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8CD-535D-4555-9E0F-DB1B5271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9F2-EDCD-411B-9BAD-5D174287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510-283C-4377-BA21-196D6A69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870-A680-446C-9936-7510EE4D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3B6B-2249-4454-97F5-16528B6A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6A78-EBE7-4BD5-BD35-C006F9B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5B1B-FBF0-4E30-A402-771CFDB1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03C5-214C-4592-8DBD-7F83E45D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694C-E1DB-45D9-BD49-4B4F886C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01C9-6212-4B45-8B0F-2A2C61D6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484B-5F41-4196-9E60-8591694E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F83-B9E2-4A2B-8287-A8A578C8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6E51-9244-435C-8D70-947F77D9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A13C-ED29-4D0E-B3B2-5864144C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889A-7726-4B54-A09A-515087FC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0A95-1BA6-4CC8-AD8D-41854E36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5A1D-AFBA-457A-AEEB-3A3A9290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FB44-B697-4ACD-B97E-08DC8C74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08E9-88E1-4444-84EE-8505F82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1DD0-B259-48F1-BD45-6FAB645E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F900-FDD5-4B53-9911-904C5913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3992-058A-4821-B979-6395AB6D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33F-19E4-4133-91E6-6045ED6D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ADC2-C3DF-459C-9298-1A0B0E40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4477-201E-4394-8E94-B3B3521E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CF92-BA19-4C8E-B026-76BBF5D8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F717-5A79-4D4F-AC6D-16D86DD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3576-0FAD-4A49-BC8C-D83459F8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3125-F3FF-44E3-B8CC-802AA6A2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5CFD-F970-4C5E-B6CA-6A13C8DA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7861-ECF4-48AD-9562-01CD28CD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5410D-3619-48A7-94C3-3B1E524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4388-03BE-4252-90EA-2E7C56E8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9AC-44B9-49B2-92EB-AD19DCAF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87A6-3227-4729-8B06-CFF443BC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8B97-082E-4C43-A58E-787499AA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80C9-8CF0-4239-9B7A-8DCDB944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11D3-02B4-497C-B9A4-B34525A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A8BCF-10DC-48B8-BDE9-4CABBBD1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54C5-ABD5-4460-BE30-3525967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B526-A1E3-48A5-8264-469B16B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7F3E-57B1-473E-9C62-8F2E186E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162E-E0AA-48CA-B6D3-302C33C6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4D0C5-CA3E-4D1C-A09B-87729BBE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A48-45D6-45E1-A979-FEF561BB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3727A-5259-481D-AA11-4C7B6DC3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2627A-F272-40A1-B50B-BDD15EEE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B074-B9E9-42EE-9F81-BF7D2627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7B04-5363-441D-B5EC-FB4F1D84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7404-BA59-4DA6-8B8B-EE2AF8A7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B8D9C-A975-4746-9064-9B0F9F3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CDDF0-64CD-417A-89E5-3ABAAFA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98407-6DBA-4D79-9AC4-A8BEFBB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AF28E-0459-47F0-A40B-E4DF3C3F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7920D-E188-4D5C-A1F2-83828096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3CD-3DEF-47E9-B2D4-210C0A5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12DE4-1E1F-4FB5-91F2-4CFE0E3F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A392-7FEF-413A-B28D-02E04C6F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3ECAD-0198-41DB-A789-EDFD046E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60D7-3031-4B42-8676-1E9C577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A6E5-EB71-4E0B-9527-87419FF5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EED16-2888-4877-B3D4-905FE33F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49AD3-4808-4622-8E27-E553D36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2B512-9117-4663-919B-CCCC8D0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B1DF0-D73D-460B-9C0E-6641272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92F61-40CC-4C0D-BF86-F43F9E2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DFD-4EFA-486A-A730-993A0520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24440-F66E-4EE3-A48D-B5BF5536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AE46D-C04E-4295-8680-A59FEE01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D0C8E-57EE-4433-9C4A-10347FCA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62E-B5F3-4065-8CEC-94B8589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537-29F4-41B9-AC04-5650B46B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E4B-1CCA-4050-A20B-55A58C76B20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2A81-24F5-4246-8112-B93A27F6EA0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D4CC-19BB-4748-89A6-13A8B6425E6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167-0619-4029-BAC9-49E41A0A755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53B-3DF9-4124-80F7-25943E3057C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5966-1A81-430D-B338-E5C31D170F1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714240" y="1357200"/>
            <a:ext cx="707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ческая эффектив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концепции интеллектуальное здание позволя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тить расходы на ремонт и замену обору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лить срок его службы обору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зить на ежемесячные коммунальные плате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сократить расходы на службу эксплуат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брать расходы на надстройку систем интеллектуального здан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- уменьшить заболеваемость сотрудников за счет создания комфортных условий для их раб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матривая отдельные системы жизнеобеспечения, входящие в систему по автоматизации здания, можно сказать, что она дает следующие преимущест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управления климатом приводит к экономии энергоресурсов на 10-15%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управления освещением, электроснабжением и отоплением позволяет снизить затраты на 5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м образом, экономия энергоресурсов интеллектуального здания может достигать 15-22%, при этом существенно повышается качество работы сервисных служб, что существенно повышает конкурентные преимущества объекта. На площади 40 000 кв.м. экономия составила примерно 8 850 000 руб./год. Общая экономия – около 11 900 000 руб./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дрение систем автоматизации зданий, входящих в комплекс интеллектуального здания, полностью окупается за 3-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54:56Z</dcterms:modified>
  <cp:revision>19</cp:revision>
  <dc:subject/>
  <dc:title>УМНЫЙ ГОРОД</dc:title>
</cp:coreProperties>
</file>