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D3EC-8BE8-467B-BED0-2D14A68A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FF2-AC91-4556-8BA4-F5F07C25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3F1-568F-49B9-9E2D-007DADE0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5C7-BDBB-44A1-8200-77C99A99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376D-D2E3-4C39-AD58-6E472071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78F3-7D22-43BF-BD93-699D6230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0B54-8820-44ED-99A0-8F187D57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7DB1-46E5-490D-BCE7-967137AC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357F-72A0-4863-87EE-07A701F8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A5F3-81D8-4217-97F6-BE70C7C3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06D7-A752-4268-92F8-238B2AE4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28A-BCB1-4360-AE78-C9DC7C01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9C16-37EB-4012-9E4F-0045D3C6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C63D-DFB8-4392-BE86-2954D857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0298-CB36-484B-8653-CC3841D5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FBC6-518B-4AC4-9C79-78169B6E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227F-DDB0-4A6E-9D3A-E6A6923F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D51B2-C93F-4923-A432-15E745A0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8C5F8-C346-41C9-998B-D1084E93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F8EC-441D-4048-B3E6-BB783B16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04D84-9911-49C7-BF32-958D3C48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47FA2-B844-4D91-8C32-D8B3321C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306-5B21-4508-886A-7FD18F9F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A2625-567A-4891-86E3-1173A0CA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FA8C1-5602-4567-8861-93D1F9DA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BC06-3786-4A5B-8215-A15ECB75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810AB-B0F0-4BAF-AB6E-E3B2319E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D42A2-6DEF-45B0-A56B-21D851ED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CF288-16A8-4B58-8330-3CD38357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21DB3-0FF0-402A-9029-AEE8C8EA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1FFB1-12F4-49EE-86F5-31B83D54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0ABE5-69EA-4987-BAA8-63863C1A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DE124-5F54-49EF-9726-0BE703A3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679-EAF8-4B91-98C5-2D6D9FC9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942C8-D863-43E9-8A14-68B8A408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975FD-D35C-4092-AB30-B138B320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5003-2EA4-4CE4-9C0A-1CBDB946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85447-3C2C-4DA5-A58B-FBAC5EE1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C6545-2C05-4FEE-94F8-AF70FF80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2FAF1-A860-4503-B036-E29791A4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5FD05-EB0E-4545-8E98-2BBF25A8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06331-3EA6-44CB-84CD-69BFB3D3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25ABA-8E39-407D-AB19-D9036EB7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00813-A682-4EE3-B8F1-4FFD93FC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430-E124-4C58-BE96-8744213E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4FB27-7C62-4FE1-8685-17411D5E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CF87F-80A5-4E28-BD40-81AB3313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BFFF1-C8BF-4E1A-84B7-C770B036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1DA0E-0407-4EF6-9E3A-70FCDDA3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07933-5C07-4387-83D6-86C9E312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F26D0-2792-4866-B722-3A6E7D9B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8629C-5590-4B24-AB8F-70BD9909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652B9-9830-462B-9BBC-81256BF9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DEC4C-6B87-45A2-97B1-7CF1ADE8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C080C-7EB9-48CE-9065-0BACD057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E3D-5354-4AD4-943B-447C8D98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5458F-FA94-4A42-945A-C00B4EBC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6D15C-E0DE-4B2E-AA38-02951715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C0114-4B2F-46DF-84B5-3D790046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44263-1BFF-47FD-924F-43D96F09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8F47F-E447-436D-9F16-5C400433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292B0-6E8A-4756-84F1-E29F9846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0A176-FC79-4403-BABB-81DCF777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39408-A74D-48C4-88DA-BD8CB3C2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C3423-FD83-4522-8155-F8679A3E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7092A-1F7A-41DA-AD9B-41BCD6D4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9D56-D713-4D95-A788-0E0F8E50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AFC87-3E8E-41DE-8F8C-1F11D118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9B870-BFE1-4BB3-8985-B280244D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AE175-9839-4DDD-8DC2-C5222430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8E2C8-A15A-4D6C-9B18-51299DD8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387CA-F491-43D6-9E81-D1EF1AAA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45B11-11D1-4FF1-956E-3AA381A3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36E5F-B6B1-47B0-B5AC-C9350A1E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DDC43-AD3B-4C60-8D3C-A0A75AFF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AD082-5366-4D9E-9AD2-7089F407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D580B-5646-4D06-B282-12A5C4E9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145-6798-4148-9E82-454C832B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F8B0C-6932-455E-875A-433E85DD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0FF02-3D36-4CE1-9B79-B0AE7073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03C9C-EB0A-4E7B-AB55-35CCC81C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86867-865A-4163-B388-251EB6A0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89E03-BEA2-4869-B2B8-D8B50E51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7B6-B70F-4466-BD60-507F8C07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BC89-6F56-40D6-AC03-F83D0F99F40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D5A0-BD25-442B-ACAA-27A2B206711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713C-A1E4-41D8-914D-A7E686CE1FE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BEF4-4FDE-4475-9562-0FA91D98453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C588-0AEC-41C5-871E-F92CF1826FF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98CD-77A7-4624-9D62-F176F9C16AD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9990-757C-4DF3-866C-DE14FB4D920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3;&#1091;-&#1044;&#1072;&#1073;&#1080;_%28&#1101;&#1084;&#1080;&#1088;&#1072;&#1090;%29" TargetMode="External"/><Relationship Id="rId2" Type="http://schemas.openxmlformats.org/officeDocument/2006/relationships/hyperlink" Target="http://ru.wikipedia.org/wiki/&#1054;&#1073;&#1098;&#1077;&#1076;&#1080;&#1085;&#1105;&#1085;&#1085;&#1099;&#1077;_&#1040;&#1088;&#1072;&#1073;&#1089;&#1082;&#1080;&#1077;_&#1069;&#1084;&#1080;&#1088;&#1072;&#1090;&#1099;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407880" y="2114640"/>
            <a:ext cx="873612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857160" y="1571760"/>
            <a:ext cx="6953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Arial"/>
              </a:rPr>
              <a:t>Умный Белгор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город стал первым городом России, который присоединился к Международному консорциуму «умных городов» и успешно реализует энергосберегающий проект. Это современные технологии, позволяющие рационально использовать источники энергии и минимизировать воздействие на окружающую среду. «Умная сеть» — система, способная принимать энергию и преобразовывать ее в конечный продукт при минимальном участии люд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160880" y="2357280"/>
            <a:ext cx="42116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5214960" y="1500120"/>
            <a:ext cx="3000240" cy="41799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571320" y="1571400"/>
            <a:ext cx="41432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становка приборов учета Нейрон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усилит учет потребления электроэнергии потребителями в многоквартирных и частных дома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714720" y="4286160"/>
            <a:ext cx="14292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419040" indent="-382680">
              <a:lnSpc>
                <a:spcPct val="80000"/>
              </a:lnSpc>
              <a:spcBef>
                <a:spcPts val="1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5214960" y="1785960"/>
            <a:ext cx="3071880" cy="40640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642960" y="1500120"/>
            <a:ext cx="34005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зированная система управления уличным освещением «Гелио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едалеко от международного аэропорта Сеула в настоящее время ведется строительство нового города Нью-Сонгдо, настоящего «умного города», который не имеет  аналогов. На месте строительства еще недавно было дно Желтого мор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03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да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— проект будущего города, расположенного в эмирате </a:t>
            </a:r>
            <a:r>
              <a:rPr b="0" lang="ru-RU" sz="16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Абу-Даб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Объединённых Арабских Эмиратов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полагает возведение первого в мире города, обеспечиваемого солнечной энергией, другими возобновляемыми источниками энергии и имеющего устойчивую экологическую среду с минимальными выбросами углекислого газа в атмосферу, а также системой полной переработки отходов городской дея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3"/>
          <a:stretch/>
        </p:blipFill>
        <p:spPr>
          <a:xfrm>
            <a:off x="4267080" y="2214720"/>
            <a:ext cx="420696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4" descr=""/>
          <p:cNvPicPr/>
          <p:nvPr/>
        </p:nvPicPr>
        <p:blipFill>
          <a:blip r:embed="rId1"/>
          <a:stretch/>
        </p:blipFill>
        <p:spPr>
          <a:xfrm>
            <a:off x="853920" y="2206800"/>
            <a:ext cx="6832800" cy="23158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56800" y="5785920"/>
            <a:ext cx="6480360" cy="297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Устелемова М.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3:59:27Z</dcterms:created>
  <dc:creator>Mary</dc:creator>
  <dc:description/>
  <dc:language>en-US</dc:language>
  <cp:lastModifiedBy>User</cp:lastModifiedBy>
  <dcterms:modified xsi:type="dcterms:W3CDTF">2010-11-06T18:50:56Z</dcterms:modified>
  <cp:revision>19</cp:revision>
  <dc:subject/>
  <dc:title>УМНЫЙ ГОРОД</dc:title>
</cp:coreProperties>
</file>