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07B-D155-4E33-B25F-06B4D6B8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535-213A-42CF-8EB1-91161D2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483-1A23-4533-9F95-A2B8B947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8C0-B7B4-47E5-8923-22A1E4F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3CA9-9EB3-48A7-ABA9-CA2B82E0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1BDC-2FCB-457C-B548-8C8DBB5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3100-EE89-478E-84F7-7C967540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B52-4CB6-4099-8BD1-01102AE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96A-6B0D-4C3B-8D1A-4659119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445-D35C-401F-943B-CBB0FCE4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34B2-2BD7-43E8-8127-B349DD8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729-8B27-4865-B142-99EC962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D66-F79D-4F30-979F-4372268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883B-EE94-46C3-A96F-0AA3DEA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F450-51AD-41A8-B85F-7907BA05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72E-BA27-4196-84B5-F24DE773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267D-E16A-474A-9251-0E11EC57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96E5-DFDF-4424-B820-6AAE84AE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636F-8EAF-488F-896F-53DD3E6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DA4B-5745-4C55-B098-F52E99B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272C-C0B1-4AA0-BB8A-2FDFC4F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BD25-52BC-4643-B681-1F1C877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ECD-ABC5-40DA-BD8C-108B678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CAB7-D408-440A-BF69-D9B54193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8111-91F3-45B2-A012-938A2FB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9A02-C9CD-4998-B517-7A85554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A9FF-0394-4D78-B9A0-7ACDFE7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6F7B-81EA-4FF2-BE12-435A92C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4BD7-B8CD-439D-893A-9E4053E4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7E11-F7A9-4412-9100-6F5E275C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9447-ACF6-4F94-B502-578526EA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2B06-52F2-4385-B405-1A4C29E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C492-1E2E-4E6D-879B-131DAAC0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DD6-929C-46FB-BB13-8868CEC7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1897-1779-4514-884B-166A023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77B5-0926-4DC4-93AD-265861EA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C91F-0485-41C2-8A2C-947F4D84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9C67-0677-4B18-BD91-1AE5AA1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F845-888F-4D1D-9544-0E69DAE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550A-5E28-45B9-951C-0540EFC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894B-C911-4E6E-A569-937DAA3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E82B-CA5C-49FC-A26C-F05366B4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E11B-025D-4168-9510-5536024F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AF085-5E2F-4427-8636-CFF93F4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922-BB05-4016-B790-9EAE3F2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1141-3146-45F5-8661-207D0F30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BFE01-4078-4899-B63D-65CBF37A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CD63-CBA5-4F3F-8B6E-C476D68C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75176-239A-4871-9060-824EA6B6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B0F8-C0B3-449D-BE0D-F788509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35CA-72A4-4498-8527-8E18161E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F5614-EF9B-453F-A48C-9DB4144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1EEC-936D-4D35-972D-60B2130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BE3D-066F-4E27-B401-66BA265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83EB-ADC5-4136-95C4-1E63C8C4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1A8-3D92-49A7-A0B8-B6BE88A8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286B-7A11-4C6E-B8AC-922E9B61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E14A-2A48-4FC6-A575-D249E96A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2859-8595-4E78-A45B-8D7ACFF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038B-E386-49ED-A24A-6683B122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A8494-EC1E-48C2-BD10-AF6DF3A8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95F9-6D0E-4E8C-99F9-EB6E4FB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A421-F70B-4B85-B8BF-982D818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8A02-CA2F-43F4-9BD9-F59131A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D0EC-C428-4837-AD58-F2F2B34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8E1C-C69A-47B9-8EFE-DDE1B12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09E-A6FB-4F6C-A543-844717F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BEDB-F49F-4C76-8F30-3FA18B66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CC71-AA06-4680-9AF6-82FF68C8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BB6B-D2EB-4853-9255-B6A95854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401-E7F6-4CE0-A549-DB8CFB1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9F8-B178-415E-A4D5-9722F52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450-5DA1-4A62-9311-E4D205D12D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03ED-3F85-472A-A412-453CAC4AD3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60E3-4486-41A3-BF74-C91DB2BD5B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006-5FFF-4862-BC60-4595F0187C6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66C-41AB-4ED8-B1E8-44898EDEA4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515A-8CD3-44B7-90C7-2F829306ACF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5" descr="sx3"/>
          <p:cNvPicPr/>
          <p:nvPr/>
        </p:nvPicPr>
        <p:blipFill>
          <a:blip r:embed="rId1"/>
          <a:stretch/>
        </p:blipFill>
        <p:spPr>
          <a:xfrm>
            <a:off x="1071720" y="1500120"/>
            <a:ext cx="695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4" descr="sx5"/>
          <p:cNvPicPr/>
          <p:nvPr/>
        </p:nvPicPr>
        <p:blipFill>
          <a:blip r:embed="rId1"/>
          <a:stretch/>
        </p:blipFill>
        <p:spPr>
          <a:xfrm>
            <a:off x="1116000" y="1268280"/>
            <a:ext cx="731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роение «Интеллектуальных Сетей» можно разбить на 3 этап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усматрива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ие значимости уч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ое внимание уделяется двустороннему взаимодействию с потребителями на основе технологии интеллектуального уч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инструментов анали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ляе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готовкой к внедрению и использовани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ллектуаль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чная автоматизация с функционалом самовосстановл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е использование аналитик, направленное на оптимизацию потока электрической 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работ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требителя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оперативности обнаружения и устранения неисправности, восстановления работы се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 этап – Интеллектуальные се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восстановление се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инг на местах и планомерное сокращение нагрузки на аварийную служб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ая сеть аналитических проце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масштабный функционал мониторинга и дистанционного управлен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ектуальная сеть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снованная на «умных технологиях», автоматически балансирующая, самоконтролирующаяся энергетическая сеть, способная принимать энергию из любого источника (уголь, солнце, ветер) и преобразовывать ее в конечный продукт для потребителей (тепло, свет, теплую воду) при минимальном участии людей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мные технологии» включают передовые сенсорные, коммуникационные и управляющие техники для повышения  эффективности распределения и измерения газа и электри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лгосрочные цели предусматривают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сокращение выбросо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экономия энерг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возобновляемая энерг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5" descr="sx1"/>
          <p:cNvPicPr/>
          <p:nvPr/>
        </p:nvPicPr>
        <p:blipFill>
          <a:blip r:embed="rId1"/>
          <a:stretch/>
        </p:blipFill>
        <p:spPr>
          <a:xfrm>
            <a:off x="900000" y="1268280"/>
            <a:ext cx="73152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ный уче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ческое считывание показаний счетчик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ая инфраструктура сче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ая идентификация сбо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ое включение, отключение, повторное в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ая настройка сче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ллектуальная Се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енный мониторинг С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енное управление Сеть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втоматизированное управление Сеть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тимизация потока эл/энергии и потер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тика сбое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рос и предложение / Энергоэффектив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систем непрерывной загру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повременных тариф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технологии «Умных Дом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реализации программ повышения энерго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озможность присоединения распределенной генераци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недрение распределенных энергоресур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правление распределенной генераци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рганизация мест зарядки электромобил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Широкое использование электромоби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арифообразование и законодательная баз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49:43Z</dcterms:modified>
  <cp:revision>19</cp:revision>
  <dc:subject/>
  <dc:title>УМНЫЙ ГОРОД</dc:title>
</cp:coreProperties>
</file>