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66B-5F20-4A52-8D80-EB55D9A8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C43-193C-4C66-B233-AAA441F8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3635-FFAA-4E70-95FC-59FB9785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91E2-2F4F-40A0-AA5C-EE273112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AB03-B432-4271-B337-45035167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ECE0-BED7-4503-B4F3-EDEB41A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A817-1F9A-43E5-BDBB-87421E20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6B00-B995-49DF-A2F3-64D9781D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E6CC-E955-44C8-8CF5-BA336C9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7C6D-7A2C-43A7-A26E-3F2C761D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3A42-FD9E-4777-95C2-B76F31E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2CF8-333C-45D0-AAD0-A6242DF3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32A3-251A-4A1E-80BD-E8AA9EB6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DEBA7-5435-49AF-9E00-D783D3E5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29C3-B2AB-4878-A164-65458AE9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44DE-64AE-46E2-862A-D0581B69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96BC-D1F5-4EA9-871B-02B39AAD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CFC7-5694-42F1-9EDF-E56A3278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47A3-1EA3-47BE-A904-6AAE0722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96BF-063D-446A-8FF3-5AAA0B57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1808-9580-4E29-8EC5-1F236278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DA00-5050-413D-94E9-18635AEF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88F2-C220-4997-9AA5-8584DD46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7720-B3EA-42AA-8FE8-039834CB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6E75-06DB-4FA7-8D62-E8DF8F65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5787-8A80-4A77-ADCD-884CE16F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2AA7-4902-4C2F-B505-FB11E060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2D86F-B0F1-4F41-9C2A-CE0E2C87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19F7-5181-4986-B188-6FFC89A1E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3618-6DE5-4EB4-86C7-58392D17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46B54-142A-4132-B274-98FFA17F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09920-FF72-468B-9D9A-44C49A4B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7E76-E933-413E-AA50-E95357D8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87C-0A32-41BB-97C4-23798C0F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2279-1A5F-4F96-9F83-BEB4A784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B7F2-9210-49DC-BA03-7F33FC24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90F51-0FE1-4E1D-8C41-7DCA010E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4B5F2-81FE-4BCC-B927-8661DF2F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3F038-1AFF-4BFF-8EFE-6EF56864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03BDB-2600-48E3-AFE5-680CB0FE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C4F90-C4F6-4985-BAF4-11D61313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6B14-E7FF-493D-A9BD-08C9D92F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B7A50-D1F0-482F-B650-C3E39F60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4CFA0-38CD-469F-8B45-FBF5590C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09F-FE8D-4E3B-B06B-3106E7F3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116A-87DC-4FFD-9FBE-854FC980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110FD-3EAA-4721-8CDE-EBADCBC2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B9E91-D6AE-4496-A202-4B02CF79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9DE8-4C6C-4FF8-804D-888FE4BB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9B08-0867-4916-899F-017A5D29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3C851-E3D0-44D2-AF80-2516A6F4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E862-A7E7-4CFD-9BFF-2A979E2A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85774C-2812-4EDF-A5B3-DCDC0FA7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B8B0-C0E8-42BB-A3E4-3007F173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7F8A-663E-4948-9366-7F67407C1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B7D-D335-46CA-84BD-869534B3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DF76-96E8-4F53-8E55-54FBC29B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8374D-EE9F-4F5B-AD2C-7C367D5D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AE1B6-37AB-43C1-A42F-311DB1D0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75149-3C6B-400D-84A5-135C875B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706EA-2299-4EFB-B6D9-A8382B4C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C08A1-3264-472A-B47E-478E6F8E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96474-9D7F-4FD3-9305-2B50E90B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3684-26DC-4453-B9BD-9C6770BA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69B9-82D0-4D2F-8663-F930CEDD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43FF5-1776-44FE-B57D-00A8DEE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7F0-14B1-4DA8-814A-C44FA29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6061F-3675-4472-853B-74477A59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133D8-B690-4640-8562-C20A86B3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A9B6C-3635-4D40-9A81-91E76122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FAE-7651-4587-84A6-9EF992E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984-F040-498A-8AA9-388C24E9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C65D-C555-45E1-A6CE-4E5E58F539D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9E62-DBBC-46C9-A00B-FB0FEE0A5DA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1F68-A85E-46B2-A85C-062BE7CA00C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58247-C106-4AB7-9549-97126BA8F3A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3FCE-1258-46D9-B6F7-334BAD1AA7C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AC05-8E55-44F3-9F68-0049400F9BF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07880" y="2114640"/>
            <a:ext cx="8736120" cy="23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Единый протокол обмена между серверами и диспетчерскими пункт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Применение различных каналов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Разграничение доступ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Простота восприятия информации, быстрый доступ ко всем оперативным команд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Наращиваемость Системы. Возможность постепенного поэтап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2.Невысокая стоимость эксплуатации оборудования и каналов свя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4" descr=""/>
          <p:cNvPicPr/>
          <p:nvPr/>
        </p:nvPicPr>
        <p:blipFill>
          <a:blip r:embed="rId1"/>
          <a:stretch/>
        </p:blipFill>
        <p:spPr>
          <a:xfrm>
            <a:off x="853920" y="2206800"/>
            <a:ext cx="6832800" cy="231588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56800" y="5785920"/>
            <a:ext cx="6480360" cy="297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втор: Устелемова М.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ые функции  «Умный город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бор информации о состоянии оборудования с объектов Водоканала, объектов Горгаза , объектов Горсвета, объектов теплосетей на сервера обработки и распределения информации с использованием всех доступных каналов связи — радиоканал, сотовая связь стандартов GSM и CDMA, телефонная линия, кабельная сеть Internet, локальная магистрал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бор технологической информации, характерной для каждого конкретного объекта — температура, давление, уровни, расходы, токи, напряжени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f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ый сбор информации о состоянии охраны объектов и коммунальных сетей, пожарной сигнал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бор информации с установленных счетчиков: тепла, воды, газа, электроэнерг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 полученной информации с принятием решений о возможных пред аварийных и аварийных ситуациях — поломках оборудования, утечках, коротких замыканиях, обрывах, срабатывании охранной и пожарной сигнал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доступа к полученной информации потребителям — диспетчерским пунктам коммунальных служб, мобильным (временным и передвижным) диспетчерским пунктам различных служб, среди которых бригады по устранению неполадок, МЧС, противопожарная служба, городские вла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е диспетчерское управление исполнительными устройств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оперативного изменения параметров технологических процессов – графиков освещения, циклограмм работы насосов, заданных аварийных пределов параметров техпроцес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ая оценка последствий аварий сетей в масштабах всего города и принятие реш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Picture 5" descr="sx4"/>
          <p:cNvPicPr/>
          <p:nvPr/>
        </p:nvPicPr>
        <p:blipFill>
          <a:blip r:embed="rId1"/>
          <a:stretch/>
        </p:blipFill>
        <p:spPr>
          <a:xfrm>
            <a:off x="971640" y="1197000"/>
            <a:ext cx="7056360" cy="489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построении подобной Системы должны соблюдаться следующие услов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26920" y="2658600"/>
            <a:ext cx="7531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Полная автономность всех локальных управляющих систем, позволяющая при частичной деградации системы поддерживать работоспособность объект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принятие решения об аварийном отключении и вводе резерва непосредственно контроллерами объекта для предотвращения полной поломки исполнительных устройств и механизм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Надежность аппаратуры, работоспособность в широком диапазоне температур, работа в условиях невысокой надежности электропит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Единый, надежный, не требующий высоких скоростей и дорогого спецоборудования, имеющий высокую степень достоверности и помехоустойчивый протокол обмена между контроллерами и серве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Franklin Gothic Book"/>
              </a:rPr>
              <a:t>Умный город</a:t>
            </a:r>
            <a:endParaRPr b="0" lang="en-US" sz="2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использования любых доступных каналов связи: радиоканала, сотовой связи стандартов GSM и CDMA, телефонных линий, кабельной сети Internet, локальных магистра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Единая форма хранения данных, полученных с объек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3:59:27Z</dcterms:created>
  <dc:creator>Mary</dc:creator>
  <dc:description/>
  <dc:language>en-US</dc:language>
  <cp:lastModifiedBy>User</cp:lastModifiedBy>
  <dcterms:modified xsi:type="dcterms:W3CDTF">2010-11-06T18:52:17Z</dcterms:modified>
  <cp:revision>19</cp:revision>
  <dc:subject/>
  <dc:title>УМНЫЙ ГОРОД</dc:title>
</cp:coreProperties>
</file>