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7A86-6B5E-4704-8D21-4033E4B5B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5230-5F21-4564-9C24-EEF5C8E1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29BC-78F3-439A-A31B-75C32CEB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904A-5B90-48D3-ADDB-046BAC37A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ACA1-602F-407C-9160-F352E52D2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8125-963C-4335-A6C7-05F41498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04D8-F7D7-4965-B4A4-21BC9544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8DE0-7250-47C2-8BDF-AE045C1F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17AC-B613-4E22-ABF5-F180AAFD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BED7-63DB-41CF-BDD1-6F46086A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9A39-ECE3-42A1-B7BA-C71248D9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149B-92CE-48F0-87BD-F7DC1147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3DE2-2658-406B-8261-5F4FE992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F2FB-F3AD-4498-B028-90407E1B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9C0C-7870-4B0A-8AF2-05F95047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0F3B-5C2E-470B-B2DE-DA72C2237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B69E-71A4-4082-8A3A-79D796B4E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C0C0E0-B9CF-4F15-BEC9-63A352640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B3C8E3-1B32-42D7-AA5E-CA6F024D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50A06D-F77C-4C3D-90CA-82A4801F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96732E-3B4F-4B6D-A60B-E2E06A48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0E5524-B03A-4168-8202-924ADA80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EDD1-795A-448A-8FEE-0EA86E31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133A8A-743F-421A-8C81-60807562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66AA9A-BD48-4A5F-BB42-DA922FBB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14444E-7691-4949-BAA9-3EB8C750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8F9C02-B983-445B-829A-011E4D9B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EEB22E-843A-45F7-A575-67F31D64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8C651C-5C6E-4031-9330-94808754A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95D834-E967-4B62-B3C4-ACB726BA5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1423AE-EAC8-477D-BC14-9AEC912F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BB0430-AC42-477C-AF76-1E6090FE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2E6A75-3212-439C-AC9B-8B5F8F55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F798-5ED5-4355-B2EC-FC05405D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BB7816-DAC7-4E73-89FB-AF1FD045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BE27E1-1BA8-4C13-B048-0058712C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5A5834-B2CC-4444-A904-0BF0F1A0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4AA335-7660-4FC1-BF05-4C8DA4F1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292030-A1A3-43E3-9F49-836A3B85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D5DDDD-38B2-444C-B224-1D16A0E7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659B14-1846-45ED-B9A9-063FA729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4C6391-1735-43CB-B5C9-8BAC6281B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509325-A87E-46D6-98B9-F1C802014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C18F4D-9084-4352-ADD5-EB9606EFA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CDF8-DA51-4DC8-8CD6-5D05D118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6A9261-3ED9-4EF7-99EA-5C79EC07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02AEAE-511D-4859-A89F-2B62EA88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FF2F6B-D87E-432D-8784-293A8DEB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C6FF0D-618D-4B25-9CA6-DB264655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8D9842-A05C-4EF3-93B9-F0761E27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7DE3E5-173E-4ACD-A4F6-AC95F0C5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DCBBE4-4A1D-4BF3-BB4E-6EC1FF3A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871008-3689-414A-B2B0-54991CB8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E41260-C034-4176-8978-9E65B6AB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90C714-4DC0-4420-8032-4A6A68B19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E1E4-16CA-4813-B379-3E68422E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2F995E-E0B8-47D0-B0CD-C24ED74B5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205F8-F9A4-4B5D-BFF3-FEA0207D3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F5D6C-48AC-4875-868F-321F1302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F352C-9BEA-42DA-9B22-DA9499A1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9FDF9-0BB0-406F-9406-0D2C858E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55C01-86AB-4793-BA05-534E7BC2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F9251-F3D7-4833-8D4D-D2F4F906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61CF3-FA01-4F59-B7CA-4C44809D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BF179-62F8-4ADC-8DE0-02F88632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7464F-AC2D-4659-85BA-6BBD0F74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3077-B910-4422-868F-0FAFAB99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F23EA-E85E-4A19-B4B2-EB61531B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A4D3D-C782-49FB-809D-007DE91E4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C1DF3-39CC-48DE-A4EC-F795364F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32A179-8CA1-4EA1-B63B-338A608A5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BF0CD1-932C-4693-BC79-85536F43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23DB88-B135-4C11-9611-302D1E4E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5080EA-E429-40F6-BE32-7DCE8FDB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E0AB82-4F91-4D3A-8E64-CBE55AB8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BD0B57-CF92-414E-BB0E-83B9F98B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66962D-5B89-45DC-B4A4-15D724D3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77DC-B000-42D6-B177-ADDDBF28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5B4732-CD7E-458C-B55B-84DA63DB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D43569-DD21-452D-8194-F7988A9A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C26871-8341-4BC9-A4E8-7A8FA2CF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03A7F6-57E1-425E-A5B6-3A9D36B40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569CDC-A166-4958-8BE5-6A11926C3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57126-AF32-4085-8ABB-C4C03B75F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9D685-DBB4-4E1A-BFAB-9160B3F6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F20B0-4CA2-47FC-80F7-525E8884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485DA-1EF5-4315-A84B-7742E955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54EA2-4F02-43C8-BCFC-B1056973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A39A-8958-4390-A266-4E857366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C4CF6-5055-4592-AEF2-660ADB94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DBBDC-C26A-4EBF-85BB-DAEDDD19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94D68-92B4-4469-8BEB-267622E9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9F226-5484-4070-9B6D-4384F9BF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B0C5B-9C0F-4F17-B5A8-1A09BEDB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8FAEB-B3DF-4443-9DA8-556377AAF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15C68-ABD9-4199-85D7-3662C73ED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2A73-26D2-41EB-93BF-37B833DD0ED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A3A7-2D00-4210-823C-1E99C51EF724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CB27-7B74-4A18-8F74-71DCADC9FEBE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BCF8-F770-42CA-85A8-69F8AD8F36F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8B9C-CE10-4FA1-BD7A-110078726DF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3F22-D593-4AF9-B96E-9A2F5AE29DE6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07AF-4C1C-4AEC-A7C2-6240FA2F6DB4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B740-434A-4A03-8B85-5000622CF73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ebddc3"/>
                </a:solidFill>
                <a:latin typeface="Calibri"/>
              </a:rPr>
              <a:t>«УМНЫЙ ДОМ»</a:t>
            </a:r>
            <a:endParaRPr b="0" lang="en-US" sz="9600" spc="-1" strike="noStrike">
              <a:solidFill>
                <a:srgbClr val="ebddc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dc3"/>
                </a:solidFill>
                <a:latin typeface="Calibri"/>
              </a:rPr>
              <a:t>                        </a:t>
            </a:r>
            <a:r>
              <a:rPr b="0" lang="ru-RU" sz="4400" spc="-1" strike="noStrike">
                <a:solidFill>
                  <a:srgbClr val="ebddc3"/>
                </a:solidFill>
                <a:latin typeface="Calibri"/>
              </a:rPr>
              <a:t>УМНЫЙ ДОМ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Автор презентации:            Устелемова М.С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Умный дом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Экономия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.«Умный дом» позволит вам настроить освещение наиболее удобным для вас способом, поэтому вы не только значительно сэкономите на оплате электричества, но и сделаете свое жилище более комфортным и уютным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Умный дом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сход тепла и размер платежей снижаются в среднем на 30-40% зимой и до 60% в межсезонье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нижение платежей за воду - 41%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Умный дом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В базу данных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холодильник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можно загрузить не только список продуктов, но и рецепты, а также любимые блюда всех членов семьи. Благодаря этому, система сможет сама выдавать вам информацию о том, какие продукты необходимо купить для приготовления того или иного блюда. Кроме этого, вы можете занести в базу напоминания о предстоящих событиях и дела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5214960" y="2071800"/>
            <a:ext cx="32176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Умный дом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3. Встроенный пылесос позволяет бороться с пылью и вредными микрочастицами безо всяких усилий с вашей стороны, притом, что само устройство настолько мало, что его не видно. Центральный пылесос не только снимет с вас часть домашних дел, но и сделает воздух в доме чистым и свежим. Вы сами заметите это, когда система осуществит уборку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Умный дом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4. В системе «Умного дома» имеются встроенные средства, направленные против последствий таких ситуаций как утечка газа, возгорание, утечка воды и т.д. Однако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систем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не только примет все необходимое для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безопасности жилищ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но и оповести вас, а также необходимые службы (правоохранительные органы, пожарную, службу газового хозяйства) при помощи голосового сообщения. Для этого необходимо внести в систему номера служб, на которые следует звонить при возникновении нестандартной ситуации и соответствующие голосовые сообще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Умный дом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5.Даже если вы покинете дом на длительный срок, ваше отсутствие может остаться совершенно незамеченным, если вы оставите включенной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систему имитации присутствия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 Вы сможете настроить данный режим таким образом, что в разных комнатах квартиры или дома будет время от времени включаться свет, музыка или телевизор. Прожектор направит на окна спроецированные изображения в виде силуэтов человека. А звуки, напоминающие воду, льющуюся из крана, свист чайника и приглушенный голос радио развеет все сомнения злоумышленников в том, что дома кто-то ест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Умный дом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6.Ваше жилище должно быть комфортным не только для человека, но и для его четвероногих питомцев, заботе о которых необходимо уделить немаловажное внимание. «Умный дом» создан таким образом, что обитающие в нем животные не могут нанести вреда имеющимся в нем устройствам . А «Умный дом» обеспечивает их всем необходимым для жизни – пищей, водой и следит за порядком в их кормушках и туалете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Умный дом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татистика показывает, что система Умный дом позволяет сокращать расходы на энергоресурсы на 8-12%, управление освещением и электроснабжением сокращает потребление энергии на 3-5%. Продуманный алгоритм управления приводят к значительной экономии средств: до 30% от обычных расходов.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 Примерный срок окупаемости такого дома составляет 5 лет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5:27:47Z</dcterms:created>
  <dc:creator>User</dc:creator>
  <dc:description/>
  <dc:language>en-US</dc:language>
  <cp:lastModifiedBy>User</cp:lastModifiedBy>
  <dcterms:modified xsi:type="dcterms:W3CDTF">2010-11-06T18:46:50Z</dcterms:modified>
  <cp:revision>32</cp:revision>
  <dc:subject/>
  <dc:title>«Умный Дом»</dc:title>
</cp:coreProperties>
</file>