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4D4-ED36-4B00-806A-190AEF4E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908-8703-4C2B-9938-1D575CA2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618-1E08-4E14-B063-15122504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082-A6B6-4305-8D4B-D0E5FAB2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D0B4-AC26-4EC1-B234-0821ED3E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BDD8-50B9-4713-9D59-42118681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260B-DB96-4B5D-A8BE-4D99035A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183A-F73B-4236-AFC5-584B1A16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4821-39FB-4496-9AFE-13D934AB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740E-607C-4167-AD6F-0344E89A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5AD9-3C54-4AC5-AAC0-684299D1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254-63D9-43A1-A659-9A305EAC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F3EB-E27C-4790-9E76-94DCE0D1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BC65-63D8-4B85-874F-745AF59F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3A9A-289B-4CB4-ACD5-745485D0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4333-79C6-470E-8A9E-C9046B7D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BF12-9E2C-4A46-94B0-C2C4AED7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3C9BF-21D8-45F3-9FD4-46AD2C0D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A91B2-8263-4AE6-9FA1-4A5D1A96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D1E03-9EDA-4745-A660-4D65E7C6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A7253-8287-43D7-A4B6-AC3E22EE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91005-07A6-4106-AB9D-86C8CB71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959-1E7D-4109-AEF5-35E13F78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F0A59-2052-48F9-960C-F52F0B3E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E73DD-ED16-49CA-B571-6A472353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648A5-AF5C-41F6-B0DB-72449D2C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80820-7924-4EED-9E6F-D6C6E72D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B6964-1F11-4323-A6AC-918D94A1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28134-F496-417B-A40D-4EE47F0A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64298-9E84-4A2D-954E-1F54767F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8351D6-35F1-409C-BDCD-45A8C352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EAD6B1-4D87-4D0D-9B32-83999E90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39EDB-F7A9-4710-9995-FBAF5826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73E1-63F2-40FA-9A1D-ED24FE10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1F2E25-420A-4247-A621-0315E22F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C892D6-B6D8-48AC-8825-865FBC39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BFA85-149D-4B7C-BD23-7AE8174C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5A4F09-15A7-4D02-B026-DAE63CAB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C4E5D9-F171-472E-8794-CE20CF77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D300DF-301B-4D09-96EA-A47FD7C6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9B2B4A-C973-4D6E-BDB1-FC0F1BD0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E2DC00-B646-4BAE-AA60-1EDF517A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1BEFD7-22BB-4A06-A2CE-3AA9B276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833A9-A739-4564-91AC-951B94F6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976-3BFA-4E67-9D6A-1BF40B92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E42239-7381-4F01-8AD0-4743767F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8CD2DC-1934-4C1A-AD57-6F8C6381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A9E7A-430A-46BE-85A5-9E773D6F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79F36-0E2E-4F8D-978A-0BB5B743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E9F27-15BC-4B4E-8705-C6D51BB7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E2C5E3-7A1A-4B8D-A138-07B25C46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E3BB4-E2F5-4A98-9C84-4D3714F5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75393-6F5F-4F74-A6AC-87FF54DA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D85097-3670-4106-A6BC-3ABE9B70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A5C40-13AF-42AF-875C-05A39617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487-CD16-452F-B3F6-A964194D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47E171-126C-4494-9ED8-8BAEDE08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95159-D921-40A8-9D10-9F56F2AD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AC872-5073-4B9A-B777-DA3703F2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60AEC-BD14-4C44-954C-EC9CC5FA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4126D-6E18-472D-A7C3-5A80DB06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64341-2D73-4F6C-B5B8-B29A3300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5BF6D-31AD-465C-86FE-EE53F6D4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6BFC5-E4D5-4E1B-8B21-270364F1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1371C-5372-4391-8646-B6C199F2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9BEBF-D1FD-4E69-B7D8-B86FCB09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BCC-557A-4ED9-B44D-94125BA6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8CB00-AA3B-486D-81EC-33C5861B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96712-A151-47DE-9A18-35353843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DC278-22AE-4868-9B6D-E1F0343D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0D20C-39F6-4C8D-88C4-7D60B20D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CF7CBF-4525-4183-8DA5-7FDBAF3A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08A646-D36A-4195-A161-8C26F0CC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87A50F-07F9-4A2A-8B03-6B233BEF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EADB5-D2D0-4DF4-B319-FBE9E0D4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C864AA-42D7-41D8-B1AC-ABE655C8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69D07B-4B36-4B02-85B4-C652EC69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46E-7A81-47DC-89D4-DFE41A51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FE2D52-DA9B-41A5-B7B2-855EEF85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E61891-3F0F-4F06-B391-1E6FACDE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64C905-EF58-4245-A828-811ED003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445AF-4983-45F3-9738-B34F3C38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C3BEC-8AEB-4B40-B1C1-BD70AEED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9CF40-C6ED-478C-AD21-A6D236E8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30502-5532-4B3C-B295-80C1B2C9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717B7-0AC2-40DA-A316-67FEF811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62427-6DE4-4722-B33A-2637D358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DAAB5-70A3-44FE-A1A3-86971D6F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D56-90F9-4C2C-9D59-CFD77E4B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66F60-0B81-407D-98B8-E257C30B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0A2CD-0BBE-49E8-8385-AF4826A3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9A403-5F08-4212-BA1A-D0FEB3A0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6845D-2EA2-482B-B628-0DC19DE5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8064B-7511-4430-B72E-1AC01538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E7625-BCC9-45AA-914F-06F4F7AE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B63AD-A2DD-4816-A38F-E17CDF01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D59C-8D7E-4D22-A919-284033F0FE6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CF47-7469-4B34-8115-CC8173483284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A3B6-C7F7-412C-BFE0-823114727B84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627D-CACA-4AE7-B1F5-5FC341BBB2C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40C8-C3CE-4CAF-A219-B5F0B9D3CC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B793-3B69-49D2-B14D-F3119B845005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C1ED-83C0-40CC-A407-C10A3507BB4D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6722-8DB9-42CA-8CE1-4903A23A680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ideoohrana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videoohrana.ru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ebddc3"/>
                </a:solidFill>
                <a:latin typeface="Calibri"/>
              </a:rPr>
              <a:t>«УМНЫЙ ДОМ»</a:t>
            </a:r>
            <a:endParaRPr b="0" lang="en-US" sz="9600" spc="-1" strike="noStrike">
              <a:solidFill>
                <a:srgbClr val="ebddc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хранные системы для загородных домов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оретически </a:t>
            </a:r>
            <a:r>
              <a:rPr b="0" lang="ru-RU" sz="27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систему охранной сигнализаци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надо создавать на самой ранней стадии - при проектировании дома и его инженерн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но положениям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ГОСТ Р 50776-95 "Системы тревожной сигнализации. Часть 1. Общие требования. Раздел 4. Руководство по проектированию, монтажу и техническому обслуживанию (МЭК 839-1-4-89)"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создание системы охранной сигнализации на объекте должно вестись поэтап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обенность использования </a:t>
            </a:r>
            <a:r>
              <a:rPr b="0" lang="ru-RU" sz="29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систем безопасности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для индивидуальных жилых домов - эксплуатация в бытовых условиях, в присутствии детей, непосвященных лиц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571680" y="3071880"/>
            <a:ext cx="3809880" cy="2819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 наличии постоянной охраны приемно -контрольный прибор обычно устанавливают на посту охран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                        </a:t>
            </a: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УМНЫЙ ДОМ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Автор презентации:            Устелемова М.С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5:27:47Z</dcterms:created>
  <dc:creator>User</dc:creator>
  <dc:description/>
  <dc:language>en-US</dc:language>
  <cp:lastModifiedBy>User</cp:lastModifiedBy>
  <dcterms:modified xsi:type="dcterms:W3CDTF">2010-11-06T18:45:47Z</dcterms:modified>
  <cp:revision>32</cp:revision>
  <dc:subject/>
  <dc:title>«Умный Дом»</dc:title>
</cp:coreProperties>
</file>