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9EF-171E-4325-96A8-0BA2218B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E8A-F778-42C4-9CC9-EC5407BD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715-180F-40F7-AD3F-1F9BE1FE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9FD-7066-4682-AC2B-B3C29DEA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9A43-73CE-4C5E-870B-4B599422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4413-7EDC-4234-9A77-A0BBC753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5F87-F403-4292-B736-E475DE10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168E-EBF1-4C06-8522-1D547A84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A7C4-F08E-412F-BCC3-007B3E8D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B5D5-6B2F-458B-9790-31C1AA9A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E060-991F-45E1-9222-3520AA91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52C-6017-417C-8BC9-13ED690A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4BE5-0AFB-462F-8639-405EADF0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F0DF-0684-4EFA-A37D-C6847FC5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EA9A-F81D-44DB-932D-BDB4BDE9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ACBC-A6F3-4509-9675-720B1F33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21E2-45A0-4FEF-90B3-0BC1C59F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F140E-689F-47C9-8C81-615BC748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4E1F1-5020-433A-9326-59BA7FB3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06284-3B13-41EE-8DA7-BCD0FDA9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F49AE-503E-4F9B-8184-E88615AF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E3184-EA44-4534-BEB8-0C1D111B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0F7-3562-431C-9B43-872D4A83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8960A-F8F1-4C97-B80F-D39D78E7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BADF4-EE9D-4754-897A-1DECD23F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07A57-7208-4638-BC64-A23E3392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F371D-822F-47C9-9636-D3FFF77D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AF9C9-1767-4707-9B76-3EA5A329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9EE4C-3F12-49B8-B2C5-0AB38393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227D5-7E5C-42E2-9531-713C3A9E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17D7E7-7F7A-4C02-91D3-0568489A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8DDD1B-89E6-43E1-A8D6-AA1FC695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62C5C8-B39F-405B-AF9A-1C234F88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C28-C440-4E4E-A9DE-924665E7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26AAB-3DB5-4DF0-871D-57A89EBE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F77C6D-F848-4D0B-8C29-BA078B8E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AEE0D3-C609-49C8-AB0C-3607D2DB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2F46E7-AD41-4496-BCDC-456908B1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018CB-9414-472B-A535-69686857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6B13EB-47C5-49FC-9600-4C689BB0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26B1F-0049-491A-B9F3-3A02CD7D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3FFA6B-FFF9-424E-8101-18791266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02FE80-7EFB-4581-86C6-9EF98025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632E1-F3A5-4B57-8842-41E03896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799-F79A-42C9-8FC2-0B069A6E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77D28F-713D-4F61-AA7B-4689E052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FD243-6409-4B54-865E-F2E30BFC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62AFA-89CC-40DD-BD35-DC252500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159E9-1526-45A9-8596-54A8A413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769F2-1E9F-476A-A0BB-662D2B1E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68F71-8FE3-4019-865D-24983104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FFECC-97A0-4B7B-A1DE-A3DB83A6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60D534-2317-46C9-88B1-A6791FAA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C6CFC-0DD9-433E-8FFD-10274A75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7163E-F1E3-46B7-B72E-0B9B40F9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B7A8-4099-42BF-8389-9B8CE130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E2A1E-23C5-4146-9447-668EA8B4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03B85-B57E-4E4E-BBEC-353BF8CC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D75CC-D995-4FAD-B11E-87B31F4A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3E775-8C2F-4413-AD4A-35C3C113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69A67-ECDF-4FDA-BC5E-0F969AB3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D9DC8-2311-4AF4-9880-D0DAF8F8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FCF94-F9C0-4ABD-8BD0-12A79E84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6F705-6031-4793-BFE7-8753A139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6B52A-97F7-4834-A1B5-9EB65340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ED3E5-81E0-4E58-A14D-382560E6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465-79EB-44D6-8C78-A704BA9D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66B42-44D5-4C02-82BD-6E005888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781DA-A072-4121-B3C7-7FDAD075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54557-C46C-46F1-8A4D-F053F58E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2FE6D-880E-44C0-8DFB-5C64DA85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485190-29A1-4559-B17D-2E4C43BF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3AED6F-6B12-4828-8EBF-A9961EF6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2CA4F0-3127-4AA8-8E29-49DC2327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942C1-D928-4C34-A20C-7A5ACE08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74F072-3BEE-4160-8C78-1B52DD41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177EBC-B1AA-4A61-ADB9-6EA2638A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1EC-BEDC-4011-AFB5-9D1C65A3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117037-B272-488F-90EE-BBD4261E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6672D-FCEE-407C-B69F-B50D3E6A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3347D2-5755-4228-9716-5BDB136B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6BEDDE-E107-4DEB-8BC0-74061879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813A97-FFF9-48D0-9F87-CE3A87D8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DC829-B9F1-4E6A-9B45-908F89EB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4D9AF-1DE3-47A3-8839-963FACAD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069CA-1133-45BC-99F1-3015F7D2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65DBE-1E36-4046-A89B-1CEEB752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C76ED-7778-4F2A-B206-070FA588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2CC-FB08-424F-8F44-EF4EDA7C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2004F-24EF-4C7C-8F86-D4D15417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630F1-E072-4F91-A47F-8FDC0B61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CF894-840F-4BFB-8B90-83D56554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A4D81-E95F-4C52-B77B-531B75F8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DE730-C7D3-4228-96DF-3007DFE3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0D968-9AB1-42A6-810E-FB3A9F7D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2E279-F371-465F-B8ED-FADCEFA2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A553-6879-4677-AA8F-9652E6882FF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FEC2-657C-400C-8AB9-6845D84D77F6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C9D4-E324-4F18-9882-C7B0BA6303DD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1696-C907-4E1C-8E44-88AA8B34D5D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F3D9-AEE1-46FF-9E7C-D1AC7574C76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7F18-B9F9-4D7E-83F1-D4D74FCA8808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DB58-1A00-4546-B659-0E69C29E12F3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1ECC-5EAD-4FD2-AC1D-1344FCA0385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220help.ru/textparts.php?tid=114" TargetMode="External"/><Relationship Id="rId2" Type="http://schemas.openxmlformats.org/officeDocument/2006/relationships/hyperlink" Target="http://www.220help.ru/textparts.php?tid=115" TargetMode="External"/><Relationship Id="rId3" Type="http://schemas.openxmlformats.org/officeDocument/2006/relationships/hyperlink" Target="http://www.220help.ru/textparts.php?tid=116" TargetMode="External"/><Relationship Id="rId4" Type="http://schemas.openxmlformats.org/officeDocument/2006/relationships/hyperlink" Target="http://www.220help.ru/textparts.php?tid=15" TargetMode="External"/><Relationship Id="rId5" Type="http://schemas.openxmlformats.org/officeDocument/2006/relationships/hyperlink" Target="http://www.220help.ru/textparts.php?tid=18" TargetMode="External"/><Relationship Id="rId6" Type="http://schemas.openxmlformats.org/officeDocument/2006/relationships/hyperlink" Target="http://www.220help.ru/textparts.php?tid=33" TargetMode="External"/><Relationship Id="rId7" Type="http://schemas.openxmlformats.org/officeDocument/2006/relationships/hyperlink" Target="http://www.220help.ru/textparts.php?tid=52" TargetMode="External"/><Relationship Id="rId8" Type="http://schemas.openxmlformats.org/officeDocument/2006/relationships/hyperlink" Target="http://www.220help.ru/textparts.php?tid=90" TargetMode="External"/><Relationship Id="rId9" Type="http://schemas.openxmlformats.org/officeDocument/2006/relationships/hyperlink" Target="http://www.220help.ru/textparts.php?tid=14" TargetMode="External"/><Relationship Id="rId10" Type="http://schemas.openxmlformats.org/officeDocument/2006/relationships/hyperlink" Target="http://www.220help.ru/textparts.php?tid=17" TargetMode="External"/><Relationship Id="rId11" Type="http://schemas.openxmlformats.org/officeDocument/2006/relationships/hyperlink" Target="http://www.220help.ru/textparts.php?tid=36" TargetMode="External"/><Relationship Id="rId12" Type="http://schemas.openxmlformats.org/officeDocument/2006/relationships/hyperlink" Target="http://www.220help.ru/textparts.php?tid=44" TargetMode="External"/><Relationship Id="rId13" Type="http://schemas.openxmlformats.org/officeDocument/2006/relationships/hyperlink" Target="http://www.220help.ru/textparts.php?tid=29" TargetMode="External"/><Relationship Id="rId14" Type="http://schemas.openxmlformats.org/officeDocument/2006/relationships/hyperlink" Target="http://www.220help.ru/textparts.php?tid=19" TargetMode="External"/><Relationship Id="rId15" Type="http://schemas.openxmlformats.org/officeDocument/2006/relationships/hyperlink" Target="http://www.220help.ru/textparts.php?tid=16" TargetMode="External"/><Relationship Id="rId16" Type="http://schemas.openxmlformats.org/officeDocument/2006/relationships/hyperlink" Target="http://www.220help.ru/textparts.php?tid=32" TargetMode="Externa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220help.ru/textparts.php?tid=114" TargetMode="External"/><Relationship Id="rId2" Type="http://schemas.openxmlformats.org/officeDocument/2006/relationships/hyperlink" Target="http://www.220help.ru/textparts.php?tid=115" TargetMode="External"/><Relationship Id="rId3" Type="http://schemas.openxmlformats.org/officeDocument/2006/relationships/hyperlink" Target="http://www.220help.ru/textparts.php?tid=116" TargetMode="External"/><Relationship Id="rId4" Type="http://schemas.openxmlformats.org/officeDocument/2006/relationships/hyperlink" Target="http://www.220help.ru/textparts.php?tid=15" TargetMode="External"/><Relationship Id="rId5" Type="http://schemas.openxmlformats.org/officeDocument/2006/relationships/hyperlink" Target="http://www.220help.ru/textparts.php?tid=18" TargetMode="External"/><Relationship Id="rId6" Type="http://schemas.openxmlformats.org/officeDocument/2006/relationships/hyperlink" Target="http://www.220help.ru/textparts.php?tid=33" TargetMode="External"/><Relationship Id="rId7" Type="http://schemas.openxmlformats.org/officeDocument/2006/relationships/hyperlink" Target="http://www.220help.ru/textparts.php?tid=52" TargetMode="External"/><Relationship Id="rId8" Type="http://schemas.openxmlformats.org/officeDocument/2006/relationships/hyperlink" Target="http://www.220help.ru/textparts.php?tid=90" TargetMode="External"/><Relationship Id="rId9" Type="http://schemas.openxmlformats.org/officeDocument/2006/relationships/hyperlink" Target="http://www.220help.ru/textparts.php?tid=14" TargetMode="External"/><Relationship Id="rId10" Type="http://schemas.openxmlformats.org/officeDocument/2006/relationships/hyperlink" Target="http://www.220help.ru/textparts.php?tid=17" TargetMode="Externa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ebddc3"/>
                </a:solidFill>
                <a:latin typeface="Calibri"/>
              </a:rPr>
              <a:t>«УМНЫЙ ДОМ»</a:t>
            </a:r>
            <a:endParaRPr b="0" lang="en-US" sz="9600" spc="-1" strike="noStrike">
              <a:solidFill>
                <a:srgbClr val="ebddc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процессе эксплуатации системы часто возникает необходимость установки дополнительного внешнего оборудования, которое не было предусмотрено в первоначальном варианте или не устанавливалось сразу по финансовым соображениям. Вопрос ввода в здание дополнительной кабельной трассы легко решается, если предусмотреть заранее сквозную резервную гильзу в цокольной части дома с коммутационными коробками с внешней и с внутренней стороны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ажным моментом при проектировании системы сигнализации является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выбор места для приемно-контрольного прибора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(централи). Поскольку главная задача централи - запуск исполнительных устройств при поступлении сигнала тревоги, важно, чтобы прибор находился в труднодоступном для возможного злоумышленника месте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зависимо от типа и способа прокладки кабельной проводки (внешняя, внутренняя, подземная; скрытая, открытая; воздушные линии и т. д.) существуют общие требования, определяемые ПУЭ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СНиП 2.04.09-84, СНиП 3.05.06-85 "Электротехнические устрой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                        </a:t>
            </a: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УМНЫЙ ДОМ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Автор презентации:            Устелемова М.С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ок службы кабельной системы "Умный дом"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поставим со сроком эксплуатации самого дом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В идеале одновременно с прокладкой других инженерных систем необходимо к каждой розетке, к каждому выключателю протянуть специальную витую пару пров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траты на прокладку системы кабелей, установку датчиков и контроллеров, а также монтаж и запуск системы "Умный дом", плюс сервисное обслуживание сопоставимы по цене с автомобилем хорошего класса известной марки, приобретаемым в автосалоне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НА ПРОЕКТОВ:    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ЭКОНОМ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СТАНДАРТ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3"/>
              </a:rPr>
              <a:t>ПРЕМИУ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4"/>
              </a:rPr>
              <a:t>Электроснабжение (ЭО)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4 500р.       9 500р.              21 5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5"/>
              </a:rPr>
              <a:t>Охранная сигнализация (ОС)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7 500р.      15 000р.            18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6"/>
              </a:rPr>
              <a:t>Слабые токи (СС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7 500р.      15 000р.            18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7"/>
              </a:rPr>
              <a:t>Водопровод и канализация  (ВК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9 500р.      15 000р.            18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8"/>
              </a:rPr>
              <a:t>Вентиляция и кондиционирование  (ВиК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9 500р.     15 000р.           18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9"/>
              </a:rPr>
              <a:t>Управление освещением  (АСУ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9 500р .    18 000р.           21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0"/>
              </a:rPr>
              <a:t>Домашний кинотеатр (ДК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5 000р.    10 000р.            20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1"/>
              </a:rPr>
              <a:t>Встроенный пылесос (ВП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5 000р.    10 000р.           13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2"/>
              </a:rPr>
              <a:t>Аварийное освещение (АО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3 000р.     5 000р.              8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1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3"/>
              </a:rPr>
              <a:t>Кабинет переговорная  (КП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9 500р.     15 000р.          18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4"/>
              </a:rPr>
              <a:t>Мультирум системы (СМ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9 500р.     15 000р.           18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3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5"/>
              </a:rPr>
              <a:t>Скрытое видеонаблюдение (ВН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9 500р.     15 000р.           18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4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6"/>
              </a:rPr>
              <a:t>Умный дом (УД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15 000р.     35 000р.          41 000р. 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*Цены работ и материалов взяты из минимального перечня на квартиру 100м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ны с сайта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http://www.220help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НА МАТЕРИАЛОВ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ЭКОНО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СТАНДАР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3"/>
              </a:rPr>
              <a:t>ПРЕМИУ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4"/>
              </a:rPr>
              <a:t>Электроснабжение (ЭО)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35 000р. 55 000р. 95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5"/>
              </a:rPr>
              <a:t>Охранная сигнализация (ОС)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25 000р. 48 000р. 75 000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6"/>
              </a:rPr>
              <a:t>Слабые токи (СС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7 500р. 24 000р. 65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7"/>
              </a:rPr>
              <a:t>Водопровод и канализация  (ВК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9 500р. 35 000р. 85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8"/>
              </a:rPr>
              <a:t>Вентиляция и кондиционирование  (ВиК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12 000р. 45 000р. 85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9"/>
              </a:rPr>
              <a:t>Управление освещением  (АСУ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90 000р. 185 000р. 390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 </a:t>
            </a:r>
            <a:r>
              <a:rPr b="0" lang="ru-RU" sz="1400" spc="-1" strike="noStrike" u="sng">
                <a:solidFill>
                  <a:srgbClr val="f7b615"/>
                </a:solidFill>
                <a:uFillTx/>
                <a:latin typeface="Calibri"/>
                <a:hlinkClick r:id="rId10"/>
              </a:rPr>
              <a:t>Домашний кинотеатр (ДК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45 000р. 90 000р. 220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 Встроенный пылесос (ВП)                                         25 000р. 44 000р. 75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0 Аварийное освещение (АО)                                     3 500р. 18 000р. 35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1 Кабинет переговорная  (КП)                                   18 000р. 55 000р. 12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 Мультирум системы (СМ)                                        75 000р. 170 000р. 320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3 Скрытое видеонаблюдение (ВН)                           28 000р. 62 000р. 85 000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4 Умный дом (УД)                                                          52 000р. 295 000р. 680 000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*Цены работ и материалов взяты из минимального перечня на квартиру 100м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ны с сайта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http://www.220help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стема кабельных коммуникаций - это фундамент будущей системы сигнализац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бор производител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бор производителя - одно из самых сложных и кропотливых занятий, которое у неподготовленного человека займет уйму времени.  Для самостоятельной сборки "Умного дома" необходимо выбрать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дного производител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кладка кабельных лини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тажные работы, как правило, проводятся в три этап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ый этап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окладка кабельных линий к местам установки приборов, составляющих систему: центральной аппаратуры, датчиков, исполнительных устройств, клавиатур управ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тором этап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завершения отделки устанавливают и подключают аппарату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тий эта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наладочные работ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особ прокладки коммуникаций для внешних датчиков, устанавливаемых на стенах дома, зависит от конструкции стен и способа их отдел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5:27:47Z</dcterms:created>
  <dc:creator>User</dc:creator>
  <dc:description/>
  <dc:language>en-US</dc:language>
  <cp:lastModifiedBy>User</cp:lastModifiedBy>
  <dcterms:modified xsi:type="dcterms:W3CDTF">2010-11-06T18:44:04Z</dcterms:modified>
  <cp:revision>32</cp:revision>
  <dc:subject/>
  <dc:title>«Умный Дом»</dc:title>
</cp:coreProperties>
</file>