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E90C-EF4D-4C2A-84C0-36CB16812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9DED-AF95-4392-83CB-EFB63837C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562F-C09D-4F74-8B9B-95E0D8883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08B7-2C41-47E3-B27E-A39C15658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C2A3-E859-4CAA-8095-51122B319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C15B-3929-48DF-916D-54264087F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93A0-6C2D-4190-BC58-77E6D1683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E5F7-E91E-4AC7-844D-6D13282C6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-36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3B7A-D9F6-468F-B38D-7FB0F6190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6316-9229-4003-9E3D-6E9D8E369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3004-2EEE-4B5A-B736-09FAE2269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DEEA-F899-41EF-97AB-3A3EA1010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F8E-43D4-4622-9E1A-AF146976A6C2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5640" y="6453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Arial"/>
              </a:rPr>
              <a:t>©</a:t>
            </a:r>
            <a:r>
              <a:rPr b="0" lang="ru-RU" sz="900" spc="-1" strike="noStrike">
                <a:solidFill>
                  <a:srgbClr val="0000cc"/>
                </a:solidFill>
                <a:latin typeface="Arial"/>
              </a:rPr>
              <a:t>Павловская Т.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9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Курс «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аскаль. Программирование на языке высокого уровня»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0160" y="4739760"/>
            <a:ext cx="640080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авловская Т.А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Павловская Т.А. Паскаль. Программирование на языке высокого уровня. Учебник. 2-е изд. — СПб.: ПИТЕР, 2010. — 464 с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1200" y="-1717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зднее связывание. Виртуальные метод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4720" y="692280"/>
            <a:ext cx="71992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ype monstr =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it(x_, y_, health_, ammo_ : word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draw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hi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move(x_, y_ : word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x, y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ealth, ammo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lor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aemon = object (monstr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structor init(x_, y_, health_, ammo_, magic_ : word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draw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wizardry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magic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84360" y="260280"/>
            <a:ext cx="8459640" cy="4968720"/>
            <a:chOff x="684360" y="260280"/>
            <a:chExt cx="8459640" cy="4968720"/>
          </a:xfrm>
        </p:grpSpPr>
        <p:sp>
          <p:nvSpPr>
            <p:cNvPr id="102" name=""/>
            <p:cNvSpPr/>
            <p:nvPr/>
          </p:nvSpPr>
          <p:spPr>
            <a:xfrm>
              <a:off x="684360" y="1709640"/>
              <a:ext cx="1691640" cy="298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 Vasia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aemon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init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draw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attack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move(4, 5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hit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360" y="1088280"/>
              <a:ext cx="25156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лавная програм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6480" y="674280"/>
              <a:ext cx="11620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6480" y="3573000"/>
              <a:ext cx="1230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06480" y="129528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13520" y="212364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13520" y="150264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6480" y="170964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3520" y="88128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06480" y="212364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06480" y="4194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13520" y="4815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13520" y="4194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13520" y="357300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06480" y="460836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wizard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60560" y="3366000"/>
              <a:ext cx="230688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760760" y="1916280"/>
              <a:ext cx="1845720" cy="20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60760" y="2330280"/>
              <a:ext cx="1845720" cy="20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53320" y="2538000"/>
              <a:ext cx="2153160" cy="18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67800" y="191664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67800" y="150264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7800" y="108828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67800" y="460836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67800" y="4194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67800" y="378000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67800" y="3366000"/>
              <a:ext cx="1230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MT для 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67800" y="674280"/>
              <a:ext cx="11620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MT для 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7040" y="2951640"/>
              <a:ext cx="230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7040" y="3366000"/>
              <a:ext cx="215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44560" y="377964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44560" y="440100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44560" y="481536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144560" y="108792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44560" y="212364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44560" y="17096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14280" y="2951640"/>
              <a:ext cx="2153160" cy="14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400" y="2333160"/>
              <a:ext cx="1391040" cy="16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5400" y="2007360"/>
              <a:ext cx="138240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13520" y="260280"/>
              <a:ext cx="11620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ртуальные методы 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13520" y="2951640"/>
              <a:ext cx="1230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ртуальные методы daem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 —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virtual method table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ормируется компилятором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первое поле таблицы записывается размер объекта, а затем идут адреса виртуальных методов (в том числе и унаследованных) в порядке описания в объекте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ля каждого объектного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тип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создается одна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вязь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экземпляр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объекта с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устанавливается с помощью специального метода, называемого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конструкторо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Конструкто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 ключевому слову constructor компилятор вставляет в начало метода фрагмент, который записывает ссылку на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в специальное поле объекта (память под это поле выделяется компилятором)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ледовательно, прежде чем использовать виртуальные методы, необходимо вызвать конструктор объект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нструктор обычно используется для инициализации объекта. В нем выполняется выделение памяти под динамические переменные или структуры, если они есть в объекте, и присваиваются начальные значения. Если в объекте есть поля, которые также являются объектами, то в конструкторе вызываются конструкторы этих объектов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бъект может содержать несколько конструкторов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вторный вызов конструктора вреда программе не наносит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нструктор должен быть вызван для каждого создаваемого объекта. Присваивание одного объекта другому возможно только после конструирования обоих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авила описания виртуальных метод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Если в объекте метод определен как виртуальный, во всех потомках он также должен быть виртуальным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аголовки всех одноименных виртуальных методов должны совпадать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ереопределять виртуальный метод в каждом из потомков не обязательно: если он выполняет устраивающие потомка действия, он будет унаследован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ъект, имеющий хотя бы один виртуальный метод, должен содержать конструктор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005360"/>
            <a:ext cx="6275160" cy="259236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описании классов рекомендуется определять как виртуальные те методы, которые в производных классах будут реализовываться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Если во всех классах иерархии метод будет выполняться одинаково или если в потомках он не потребуется, его лучше определить как статический (обычны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ередача объектов в подпрограммы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заголовке подпрограммы описывается либо объект базового типа, передаваемый по адресу, либо указатель на этот объект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вызове в нее передается объект или указатель производного класс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этом случае виртуальные методы, вызываемые для объекта из подпрограммы, будут соответствовать типу аргумента, а не параметр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Функция, передвигающая объект по экрану по нажатию клавиш курсора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560" y="1557360"/>
            <a:ext cx="6061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drag(var m : monstr)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x, 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: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:= 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key = chr(0) then key := 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x := 0; dy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ord(key)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 : dy := –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: dx := –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 : dx := 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: dy := 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: begin drag := false; exit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x + dx, m.y + dy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93160" y="549360"/>
            <a:ext cx="7954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ragg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graph, crt, mons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n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, g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:= det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graph(gd, gm, '...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aphresult &lt;&gt; grOk then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ализ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); exit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a.init(200, 200, 10, 8); Vasia.dra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rag(Vasia) 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.init(400, 400, 10, 8 ,2); Misha.dra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rag(Misha) 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бъекты в динамической памяти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онтейн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инамические объекты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5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onstr = ^monstr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daemon = ^daemo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ar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: pmonstr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d : pdaemo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pm);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pm := new(pmonstr);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ew(pd); 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pd := new(pdaemon);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700280"/>
            <a:ext cx="446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pm, init(1, 1, 1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m := new(pmonstr, init(1, 1, 1, 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ew(pd, init(1, 1, 1, 1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d := new(pdaemon, init(1, 1, 1, 1, 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0200" y="522828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^.draw; pm^.at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10440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екция 7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Иерархии объектов. Работа с объектами в динамической памяти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Описание потомков объекта. Наследование полей и методов. Раннее и позднее связывание. Механизм виртуальных методов. Конструкторы и деструкторы. Размещение объектов в динамической памяти. Полиморфные объекты. Контейнер (список) полиморфных объектов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олиморфные объект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С объектами в динамической памяти часто работают через указатели на базовый класс, то есть описывают указатель базового класса, а инициализируют его, создав объект производного класса, например: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var 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p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pmonstr; …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pm := new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daemon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, init(1, 1, 1, 1, 1));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Такие объекты называют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иморфными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. Они используются для того, чтобы можно было единообразно работать в программе с объектами разных классов. 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pm^.draw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 вызывается метод из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emon }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… 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pm := new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monstr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, init(1, 1, 1, 1)); 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pm^.draw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;    { 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 вызывается метод из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nstr }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Т.е. метод выбирается в зависимости от того, на объект какого типа в данный момент ссылается указатель pm (если эти методы виртуальные!)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свобождение памят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44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spo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m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427640" y="1413000"/>
            <a:ext cx="4500360" cy="3255480"/>
            <a:chOff x="4427640" y="1413000"/>
            <a:chExt cx="4500360" cy="3255480"/>
          </a:xfrm>
        </p:grpSpPr>
        <p:sp>
          <p:nvSpPr>
            <p:cNvPr id="166" name=""/>
            <p:cNvSpPr/>
            <p:nvPr/>
          </p:nvSpPr>
          <p:spPr>
            <a:xfrm>
              <a:off x="4804920" y="2036880"/>
              <a:ext cx="465120" cy="53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560" y="2035440"/>
              <a:ext cx="1510560" cy="178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2560" y="2035440"/>
              <a:ext cx="1046160" cy="124668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05800" y="2302560"/>
              <a:ext cx="107352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27640" y="2747160"/>
              <a:ext cx="104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5400000">
              <a:off x="6481440" y="1393200"/>
              <a:ext cx="221040" cy="961920"/>
            </a:xfrm>
            <a:custGeom>
              <a:avLst/>
              <a:gdLst>
                <a:gd name="textAreaLeft" fmla="*/ 141120 w 221040"/>
                <a:gd name="textAreaRight" fmla="*/ 221400 w 221040"/>
                <a:gd name="textAreaTop" fmla="*/ 24840 h 961920"/>
                <a:gd name="textAreaBottom" fmla="*/ 937080 h 9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6729480" y="3253680"/>
              <a:ext cx="235800" cy="1528200"/>
            </a:xfrm>
            <a:custGeom>
              <a:avLst/>
              <a:gdLst>
                <a:gd name="textAreaLeft" fmla="*/ 150840 w 235800"/>
                <a:gd name="textAreaRight" fmla="*/ 236160 w 235800"/>
                <a:gd name="textAreaTop" fmla="*/ 39600 h 1528200"/>
                <a:gd name="textAreaBottom" fmla="*/ 1488600 h 15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4600" y="1413000"/>
              <a:ext cx="1161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64000" y="4223880"/>
              <a:ext cx="1161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6640" y="2080080"/>
              <a:ext cx="116136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ispose(p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66640" y="2969640"/>
              <a:ext cx="116136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750360" y="2302560"/>
              <a:ext cx="11613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55160" y="3192120"/>
              <a:ext cx="7012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826920" y="4005360"/>
            <a:ext cx="3672000" cy="2325240"/>
            <a:chOff x="826920" y="4005360"/>
            <a:chExt cx="3672000" cy="2325240"/>
          </a:xfrm>
        </p:grpSpPr>
        <p:sp>
          <p:nvSpPr>
            <p:cNvPr id="180" name=""/>
            <p:cNvSpPr/>
            <p:nvPr/>
          </p:nvSpPr>
          <p:spPr>
            <a:xfrm>
              <a:off x="1134720" y="4005360"/>
              <a:ext cx="379800" cy="32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48200" y="4031280"/>
              <a:ext cx="1065960" cy="75816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8520" y="4166640"/>
              <a:ext cx="9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6920" y="4437000"/>
              <a:ext cx="8535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1400" y="4031280"/>
              <a:ext cx="947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ispose(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51400" y="4572360"/>
              <a:ext cx="947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958840" y="4166280"/>
              <a:ext cx="71064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314160" y="4707720"/>
              <a:ext cx="47376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48200" y="4978080"/>
              <a:ext cx="236880" cy="81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03520" y="4978080"/>
              <a:ext cx="236520" cy="1217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6640" y="4572360"/>
              <a:ext cx="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1960" y="4572360"/>
              <a:ext cx="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58840" y="4978080"/>
              <a:ext cx="236520" cy="40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77640" y="4572360"/>
              <a:ext cx="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74440" y="4843080"/>
              <a:ext cx="1895040" cy="14875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структо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structor monstr.don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правильного освобождения памяти деструктор записывается вторым параметром процедуры Dispos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ispose(pm, done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мпилятор по слову destructor вставляет в конец тела метода операторы получения размера объекта из VMT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структор передает этот размер процедуре Dispose, и она освобождает количество памяти, соответствующее фактическому типу объекта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авила описания деструктор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простых объектов деструктор может быть пустым, а для объектов, содержащих динамические поля, в нем записываются операторы освобождения памяти для этих полей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деструкторе можно описывать любые действия, необходимые для конкретного объекта, например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закрытие файлов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зов деструктора вне процедуры Dispose память из-под объекта не освобождает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структоры рекомендуется делать виртуальным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структоры обязательно использовать только для динамических полиморфных объектов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объекте можно определить несколько деструкторов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имер объектов с деструкторами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4392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nit monsters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es Graph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type pmonstr = ^monstr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monstr = object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onstructor init(x_, y_, health_, ammo_ : wor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attack; virtual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draw;   virtual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erase;  virtual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hit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move(x_, y_ : wor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destructor done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x, y,  health, ammo,  color : word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155736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daemon = ^daem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daemon = object (mons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onstructor init(x_, y_, health_, ammo_, magic_ : wor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draw;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wizard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magic : wor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destructor monstr.do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Абстрактные класс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 создании иерархии объектов для исключения повторяющегося кода часто бывает логично выделить их общие свойства в один родительский класс, который служит для порождения потомков, а не экземпляров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Такие классы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бстрактным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ак правило, каждый метод, который будет реализовываться в разных потомках по-разному, объявляется в абстрактном классе как виртуальный и имеет пустое тело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Таким образом, абстрактный класс определяет интерфейс для всей иерархи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Абстрактные классы и указатели на них используются в качестве параметров подпрограмм и при работе со структурами данных, предназначенных для хранения объектов одной иерархи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Взаимоотношения класс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Альтернативой наследованию при проектировании объектов служи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вложение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 когда один объект включает в себя поля, являющиеся объектами или указателями на объекты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ид вложения, когда в классе описано поле объектного типа,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композицией.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Если в классе описан указатель на поле объектного типа, это обычно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грегацией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 композиции время жизни всех объектов — и объемлющего, и его полей — одинаково. Агрегация представляет собой более слабую связь между объектам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Контейн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Если объект предназначается для хранения других объектов, он называется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контейнером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онтейнер может представлять собой массив, список, стек или другую динамическую структуру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Методы контейнера обычно включают его создание, дополнение, просмотр, а также поиск и удаление элементов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мер: контейнер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ype list =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structor ini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add(pm : pmonstr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draw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structor don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g : p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pnode = ^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node = recor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: pmonstr; { указатель на объект pmonstr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next : pnode;   { указатель на следующий элемент списка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48040" y="1557360"/>
            <a:ext cx="5295960" cy="3602160"/>
            <a:chOff x="3848040" y="1557360"/>
            <a:chExt cx="5295960" cy="3602160"/>
          </a:xfrm>
        </p:grpSpPr>
        <p:sp>
          <p:nvSpPr>
            <p:cNvPr id="211" name=""/>
            <p:cNvSpPr/>
            <p:nvPr/>
          </p:nvSpPr>
          <p:spPr>
            <a:xfrm>
              <a:off x="3848040" y="2609640"/>
              <a:ext cx="57060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5876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6628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9960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0712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4044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4760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36560" y="282996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92080" y="2829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32920" y="2829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1840" y="294588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62680" y="294588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03160" y="294588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58760" y="338580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0960" y="338580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21800" y="338580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86640" y="257040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70080" y="416232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69880" y="417312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68200" y="314928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19240" y="1602360"/>
              <a:ext cx="172440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82320" y="2009160"/>
              <a:ext cx="156168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558760" y="227448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58760" y="227448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8760" y="155736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47600" y="260964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247240" y="260964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36680" y="474156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10720" y="3605040"/>
              <a:ext cx="1425600" cy="11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32920" y="383688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107560" y="4057200"/>
              <a:ext cx="22140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--------------------------------------- list.init -----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structor list.init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gin beg := nil en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---------------------------------------- list.add -----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rocedure list.add(pm : pmonst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ew(p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^.pm := pm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^.next := beg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g := p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48040" y="2852640"/>
            <a:ext cx="5295960" cy="3602160"/>
            <a:chOff x="3848040" y="2852640"/>
            <a:chExt cx="5295960" cy="3602160"/>
          </a:xfrm>
        </p:grpSpPr>
        <p:sp>
          <p:nvSpPr>
            <p:cNvPr id="245" name=""/>
            <p:cNvSpPr/>
            <p:nvPr/>
          </p:nvSpPr>
          <p:spPr>
            <a:xfrm>
              <a:off x="3848040" y="3904920"/>
              <a:ext cx="57060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5876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628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9960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0712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044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4760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36560" y="412524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92080" y="412524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32920" y="412524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21840" y="424116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62680" y="424116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03160" y="424116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58760" y="468108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0960" y="468108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21800" y="468108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86640" y="386568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0080" y="545760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9880" y="546840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8200" y="444456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9240" y="2897640"/>
              <a:ext cx="172440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82320" y="3304440"/>
              <a:ext cx="156168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558760" y="3569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58760" y="3569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78760" y="285264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47600" y="390492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8247240" y="390492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36680" y="603684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10720" y="4900320"/>
              <a:ext cx="1425600" cy="11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32920" y="513216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107560" y="5352480"/>
              <a:ext cx="22140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Наследование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4000" y="260280"/>
            <a:ext cx="46796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----- list.draw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ocedure list.draw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 := beg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ile p &lt;&gt; nil do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^.pm^.draw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 := p^.nex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-------- report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ocedure report(message: string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 s : string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r(MemAvail, s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uttext(message + s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veto(0, GetY + 12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48040" y="189000"/>
            <a:ext cx="5295960" cy="3601800"/>
            <a:chOff x="3848040" y="189000"/>
            <a:chExt cx="5295960" cy="3601800"/>
          </a:xfrm>
        </p:grpSpPr>
        <p:sp>
          <p:nvSpPr>
            <p:cNvPr id="278" name=""/>
            <p:cNvSpPr/>
            <p:nvPr/>
          </p:nvSpPr>
          <p:spPr>
            <a:xfrm>
              <a:off x="3848040" y="1241280"/>
              <a:ext cx="57060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876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6628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9960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0712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4044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4760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36560" y="146160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2080" y="146160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2920" y="146160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840" y="157716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2680" y="157716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3160" y="157716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58760" y="201708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0960" y="201708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1800" y="201708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86640" y="120168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70080" y="279396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69880" y="280440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8200" y="178092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19240" y="234000"/>
              <a:ext cx="172440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2320" y="640800"/>
              <a:ext cx="156168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558760" y="905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8760" y="905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8760" y="18900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47600" y="124128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247240" y="124128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36680" y="337284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10720" y="2236680"/>
              <a:ext cx="1425600" cy="11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32920" y="246816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107560" y="2688480"/>
              <a:ext cx="221400" cy="6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-------- list.done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estructor list.don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ile beg &lt;&gt; nil do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 := beg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ispose(p^.pm, done);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 := p^.next;           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ispose(p);                 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67280" y="2781360"/>
            <a:ext cx="5295960" cy="3601800"/>
            <a:chOff x="4067280" y="2781360"/>
            <a:chExt cx="5295960" cy="3601800"/>
          </a:xfrm>
        </p:grpSpPr>
        <p:sp>
          <p:nvSpPr>
            <p:cNvPr id="312" name=""/>
            <p:cNvSpPr/>
            <p:nvPr/>
          </p:nvSpPr>
          <p:spPr>
            <a:xfrm>
              <a:off x="4067280" y="3833640"/>
              <a:ext cx="57060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7800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8552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1884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2636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5968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6684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55800" y="405396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11320" y="4053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2160" y="4053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1080" y="416952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1920" y="416952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22400" y="416952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78000" y="460944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00200" y="460944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41040" y="460944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05880" y="379404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89320" y="538632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89120" y="539676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87440" y="437328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38480" y="2826360"/>
              <a:ext cx="172440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01560" y="3233160"/>
              <a:ext cx="156168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778000" y="349812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78000" y="349812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98000" y="278136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840" y="383364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466480" y="383364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55920" y="596520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29960" y="4829040"/>
              <a:ext cx="1425600" cy="11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52160" y="506052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326800" y="5280840"/>
              <a:ext cx="221400" cy="6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867280" y="2205000"/>
            <a:ext cx="0" cy="1584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25800" y="177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1640" y="4437000"/>
            <a:ext cx="936360" cy="86364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724360" y="4508640"/>
            <a:ext cx="863640" cy="7207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9440" y="1773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b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93080" y="2205000"/>
            <a:ext cx="0" cy="1584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51640" y="3573360"/>
            <a:ext cx="936360" cy="86364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724360" y="3573360"/>
            <a:ext cx="863640" cy="7207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ado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lis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x, y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integer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d, gm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integer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pmonstr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главная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ограмма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d := detec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itgraph(gd, gm, '...'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graphresult &lt;&gt; grOk then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riteln('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ошибка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нициализации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графики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'); exit 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randomize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port(' доступно в начале программы: '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77868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ado.ini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or i := 1 to n do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ase random(2) of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0 : p := new(pmonstr, init(random(600), random(440), 10, 8)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 : p := new(pdaemon, init(random(600), random(440), 10, 8, 6)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ado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dd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);          { добавление объекта в список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3213000"/>
            <a:ext cx="8002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port(' доступно после выделения памяти: 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stado.draw;         { отрисовка объектов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stado.done;         { уничтожение объектов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port(' доступно после освобождения памяти: 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adl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писание наследник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pe daemon = object (monstr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init(x_, y_, health_, ammo_, magic_ : word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draw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wizardry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gic : wor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32000" y="26028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ini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x_, y_, health_, ammo_, magic_ : word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herited init(x_, y_, health_, ammo_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lor := green;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gic := magic_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attack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ammo = 0 then exit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c(ammo);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uttextXY(x + 15, y, '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УХ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!'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draw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tcolor(color); outtextXY(x, y, '%)'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eras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tcolor(black); outtextXY(x, y, '%)'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4032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ses graph, crt, monsters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s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daemo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d, gm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itgraph(gd, gm, '...'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init(100, 100, 20, 10, 6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draw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attack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erase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move(200, 100);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move(200, 200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1268280"/>
            <a:ext cx="288108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17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773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-БУ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12720" y="177336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2720" y="256536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55640" y="549360"/>
            <a:ext cx="7722720" cy="5904000"/>
            <a:chOff x="755640" y="549360"/>
            <a:chExt cx="7722720" cy="5904000"/>
          </a:xfrm>
        </p:grpSpPr>
        <p:sp>
          <p:nvSpPr>
            <p:cNvPr id="58" name=""/>
            <p:cNvSpPr/>
            <p:nvPr/>
          </p:nvSpPr>
          <p:spPr>
            <a:xfrm>
              <a:off x="755640" y="2235240"/>
              <a:ext cx="2444400" cy="357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r  Vasia : daemon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init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pos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draw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attack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move(4, 5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5640" y="1631880"/>
              <a:ext cx="35078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лавная програм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960" y="549360"/>
              <a:ext cx="161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02920" y="3841920"/>
              <a:ext cx="1714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02920" y="123048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2920" y="243540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02920" y="203364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02920" y="283680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02920" y="163188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2920" y="323856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02920" y="444492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02920" y="564984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02920" y="524844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2920" y="484668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2920" y="605160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wizard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8440" y="3038400"/>
              <a:ext cx="4074480" cy="16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5880" y="3357720"/>
              <a:ext cx="400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8640" y="3789360"/>
              <a:ext cx="4221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41120" y="4149720"/>
              <a:ext cx="39261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36680" y="2997360"/>
              <a:ext cx="370404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400880" y="3038040"/>
              <a:ext cx="646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047440" y="263700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70320" y="2924280"/>
              <a:ext cx="4332600" cy="17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047440" y="263700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404120" y="263700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21760" y="3144960"/>
              <a:ext cx="105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475480" y="2234880"/>
              <a:ext cx="288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404120" y="223524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Раннее связывание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овместимость типов объект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34560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ежду экземплярами объектов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ежду указателями на экземпляры объектов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ежду параметрами и аргументами подпрограмм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563480"/>
            <a:ext cx="4218120" cy="405792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ns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^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s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emon = ^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n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mon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4797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4797360"/>
            <a:ext cx="79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79736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4941720"/>
            <a:ext cx="576360" cy="287640"/>
          </a:xfrm>
          <a:prstGeom prst="leftArrow">
            <a:avLst>
              <a:gd name="adj1" fmla="val 50000"/>
              <a:gd name="adj2" fmla="val 50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1440" y="4365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2360" y="436572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о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ередача объектов в подпрограмму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002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ъекту-параметру подпрограммы может соответствовать аргумент того же типа или типа любого из его потомков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араметр, передаваемый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о значению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представляет собой копию объекта-аргумента, которая содержит только те поля данных и методы, которые имеются в объекте-параметре (т.е.при передаче по значению тип аргумента приводится к типу параметра)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передаче объекта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о адресу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подпрограмме передается указатель на фактический объект (т.е. приведение типов не выполняется)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5013360"/>
            <a:ext cx="7632720" cy="1345320"/>
          </a:xfrm>
          <a:prstGeom prst="rect">
            <a:avLst/>
          </a:prstGeom>
          <a:solidFill>
            <a:srgbClr val="c0c0c0">
              <a:alpha val="84000"/>
            </a:srgbClr>
          </a:solidFill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ъекты, фактический тип которых может изменяться во время выполнения программы, называются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лиморфны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олиморфным может быть объект, определенный через указатель или переданный в подпрограмму по ад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9:04:24Z</dcterms:created>
  <dc:creator>Mux</dc:creator>
  <dc:description/>
  <dc:language>en-US</dc:language>
  <cp:lastModifiedBy>мух</cp:lastModifiedBy>
  <dcterms:modified xsi:type="dcterms:W3CDTF">2010-08-12T15:23:34Z</dcterms:modified>
  <cp:revision>26</cp:revision>
  <dc:subject/>
  <dc:title>Слайд 1</dc:title>
</cp:coreProperties>
</file>