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61B9-42A7-4EF3-990F-F4EFF0C04A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2834-51E8-4941-A2AF-E64DA81345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2F93-CD99-4C3E-BAF4-B09807E017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56A89-4F77-467B-8CF1-E15D577B1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6903-F217-4922-A75F-7FBF319E2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85E45-4467-48D9-8686-B6CD290C5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976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552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976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552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7881A-248F-47A5-A2C4-7942DBC308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EE59-7E56-4657-B57E-6E8D7B4173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B341-9F80-4356-B8A7-BA7CB7BAC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807F-B787-472A-917B-89B195AF9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C98E-C31F-4BE3-BF07-3FA2CB097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002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5528-A46A-4403-AA26-1D4F8F8B6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AACF-BB06-45A1-A4C3-408A4FF46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FE7A-81FA-433B-ADF3-ECF79870C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D530-C6E4-456A-8C32-DF9D3650E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spcAft>
                <a:spcPts val="7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spcAft>
                <a:spcPts val="799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spcAft>
                <a:spcPts val="7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spcAft>
                <a:spcPts val="799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spcAft>
                <a:spcPts val="799"/>
              </a:spcAft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799C-0275-4D9C-A17D-EE0640E03BC6}" type="slidenum">
              <a:rPr b="0" lang="en-US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84360" y="6643800"/>
            <a:ext cx="24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Arial"/>
              </a:rPr>
              <a:t>©</a:t>
            </a:r>
            <a:r>
              <a:rPr b="0" lang="ru-RU" sz="800" spc="-1" strike="noStrike">
                <a:solidFill>
                  <a:srgbClr val="0000cc"/>
                </a:solidFill>
                <a:latin typeface="Arial"/>
              </a:rPr>
              <a:t>Павдлвская Т.А. Язык Паскал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678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Курс «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Паскаль. Программирование на языке высокого уровня» 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0160" y="4739760"/>
            <a:ext cx="6400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авловская Т.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AD91-64B8-4847-AB2C-9D5620E1EB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ример работы с динамическими переменными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309564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ype 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rec = record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d : word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s : string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word = ^word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var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p1, p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: pword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p3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: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^rec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65400" y="1701720"/>
            <a:ext cx="6329160" cy="1670400"/>
            <a:chOff x="3065400" y="1701720"/>
            <a:chExt cx="6329160" cy="1670400"/>
          </a:xfrm>
        </p:grpSpPr>
        <p:sp>
          <p:nvSpPr>
            <p:cNvPr id="105" name=""/>
            <p:cNvSpPr/>
            <p:nvPr/>
          </p:nvSpPr>
          <p:spPr>
            <a:xfrm>
              <a:off x="3065400" y="1706400"/>
              <a:ext cx="4393440" cy="16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065400" y="2404800"/>
              <a:ext cx="43934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29280" y="2674800"/>
              <a:ext cx="697680" cy="34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10920" y="1701720"/>
              <a:ext cx="1583640" cy="437760"/>
            </a:xfrm>
            <a:prstGeom prst="borderCallout1">
              <a:avLst>
                <a:gd name="adj1" fmla="val 18750"/>
                <a:gd name="adj2" fmla="val -8333"/>
                <a:gd name="adj3" fmla="val 82949"/>
                <a:gd name="adj4" fmla="val -377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инамическая памя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10920" y="2405160"/>
              <a:ext cx="1319760" cy="438120"/>
            </a:xfrm>
            <a:prstGeom prst="borderCallout1">
              <a:avLst>
                <a:gd name="adj1" fmla="val 18750"/>
                <a:gd name="adj2" fmla="val -8333"/>
                <a:gd name="adj3" fmla="val 85435"/>
                <a:gd name="adj4" fmla="val -4525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гмент дан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02840" y="2616120"/>
              <a:ext cx="44064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79040" y="2668320"/>
              <a:ext cx="615960" cy="3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69440" y="2639520"/>
              <a:ext cx="4392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34920" y="2668320"/>
              <a:ext cx="66168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11720" y="2656800"/>
              <a:ext cx="440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06760" y="1870920"/>
              <a:ext cx="70380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106760" y="2575080"/>
              <a:ext cx="70380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857760" y="4653000"/>
            <a:ext cx="4739760" cy="1701720"/>
            <a:chOff x="3857760" y="4653000"/>
            <a:chExt cx="4739760" cy="1701720"/>
          </a:xfrm>
        </p:grpSpPr>
        <p:sp>
          <p:nvSpPr>
            <p:cNvPr id="118" name=""/>
            <p:cNvSpPr/>
            <p:nvPr/>
          </p:nvSpPr>
          <p:spPr>
            <a:xfrm>
              <a:off x="3857760" y="4653000"/>
              <a:ext cx="4739760" cy="170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857760" y="5499720"/>
              <a:ext cx="473976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42520" y="5791680"/>
              <a:ext cx="752760" cy="37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489560" y="5253840"/>
              <a:ext cx="720" cy="66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69720" y="5728680"/>
              <a:ext cx="47520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75440" y="5785200"/>
              <a:ext cx="759240" cy="37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622480" y="5247000"/>
              <a:ext cx="108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03720" y="5722560"/>
              <a:ext cx="47304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14120" y="5785200"/>
              <a:ext cx="758880" cy="37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762240" y="5247000"/>
              <a:ext cx="72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42400" y="5722560"/>
              <a:ext cx="47412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56440" y="4866840"/>
              <a:ext cx="47412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06640" y="4868640"/>
              <a:ext cx="47520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3080" y="4866840"/>
              <a:ext cx="1809720" cy="40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95280" y="4836240"/>
              <a:ext cx="569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1^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35040" y="4836240"/>
              <a:ext cx="568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2^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66880" y="4867560"/>
              <a:ext cx="5040" cy="39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4360" y="450864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4581360"/>
            <a:ext cx="271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w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2 :=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w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word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w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3)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7CA1-00C7-472A-9DA0-8B2B1D5F84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55280" y="549360"/>
            <a:ext cx="259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1^ := 3;     p2^ := 2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3^.d := p1^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3^.s := '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ас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';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70840" y="699120"/>
            <a:ext cx="4955040" cy="1780200"/>
            <a:chOff x="3570840" y="699120"/>
            <a:chExt cx="4955040" cy="1780200"/>
          </a:xfrm>
        </p:grpSpPr>
        <p:sp>
          <p:nvSpPr>
            <p:cNvPr id="139" name=""/>
            <p:cNvSpPr/>
            <p:nvPr/>
          </p:nvSpPr>
          <p:spPr>
            <a:xfrm>
              <a:off x="3570840" y="699120"/>
              <a:ext cx="4955040" cy="178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570840" y="1585080"/>
              <a:ext cx="495504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68560" y="1890360"/>
              <a:ext cx="786960" cy="38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231440" y="1327320"/>
              <a:ext cx="720" cy="69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28520" y="1824480"/>
              <a:ext cx="496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52960" y="1883880"/>
              <a:ext cx="793800" cy="39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415840" y="1320840"/>
              <a:ext cx="1080" cy="68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14360" y="1818000"/>
              <a:ext cx="49464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43120" y="1883880"/>
              <a:ext cx="793440" cy="39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607080" y="1320840"/>
              <a:ext cx="720" cy="68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04520" y="1818000"/>
              <a:ext cx="49572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6520" y="922680"/>
              <a:ext cx="495720" cy="39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98920" y="924840"/>
              <a:ext cx="496800" cy="3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76840" y="922680"/>
              <a:ext cx="1891800" cy="4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    Ва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55520" y="890640"/>
              <a:ext cx="5954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1^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46760" y="890640"/>
              <a:ext cx="59400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2^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30080" y="923760"/>
              <a:ext cx="540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715200" y="4227840"/>
            <a:ext cx="5026320" cy="1803960"/>
            <a:chOff x="3715200" y="4227840"/>
            <a:chExt cx="5026320" cy="1803960"/>
          </a:xfrm>
        </p:grpSpPr>
        <p:sp>
          <p:nvSpPr>
            <p:cNvPr id="157" name=""/>
            <p:cNvSpPr/>
            <p:nvPr/>
          </p:nvSpPr>
          <p:spPr>
            <a:xfrm>
              <a:off x="3715200" y="4227840"/>
              <a:ext cx="5026320" cy="180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715200" y="5126040"/>
              <a:ext cx="502632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17240" y="5435280"/>
              <a:ext cx="798120" cy="39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385160" y="4865040"/>
              <a:ext cx="720" cy="6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88360" y="5368320"/>
              <a:ext cx="50400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18560" y="5428440"/>
              <a:ext cx="805320" cy="40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5586840" y="4857840"/>
              <a:ext cx="1080" cy="69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91120" y="5361840"/>
              <a:ext cx="50184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26000" y="5428440"/>
              <a:ext cx="804960" cy="40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795000" y="4857840"/>
              <a:ext cx="720" cy="69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98560" y="5361840"/>
              <a:ext cx="50292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49880" y="4454640"/>
              <a:ext cx="502920" cy="40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9560" y="4456440"/>
              <a:ext cx="504000" cy="40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64400" y="4454640"/>
              <a:ext cx="1919160" cy="42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    Ва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15720" y="4422240"/>
              <a:ext cx="60408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1^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23880" y="4422240"/>
              <a:ext cx="6026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2^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24480" y="4455360"/>
              <a:ext cx="5400" cy="41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55640" y="3141720"/>
            <a:ext cx="770400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инамические переменные можно использовать в операциях, допустимых для величин соответствующего ти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c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1^);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2^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:= p1^ + p3^.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ith p3^ do writeln (d, s)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3FBC-211E-4829-9354-7567EA08DC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084640" y="1353960"/>
            <a:ext cx="3367080" cy="32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084640" y="2955600"/>
            <a:ext cx="336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23040" y="3506760"/>
            <a:ext cx="8920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84880" y="3387600"/>
            <a:ext cx="56376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65840" y="3494160"/>
            <a:ext cx="90036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176960" y="2477880"/>
            <a:ext cx="1800" cy="124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28040" y="3375000"/>
            <a:ext cx="56196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4200" y="1757520"/>
            <a:ext cx="56232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57880" y="1762200"/>
            <a:ext cx="56376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7640" y="1700280"/>
            <a:ext cx="6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40720" y="1773360"/>
            <a:ext cx="6732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p2^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864400" y="2491920"/>
            <a:ext cx="2880" cy="118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Мусор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41749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ри присваивании указателю другого значения старое значение теряется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Это приводит к появлению так называемого мусора (обозначен овалом), когда доступа к участку динамической памяти нет, а сам он помечен как занятый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64000" y="4869000"/>
            <a:ext cx="2953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ew(p1);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ew(p2);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1 := p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64000" y="5805360"/>
            <a:ext cx="122400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219640" y="5805360"/>
            <a:ext cx="122400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084280" y="1353600"/>
            <a:ext cx="3367800" cy="3214440"/>
            <a:chOff x="5084280" y="1353600"/>
            <a:chExt cx="3367800" cy="3214440"/>
          </a:xfrm>
        </p:grpSpPr>
        <p:sp>
          <p:nvSpPr>
            <p:cNvPr id="193" name=""/>
            <p:cNvSpPr/>
            <p:nvPr/>
          </p:nvSpPr>
          <p:spPr>
            <a:xfrm>
              <a:off x="5084280" y="1353600"/>
              <a:ext cx="3367800" cy="321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084280" y="2954880"/>
              <a:ext cx="33678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21960" y="3506400"/>
              <a:ext cx="892440" cy="70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876720" y="2417760"/>
              <a:ext cx="2246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83800" y="3387600"/>
              <a:ext cx="563400" cy="8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65120" y="3494520"/>
              <a:ext cx="900000" cy="71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176600" y="2477160"/>
              <a:ext cx="1080" cy="12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28400" y="3375360"/>
              <a:ext cx="560880" cy="8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93840" y="1757880"/>
              <a:ext cx="561960" cy="71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57520" y="1761480"/>
              <a:ext cx="563400" cy="71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65120" y="2237040"/>
              <a:ext cx="675360" cy="8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p1^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65120" y="1700280"/>
              <a:ext cx="673920" cy="8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2^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76720" y="2417760"/>
              <a:ext cx="0" cy="71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863680" y="3133080"/>
              <a:ext cx="10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863680" y="3133080"/>
              <a:ext cx="0" cy="53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01360" y="1519560"/>
              <a:ext cx="1575360" cy="1256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9C66-91D3-48EB-997A-90B07D439F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Освобождение памяти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920" y="1196640"/>
            <a:ext cx="7848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524"/>
              </a:spcBef>
              <a:spcAft>
                <a:spcPts val="788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Arial"/>
              </a:rPr>
              <a:t>Процедура </a:t>
            </a:r>
            <a:r>
              <a:rPr b="0" lang="en-US" sz="21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cc"/>
                </a:solidFill>
                <a:latin typeface="Arial"/>
              </a:rPr>
              <a:t>Dispose(var p : pointer) </a:t>
            </a:r>
            <a:endParaRPr b="0" lang="en-US" sz="21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Arial"/>
              </a:rPr>
              <a:t>освобождает участок памяти, выделенный New.</a:t>
            </a:r>
            <a:endParaRPr b="0" lang="en-US" sz="21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24"/>
              </a:spcBef>
              <a:spcAft>
                <a:spcPts val="788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Arial"/>
              </a:rPr>
              <a:t>Процедура </a:t>
            </a:r>
            <a:r>
              <a:rPr b="1" lang="ru-RU" sz="2100" spc="-1" strike="noStrike">
                <a:solidFill>
                  <a:srgbClr val="0000cc"/>
                </a:solidFill>
                <a:latin typeface="Arial"/>
              </a:rPr>
              <a:t>Freemem(var p : pointer; size : word)</a:t>
            </a:r>
            <a:r>
              <a:rPr b="0" lang="ru-RU" sz="21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Arial"/>
              </a:rPr>
              <a:t>освобождает участок памяти размером size, начиная с адреса p. </a:t>
            </a:r>
            <a:endParaRPr b="0" lang="en-US" sz="21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24"/>
              </a:spcBef>
              <a:spcAft>
                <a:spcPts val="788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Arial"/>
              </a:rPr>
              <a:t>Если память выделялась с помощью </a:t>
            </a:r>
            <a:r>
              <a:rPr b="0" lang="en-US" sz="21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cc"/>
                </a:solidFill>
                <a:latin typeface="Arial"/>
              </a:rPr>
              <a:t>ew, следует применять Dispose, в противном случае — Freemem.</a:t>
            </a:r>
            <a:endParaRPr b="0" lang="en-US" sz="21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24"/>
              </a:spcBef>
              <a:spcAft>
                <a:spcPts val="788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Arial"/>
              </a:rPr>
              <a:t>Значение указателя после вызова этих процедур становится неопределенным.</a:t>
            </a:r>
            <a:endParaRPr b="0" lang="en-US" sz="21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BECF-3A06-43B6-9402-25F05D7881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Освобождение памяти из-под группы переменных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1125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Если требуется освободить память из-под нескольких переменных одновременно, можно применять процедуры Mark и Release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125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оцедура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Mark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var p : pointer) записывает в указатель p адрес начала участка свободной динамической памяти на момент ее вызова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125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оцедура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Release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var p : pointer) освобождает участок динамической памяти, начиная с адреса, записанного в указатель p процедурой Мark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2DF8-5A84-4509-A1CA-C55FBBB87B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Вспомогательные функции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125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Функция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Maxavail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 : longint возвращает длину в байтах самого длинного свободного участка динамической памяти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125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Функция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Memavail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 : longint возвращает полный объем свободной динамической памяти в байтах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125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спомогательная функция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Sizeof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x) : word возвращает объем в байтах, занимаемый x, причем x может быть либо именем переменной любого типа, либо именем типа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EAFF-6A2F-4314-BDE8-9F1C87A724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6360" y="148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Лекция 19. Динамические структуры данных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0674-818B-4AEF-813F-475E285271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00000" y="2852640"/>
            <a:ext cx="7848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Элемент динамической структуры состоит из двух ча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информационной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указателей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node =  ^no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de =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 : word;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{ |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информационна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|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tring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{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|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часть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               |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node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{ указатель на следующий элемент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280" y="-243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Виды динамических структур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99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программах чаще всего используются: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линейные списки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теки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35280" y="4076640"/>
            <a:ext cx="4753080" cy="398880"/>
            <a:chOff x="3635280" y="4076640"/>
            <a:chExt cx="4753080" cy="398880"/>
          </a:xfrm>
        </p:grpSpPr>
        <p:sp>
          <p:nvSpPr>
            <p:cNvPr id="220" name=""/>
            <p:cNvSpPr/>
            <p:nvPr/>
          </p:nvSpPr>
          <p:spPr>
            <a:xfrm>
              <a:off x="3635280" y="4076640"/>
              <a:ext cx="43200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67280" y="4076640"/>
              <a:ext cx="352908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96360" y="4076640"/>
              <a:ext cx="79200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995640" y="1557360"/>
            <a:ext cx="431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че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бинарные деревь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333B-84A3-4135-9DB7-E00AB52C14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000" y="-1717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Стек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836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еализует принцип обслуживания LIFO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Last In – First Out)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ля работы со стеком используются две статические переменные: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указатель на вершину стека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спомогательный указатель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r top, p : pnode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оздание первого элемента стека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ew(top)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op^.d := 100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op^.s := ‘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ас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'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op^.p := nil;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147200" y="4343400"/>
            <a:ext cx="4232880" cy="1796040"/>
            <a:chOff x="4147200" y="4343400"/>
            <a:chExt cx="4232880" cy="1796040"/>
          </a:xfrm>
        </p:grpSpPr>
        <p:sp>
          <p:nvSpPr>
            <p:cNvPr id="227" name=""/>
            <p:cNvSpPr/>
            <p:nvPr/>
          </p:nvSpPr>
          <p:spPr>
            <a:xfrm>
              <a:off x="4147200" y="4343400"/>
              <a:ext cx="4232880" cy="179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47920" y="5202720"/>
              <a:ext cx="42321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21880" y="5381640"/>
              <a:ext cx="78408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7026480" y="4433040"/>
              <a:ext cx="947880" cy="568800"/>
              <a:chOff x="7026480" y="4433040"/>
              <a:chExt cx="947880" cy="568800"/>
            </a:xfrm>
          </p:grpSpPr>
          <p:sp>
            <p:nvSpPr>
              <p:cNvPr id="231" name=""/>
              <p:cNvSpPr/>
              <p:nvPr/>
            </p:nvSpPr>
            <p:spPr>
              <a:xfrm>
                <a:off x="7026480" y="4433040"/>
                <a:ext cx="473760" cy="56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500240" y="4433040"/>
                <a:ext cx="474120" cy="56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00240" y="4433040"/>
                <a:ext cx="474120" cy="56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7499880" y="4433040"/>
                <a:ext cx="474120" cy="56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 flipV="1">
              <a:off x="7121880" y="5001480"/>
              <a:ext cx="720" cy="56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25200" y="4529160"/>
              <a:ext cx="1731600" cy="479520"/>
            </a:xfrm>
            <a:prstGeom prst="borderCallout1">
              <a:avLst>
                <a:gd name="adj1" fmla="val 18750"/>
                <a:gd name="adj2" fmla="val -8333"/>
                <a:gd name="adj3" fmla="val 69625"/>
                <a:gd name="adj4" fmla="val -94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инамическая памя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7227720" y="888840"/>
            <a:ext cx="1360800" cy="3206880"/>
          </a:xfrm>
          <a:custGeom>
            <a:avLst/>
            <a:gdLst/>
            <a:ahLst/>
            <a:rect l="l" t="t" r="r" b="b"/>
            <a:pathLst>
              <a:path w="857" h="2020">
                <a:moveTo>
                  <a:pt x="192" y="16"/>
                </a:moveTo>
                <a:cubicBezTo>
                  <a:pt x="227" y="4"/>
                  <a:pt x="259" y="0"/>
                  <a:pt x="295" y="9"/>
                </a:cubicBezTo>
                <a:cubicBezTo>
                  <a:pt x="340" y="39"/>
                  <a:pt x="353" y="108"/>
                  <a:pt x="364" y="160"/>
                </a:cubicBezTo>
                <a:cubicBezTo>
                  <a:pt x="361" y="285"/>
                  <a:pt x="372" y="543"/>
                  <a:pt x="281" y="674"/>
                </a:cubicBezTo>
                <a:cubicBezTo>
                  <a:pt x="270" y="707"/>
                  <a:pt x="253" y="748"/>
                  <a:pt x="233" y="777"/>
                </a:cubicBezTo>
                <a:cubicBezTo>
                  <a:pt x="224" y="805"/>
                  <a:pt x="209" y="835"/>
                  <a:pt x="192" y="859"/>
                </a:cubicBezTo>
                <a:cubicBezTo>
                  <a:pt x="180" y="896"/>
                  <a:pt x="166" y="930"/>
                  <a:pt x="144" y="962"/>
                </a:cubicBezTo>
                <a:cubicBezTo>
                  <a:pt x="134" y="992"/>
                  <a:pt x="116" y="1017"/>
                  <a:pt x="103" y="1045"/>
                </a:cubicBezTo>
                <a:cubicBezTo>
                  <a:pt x="91" y="1071"/>
                  <a:pt x="85" y="1100"/>
                  <a:pt x="76" y="1127"/>
                </a:cubicBezTo>
                <a:cubicBezTo>
                  <a:pt x="41" y="1235"/>
                  <a:pt x="13" y="1335"/>
                  <a:pt x="0" y="1449"/>
                </a:cubicBezTo>
                <a:cubicBezTo>
                  <a:pt x="8" y="1575"/>
                  <a:pt x="19" y="1662"/>
                  <a:pt x="89" y="1765"/>
                </a:cubicBezTo>
                <a:cubicBezTo>
                  <a:pt x="111" y="1797"/>
                  <a:pt x="120" y="1820"/>
                  <a:pt x="151" y="1840"/>
                </a:cubicBezTo>
                <a:cubicBezTo>
                  <a:pt x="187" y="1895"/>
                  <a:pt x="246" y="1926"/>
                  <a:pt x="302" y="1957"/>
                </a:cubicBezTo>
                <a:cubicBezTo>
                  <a:pt x="373" y="1996"/>
                  <a:pt x="317" y="1975"/>
                  <a:pt x="364" y="1991"/>
                </a:cubicBezTo>
                <a:cubicBezTo>
                  <a:pt x="384" y="2005"/>
                  <a:pt x="402" y="2010"/>
                  <a:pt x="425" y="2018"/>
                </a:cubicBezTo>
                <a:cubicBezTo>
                  <a:pt x="515" y="2013"/>
                  <a:pt x="539" y="2020"/>
                  <a:pt x="604" y="1998"/>
                </a:cubicBezTo>
                <a:cubicBezTo>
                  <a:pt x="622" y="1969"/>
                  <a:pt x="651" y="1955"/>
                  <a:pt x="665" y="1922"/>
                </a:cubicBezTo>
                <a:cubicBezTo>
                  <a:pt x="671" y="1909"/>
                  <a:pt x="674" y="1895"/>
                  <a:pt x="679" y="1881"/>
                </a:cubicBezTo>
                <a:cubicBezTo>
                  <a:pt x="681" y="1874"/>
                  <a:pt x="686" y="1861"/>
                  <a:pt x="686" y="1861"/>
                </a:cubicBezTo>
                <a:cubicBezTo>
                  <a:pt x="680" y="1781"/>
                  <a:pt x="669" y="1684"/>
                  <a:pt x="597" y="1634"/>
                </a:cubicBezTo>
                <a:cubicBezTo>
                  <a:pt x="583" y="1593"/>
                  <a:pt x="601" y="1633"/>
                  <a:pt x="569" y="1600"/>
                </a:cubicBezTo>
                <a:cubicBezTo>
                  <a:pt x="549" y="1580"/>
                  <a:pt x="546" y="1562"/>
                  <a:pt x="521" y="1545"/>
                </a:cubicBezTo>
                <a:cubicBezTo>
                  <a:pt x="512" y="1519"/>
                  <a:pt x="492" y="1507"/>
                  <a:pt x="480" y="1483"/>
                </a:cubicBezTo>
                <a:cubicBezTo>
                  <a:pt x="463" y="1449"/>
                  <a:pt x="454" y="1412"/>
                  <a:pt x="432" y="1381"/>
                </a:cubicBezTo>
                <a:cubicBezTo>
                  <a:pt x="406" y="1303"/>
                  <a:pt x="441" y="1207"/>
                  <a:pt x="487" y="1141"/>
                </a:cubicBezTo>
                <a:cubicBezTo>
                  <a:pt x="501" y="1098"/>
                  <a:pt x="529" y="1071"/>
                  <a:pt x="556" y="1038"/>
                </a:cubicBezTo>
                <a:cubicBezTo>
                  <a:pt x="577" y="1013"/>
                  <a:pt x="589" y="983"/>
                  <a:pt x="604" y="955"/>
                </a:cubicBezTo>
                <a:cubicBezTo>
                  <a:pt x="623" y="921"/>
                  <a:pt x="649" y="885"/>
                  <a:pt x="672" y="853"/>
                </a:cubicBezTo>
                <a:cubicBezTo>
                  <a:pt x="683" y="820"/>
                  <a:pt x="707" y="779"/>
                  <a:pt x="727" y="750"/>
                </a:cubicBezTo>
                <a:cubicBezTo>
                  <a:pt x="747" y="689"/>
                  <a:pt x="718" y="771"/>
                  <a:pt x="748" y="709"/>
                </a:cubicBezTo>
                <a:cubicBezTo>
                  <a:pt x="759" y="687"/>
                  <a:pt x="760" y="668"/>
                  <a:pt x="775" y="647"/>
                </a:cubicBezTo>
                <a:cubicBezTo>
                  <a:pt x="784" y="610"/>
                  <a:pt x="791" y="583"/>
                  <a:pt x="796" y="544"/>
                </a:cubicBezTo>
                <a:cubicBezTo>
                  <a:pt x="789" y="459"/>
                  <a:pt x="778" y="343"/>
                  <a:pt x="727" y="270"/>
                </a:cubicBezTo>
                <a:cubicBezTo>
                  <a:pt x="715" y="236"/>
                  <a:pt x="707" y="197"/>
                  <a:pt x="686" y="167"/>
                </a:cubicBezTo>
                <a:cubicBezTo>
                  <a:pt x="681" y="153"/>
                  <a:pt x="677" y="140"/>
                  <a:pt x="672" y="126"/>
                </a:cubicBezTo>
                <a:cubicBezTo>
                  <a:pt x="670" y="119"/>
                  <a:pt x="665" y="105"/>
                  <a:pt x="665" y="105"/>
                </a:cubicBezTo>
                <a:cubicBezTo>
                  <a:pt x="667" y="91"/>
                  <a:pt x="664" y="44"/>
                  <a:pt x="686" y="30"/>
                </a:cubicBezTo>
                <a:cubicBezTo>
                  <a:pt x="698" y="22"/>
                  <a:pt x="727" y="16"/>
                  <a:pt x="727" y="16"/>
                </a:cubicBezTo>
                <a:cubicBezTo>
                  <a:pt x="774" y="28"/>
                  <a:pt x="737" y="18"/>
                  <a:pt x="796" y="37"/>
                </a:cubicBezTo>
                <a:cubicBezTo>
                  <a:pt x="803" y="39"/>
                  <a:pt x="816" y="43"/>
                  <a:pt x="816" y="43"/>
                </a:cubicBezTo>
                <a:cubicBezTo>
                  <a:pt x="826" y="73"/>
                  <a:pt x="847" y="96"/>
                  <a:pt x="857" y="126"/>
                </a:cubicBezTo>
                <a:cubicBezTo>
                  <a:pt x="848" y="151"/>
                  <a:pt x="856" y="143"/>
                  <a:pt x="837" y="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00" y="364500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451640" y="335772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236000" y="2997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51640" y="263700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67640" y="2205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85080" y="184464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28000" y="141300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12000" y="98100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8EAE-1C76-44FE-AD15-1EE862FB87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14 -0.53333 C -0.02222 -0.51898 -0.02292 -0.50486 -0.02379 -0.49027 C -0.02309 -0.47175 -0.02535 -0.4574 -0.01771 -0.44282 C -0.01632 -0.43611 -0.01302 -0.42962 -0.01059 -0.42361 C -0.0092 -0.42036 -0.00747 -0.41736 -0.00591 -0.41411 C -0.00504 -0.41249 -0.00347 -0.40949 -0.00347 -0.40949 C -0.00052 -0.39791 0.00451 -0.38634 0.00955 -0.37615 C 0.01024 -0.37499 0.01024 -0.37291 0.01076 -0.37129 C 0.01146 -0.36967 0.01232 -0.36851 0.01319 -0.36666 C 0.01545 -0.3581 0.01597 -0.35092 0.01666 -0.34143 C 0.01493 -0.31759 0.01024 -0.29398 3.88889E-006 -0.27453 C -0.00139 -0.26782 -0.00417 -0.26134 -0.00712 -0.25578 C -0.00868 -0.25231 -0.01025 -0.2493 -0.01181 -0.24583 C -0.0125 -0.24421 -0.01424 -0.2412 -0.01424 -0.2412 C -0.01754 -0.22777 -0.02622 -0.21481 -0.03212 -0.203 C -0.03455 -0.19837 -0.03681 -0.19351 -0.03924 -0.18911 C -0.04011 -0.18726 -0.04167 -0.18402 -0.04167 -0.18402 C -0.04462 -0.17013 -0.04028 -0.18911 -0.04514 -0.17476 C -0.05122 -0.15671 -0.04427 -0.17152 -0.05 -0.16018 C -0.0507 -0.15694 -0.05087 -0.1537 -0.05226 -0.15069 C -0.05313 -0.1493 -0.05417 -0.14768 -0.05469 -0.14583 C -0.05573 -0.14305 -0.05712 -0.13634 -0.05712 -0.13634 C -0.05677 -0.128 -0.0566 -0.11944 -0.05591 -0.11111 C -0.05434 -0.0912 -0.04479 -0.07754 -0.03681 -0.0618 C -0.03229 -0.05277 -0.02813 -0.04074 -0.02136 -0.03472 C -0.01389 -0.0206 -0.02396 -0.03796 -0.01545 -0.02847 C -0.00834 -0.0206 -0.01788 -0.02546 -0.00938 -0.02222 C -0.00834 -0.01689 -0.00347 -0.00786 -0.00347 -0.00786 C -0.00191 -0.00161 -0.00313 -0.00416 3.88889E-006 7.40741E-006 E">
                                      <p:cBhvr>
                                        <p:cTn id="88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2 -0.4794 C 0.01632 -0.44884 0.01528 -0.44745 0.01771 -0.41273 C 0.01823 -0.4044 0.03142 -0.37824 0.03559 -0.36967 C 0.03767 -0.36551 0.03889 -0.35995 0.04045 -0.35555 C 0.04826 -0.33403 0.05382 -0.31458 0.0559 -0.29051 C 0.05417 -0.27384 0.05226 -0.25995 0.04514 -0.24606 C 0.04271 -0.2412 0.04132 -0.23657 0.03924 -0.23171 C 0.03785 -0.2287 0.03437 -0.22222 0.03437 -0.22222 C 0.03246 -0.21366 0.03403 -0.21898 0.02847 -0.20787 C 0.0276 -0.20625 0.02604 -0.20301 0.02604 -0.20301 C 0.02413 -0.19467 0.02569 -0.19977 0.02014 -0.18889 C 0.01927 -0.18727 0.01771 -0.18403 0.01771 -0.18403 C 0.0158 -0.17569 0.01736 -0.18079 0.0118 -0.16967 C 0.00816 -0.16227 0.00608 -0.1537 0.00226 -0.14606 C 0.00069 -0.14305 -0.00087 -0.13981 -0.00243 -0.13657 C -0.00313 -0.13495 -0.00486 -0.13171 -0.00486 -0.13171 C -0.00642 -0.12546 -0.00903 -0.11829 -0.01198 -0.11273 C -0.01406 -0.10417 -0.01615 -0.09606 -0.01788 -0.08727 C -0.01632 -0.06412 -0.01007 -0.04282 -0.00486 -0.0206 C -0.00347 -0.01481 2.5E-006 -0.00648 2.5E-006 3.33333E-006 E">
                                      <p:cBhvr>
                                        <p:cTn id="94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45 -0.43172 C 0.04114 -0.40672 0.04062 -0.38056 0.04409 -0.35556 C 0.04461 -0.35232 0.04687 -0.34144 0.04774 -0.33959 C 0.05156 -0.33195 0.05538 -0.32385 0.05833 -0.31574 C 0.06007 -0.31088 0.06441 -0.30162 0.06441 -0.30162 C 0.06562 -0.29607 0.06649 -0.29213 0.06909 -0.28727 C 0.06927 -0.28658 0.07204 -0.2757 0.07274 -0.27292 C 0.07343 -0.26968 0.075 -0.26343 0.075 -0.26343 C 0.0743 -0.24028 0.07621 -0.21112 0.06545 -0.19051 C 0.06423 -0.18496 0.06336 -0.18102 0.06076 -0.17616 C 0.05659 -0.15949 0.04774 -0.14422 0.04166 -0.12848 C 0.03993 -0.12385 0.03889 -0.11852 0.03698 -0.11412 C 0.03559 -0.11088 0.03211 -0.10463 0.03211 -0.10463 C 0.0302 -0.0963 0.03177 -0.10139 0.02621 -0.09051 C 0.02152 -0.08102 0.01788 -0.06968 0.01076 -0.06343 C 0.01041 -0.06274 0.00503 -0.05186 0.00364 -0.04908 C 0.00277 -0.04746 0.00121 -0.04445 0.00121 -0.04445 C -0.00052 -0.03774 -0.00296 -0.03218 -0.00469 -0.02524 C -0.00504 -0.02362 -0.00591 -0.02061 -0.00591 -0.02061 C -0.00573 -0.01829 -0.00348 2.59259E-006 4.44444E-006 2.59259E-006 E">
                                      <p:cBhvr>
                                        <p:cTn id="100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46 -0.36667 C 0.01042 -0.34329 0.01094 -0.31181 0.02153 -0.29051 C 0.02553 -0.28264 0.02952 -0.27454 0.03334 -0.26667 C 0.0356 -0.26204 0.03942 -0.25231 0.03942 -0.25231 C 0.0408 -0.24583 0.04358 -0.23889 0.04653 -0.23333 C 0.04931 -0.22245 0.04601 -0.23588 0.05001 -0.21898 C 0.0507 -0.21574 0.05244 -0.20949 0.05244 -0.20949 C 0.05209 -0.19792 0.05209 -0.18611 0.05122 -0.17454 C 0.05053 -0.16643 0.04653 -0.15787 0.0441 -0.15069 C 0.04133 -0.14259 0.03837 -0.13472 0.03577 -0.12685 C 0.03473 -0.12384 0.03473 -0.12014 0.03334 -0.11736 C 0.02952 -0.10972 0.0257 -0.10162 0.02275 -0.09352 C 0.02101 -0.08866 0.01667 -0.0794 0.01667 -0.0794 C 0.01546 -0.07477 0.0139 -0.06944 0.01199 -0.06505 C 0.0106 -0.06181 0.00712 -0.05556 0.00712 -0.05556 C 0.00435 -0.04259 -0.00086 -0.03079 -0.00347 -0.01736 C -0.00381 -0.01528 -0.00416 -0.01319 -0.00468 -0.01111 C -0.00538 -0.00787 -0.00711 -0.00162 -0.00711 -0.00162 C -0.00242 0.00046 -0.00468 1.85185E-006 5.55556E-006 1.85185E-006 E">
                                      <p:cBhvr>
                                        <p:cTn id="105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31899 C 0.00243 -0.31413 0.00122 -0.30926 -0.00121 -0.30463 C -0.0052 -0.27917 -0.00764 -0.24954 0.00365 -0.22686 C 0.00486 -0.22176 0.00955 -0.21274 0.00955 -0.21274 C 0.01094 -0.20718 0.01302 -0.20325 0.01545 -0.19838 C 0.01754 -0.18982 0.0224 -0.18195 0.02622 -0.17454 C 0.03056 -0.16598 0.03125 -0.15463 0.03577 -0.14607 C 0.03542 -0.12639 0.03525 -0.10695 0.03455 -0.08727 C 0.03438 -0.08218 0.03056 -0.07686 0.02865 -0.07292 C 0.0224 -0.06019 0.01615 -0.04746 0.00955 -0.03496 C 0.00625 -0.022 -5.55556E-007 -0.01505 -5.55556E-007 -5.55556E-006 E">
                                      <p:cBhvr>
                                        <p:cTn id="110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1 -0.27014 C -0.02101 -0.26157 -0.02413 -0.25463 -0.02622 -0.24629 C -0.02743 -0.24143 -0.02969 -0.23194 -0.02969 -0.23194 C -0.02882 -0.21134 -0.03056 -0.20833 -0.02743 -0.19537 C -0.02674 -0.19213 -0.02639 -0.18866 -0.025 -0.18588 C -0.02344 -0.18264 -0.02014 -0.17639 -0.02014 -0.17639 C -0.01788 -0.1662 -0.01302 -0.15671 -0.00834 -0.14792 C -0.00643 -0.14004 -0.00313 -0.13125 -5.55556E-007 -0.1243 C 0.00139 -0.12083 0.00486 -0.11481 0.00486 -0.11481 C 0.00642 -0.10787 0.00955 -0.10185 0.01198 -0.09537 C 0.01389 -0.09028 0.01406 -0.08634 0.01666 -0.08125 C 0.01962 -0.06991 0.02118 -0.05278 0.01076 -0.04792 C 0.00989 -0.04629 0.00937 -0.04421 0.00833 -0.04305 C 0.00746 -0.04213 0.00573 -0.04259 0.00486 -0.04143 C 0.00399 -0.04028 0.00434 -0.03819 0.00364 -0.0368 C 0.00226 -0.03356 -0.00122 -0.02731 -0.00122 -0.02731 C -0.00087 -0.01829 -5.55556E-007 -0.00023 -5.55556E-007 -0.00023 E">
                                      <p:cBhvr>
                                        <p:cTn id="115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65 -0.20348 C -0.03056 -0.19213 -0.03351 -0.18125 -0.03576 -0.17014 C -0.03507 -0.1507 -0.03767 -0.13473 -0.02969 -0.11945 C -0.02778 -0.11065 -0.02222 -0.10325 -0.02031 -0.09561 C -0.01858 -0.08843 -0.01389 -0.08334 -0.01198 -0.07639 C -0.01024 -0.06991 -0.00764 -0.0632 -0.00469 -0.05741 C -0.0033 -0.05093 -0.00052 -0.04399 0.00243 -0.03866 C 0.00556 -0.0257 0.00642 -0.02061 0.00365 -0.00371 C 0.0033 -0.00162 2.5E-006 -0.00024 2.5E-006 -0.00024 E">
                                      <p:cBhvr>
                                        <p:cTn id="120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54 -0.13496 C -0.00815 -0.1294 -0.00694 -0.12153 -0.00486 -0.11597 C -0.00295 -0.11065 -0.00034 -0.10579 0.00122 -0.1 C 0.00417 -0.08866 0.00556 -0.07639 0.00834 -0.06505 C 0.0099 -0.04722 0.01563 -0.01042 6.11111E-006 -3.7037E-007 E">
                                      <p:cBhvr>
                                        <p:cTn id="125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2016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ыделение памяти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ew(p);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826920" y="-360"/>
            <a:ext cx="800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Добавление элемента в стек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2421000"/>
            <a:ext cx="25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анесение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^.d :=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^.s :=  '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етя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78560" y="105264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вязь с предыдущ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^.p := t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631960" y="912960"/>
            <a:ext cx="2171880" cy="1339560"/>
            <a:chOff x="2631960" y="912960"/>
            <a:chExt cx="2171880" cy="1339560"/>
          </a:xfrm>
        </p:grpSpPr>
        <p:sp>
          <p:nvSpPr>
            <p:cNvPr id="251" name=""/>
            <p:cNvSpPr/>
            <p:nvPr/>
          </p:nvSpPr>
          <p:spPr>
            <a:xfrm>
              <a:off x="2637360" y="912960"/>
              <a:ext cx="2166480" cy="133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31960" y="1593720"/>
              <a:ext cx="1942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60920" y="1822680"/>
              <a:ext cx="5846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55880" y="1022040"/>
              <a:ext cx="35352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09400" y="1022040"/>
              <a:ext cx="35352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89440" y="1822680"/>
              <a:ext cx="5846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856240" y="1440720"/>
              <a:ext cx="360" cy="49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884400" y="1022040"/>
              <a:ext cx="707400" cy="424080"/>
              <a:chOff x="3884400" y="1022040"/>
              <a:chExt cx="707400" cy="424080"/>
            </a:xfrm>
          </p:grpSpPr>
          <p:sp>
            <p:nvSpPr>
              <p:cNvPr id="259" name=""/>
              <p:cNvSpPr/>
              <p:nvPr/>
            </p:nvSpPr>
            <p:spPr>
              <a:xfrm>
                <a:off x="3884400" y="1022040"/>
                <a:ext cx="35352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237920" y="1022040"/>
                <a:ext cx="35388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37920" y="102204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4237560" y="102204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 flipV="1">
              <a:off x="3884400" y="1479240"/>
              <a:ext cx="360" cy="49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831600" y="3865680"/>
            <a:ext cx="2171880" cy="1339560"/>
            <a:chOff x="831600" y="3865680"/>
            <a:chExt cx="2171880" cy="1339560"/>
          </a:xfrm>
        </p:grpSpPr>
        <p:sp>
          <p:nvSpPr>
            <p:cNvPr id="265" name=""/>
            <p:cNvSpPr/>
            <p:nvPr/>
          </p:nvSpPr>
          <p:spPr>
            <a:xfrm>
              <a:off x="837000" y="3865680"/>
              <a:ext cx="2166480" cy="133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1600" y="4546440"/>
              <a:ext cx="1942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60560" y="4775400"/>
              <a:ext cx="5846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55520" y="3974760"/>
              <a:ext cx="35352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ет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09040" y="3974760"/>
              <a:ext cx="35352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89080" y="4775400"/>
              <a:ext cx="5846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055880" y="4393440"/>
              <a:ext cx="360" cy="49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2084040" y="3974760"/>
              <a:ext cx="707400" cy="424080"/>
              <a:chOff x="2084040" y="3974760"/>
              <a:chExt cx="707400" cy="424080"/>
            </a:xfrm>
          </p:grpSpPr>
          <p:sp>
            <p:nvSpPr>
              <p:cNvPr id="273" name=""/>
              <p:cNvSpPr/>
              <p:nvPr/>
            </p:nvSpPr>
            <p:spPr>
              <a:xfrm>
                <a:off x="2084040" y="3974760"/>
                <a:ext cx="35352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37560" y="3974760"/>
                <a:ext cx="35388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37560" y="397476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2437200" y="397476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V="1">
              <a:off x="2084040" y="4431960"/>
              <a:ext cx="360" cy="49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945040" y="1849680"/>
            <a:ext cx="2171880" cy="1339200"/>
            <a:chOff x="5945040" y="1849680"/>
            <a:chExt cx="2171880" cy="1339200"/>
          </a:xfrm>
        </p:grpSpPr>
        <p:sp>
          <p:nvSpPr>
            <p:cNvPr id="279" name=""/>
            <p:cNvSpPr/>
            <p:nvPr/>
          </p:nvSpPr>
          <p:spPr>
            <a:xfrm>
              <a:off x="5950440" y="1849680"/>
              <a:ext cx="2166480" cy="133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45040" y="2530440"/>
              <a:ext cx="1942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74000" y="2759040"/>
              <a:ext cx="5846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68960" y="1958760"/>
              <a:ext cx="35352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ет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22480" y="1958760"/>
              <a:ext cx="35352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02520" y="2759040"/>
              <a:ext cx="5846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169320" y="2376720"/>
              <a:ext cx="360" cy="49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7197480" y="1958760"/>
              <a:ext cx="707400" cy="424080"/>
              <a:chOff x="7197480" y="1958760"/>
              <a:chExt cx="707400" cy="424080"/>
            </a:xfrm>
          </p:grpSpPr>
          <p:sp>
            <p:nvSpPr>
              <p:cNvPr id="287" name=""/>
              <p:cNvSpPr/>
              <p:nvPr/>
            </p:nvSpPr>
            <p:spPr>
              <a:xfrm>
                <a:off x="7197480" y="1958760"/>
                <a:ext cx="35352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551000" y="1958760"/>
                <a:ext cx="35388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551000" y="195876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7550640" y="195876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 flipV="1">
              <a:off x="7197480" y="2415600"/>
              <a:ext cx="360" cy="49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730920" y="2060640"/>
            <a:ext cx="57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26880" y="3500280"/>
            <a:ext cx="255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4.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но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казателя на верш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op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:=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566040" y="3499200"/>
            <a:ext cx="2173320" cy="1339200"/>
            <a:chOff x="6566040" y="3499200"/>
            <a:chExt cx="2173320" cy="1339200"/>
          </a:xfrm>
        </p:grpSpPr>
        <p:sp>
          <p:nvSpPr>
            <p:cNvPr id="295" name=""/>
            <p:cNvSpPr/>
            <p:nvPr/>
          </p:nvSpPr>
          <p:spPr>
            <a:xfrm>
              <a:off x="6571080" y="3499200"/>
              <a:ext cx="2168280" cy="133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66040" y="4179960"/>
              <a:ext cx="19443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94640" y="4408560"/>
              <a:ext cx="58500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89600" y="3608280"/>
              <a:ext cx="35388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ет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43480" y="3608280"/>
              <a:ext cx="35388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24240" y="4408560"/>
              <a:ext cx="58500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790320" y="4026240"/>
              <a:ext cx="360" cy="49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7819200" y="3608280"/>
              <a:ext cx="707760" cy="424080"/>
              <a:chOff x="7819200" y="3608280"/>
              <a:chExt cx="707760" cy="424080"/>
            </a:xfrm>
          </p:grpSpPr>
          <p:sp>
            <p:nvSpPr>
              <p:cNvPr id="303" name=""/>
              <p:cNvSpPr/>
              <p:nvPr/>
            </p:nvSpPr>
            <p:spPr>
              <a:xfrm>
                <a:off x="7819200" y="3608280"/>
                <a:ext cx="35388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173080" y="3608280"/>
                <a:ext cx="35388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173080" y="360828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8172720" y="360828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7361640" y="383688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298680" y="5030640"/>
            <a:ext cx="3875040" cy="1614600"/>
            <a:chOff x="3298680" y="5030640"/>
            <a:chExt cx="3875040" cy="1614600"/>
          </a:xfrm>
        </p:grpSpPr>
        <p:sp>
          <p:nvSpPr>
            <p:cNvPr id="309" name=""/>
            <p:cNvSpPr/>
            <p:nvPr/>
          </p:nvSpPr>
          <p:spPr>
            <a:xfrm>
              <a:off x="3298680" y="5030640"/>
              <a:ext cx="3875040" cy="161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98680" y="5835240"/>
              <a:ext cx="387504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42920" y="6015240"/>
              <a:ext cx="89784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30840" y="5114520"/>
              <a:ext cx="441720" cy="53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75080" y="5114520"/>
              <a:ext cx="441720" cy="53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6002280" y="5114520"/>
              <a:ext cx="884160" cy="532080"/>
              <a:chOff x="6002280" y="5114520"/>
              <a:chExt cx="884160" cy="532080"/>
            </a:xfrm>
          </p:grpSpPr>
          <p:sp>
            <p:nvSpPr>
              <p:cNvPr id="315" name=""/>
              <p:cNvSpPr/>
              <p:nvPr/>
            </p:nvSpPr>
            <p:spPr>
              <a:xfrm>
                <a:off x="6002280" y="5114520"/>
                <a:ext cx="442080" cy="532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44360" y="5114520"/>
                <a:ext cx="442080" cy="532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44360" y="5114520"/>
                <a:ext cx="442080" cy="53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6444360" y="5114520"/>
                <a:ext cx="442080" cy="53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 flipV="1">
              <a:off x="3742920" y="5654520"/>
              <a:ext cx="720" cy="52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462280" y="5384520"/>
              <a:ext cx="537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9400" y="5114520"/>
              <a:ext cx="441720" cy="53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03640" y="5114520"/>
              <a:ext cx="441720" cy="53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290840" y="5384520"/>
              <a:ext cx="537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45BB9-938D-49FD-BE81-1B12D9A90E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2000" fill="hold"/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349200"/>
            <a:ext cx="7678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Лекция 5. Работа с динамической памятью 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Указатели: виды, описание, использование. Динамические переменные. Динамические структуры данных: стек, очередь, линейный список, бинарное дерево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052D-3BDA-4B72-A85C-F1866F469A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Выборка из стека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338292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ыборка данных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ith top^ do writeln (d, s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281760" y="3002400"/>
            <a:ext cx="2172960" cy="1339200"/>
            <a:chOff x="3281760" y="3002400"/>
            <a:chExt cx="2172960" cy="1339200"/>
          </a:xfrm>
        </p:grpSpPr>
        <p:sp>
          <p:nvSpPr>
            <p:cNvPr id="327" name=""/>
            <p:cNvSpPr/>
            <p:nvPr/>
          </p:nvSpPr>
          <p:spPr>
            <a:xfrm>
              <a:off x="3286800" y="3002400"/>
              <a:ext cx="2167920" cy="133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81760" y="3683160"/>
              <a:ext cx="1944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10360" y="3911760"/>
              <a:ext cx="7952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top,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05320" y="3111480"/>
              <a:ext cx="35388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ет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59200" y="3111480"/>
              <a:ext cx="35388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39600" y="3911760"/>
              <a:ext cx="58500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506040" y="3529440"/>
              <a:ext cx="360" cy="49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4534560" y="3111480"/>
              <a:ext cx="707760" cy="424080"/>
              <a:chOff x="4534560" y="3111480"/>
              <a:chExt cx="707760" cy="424080"/>
            </a:xfrm>
          </p:grpSpPr>
          <p:sp>
            <p:nvSpPr>
              <p:cNvPr id="335" name=""/>
              <p:cNvSpPr/>
              <p:nvPr/>
            </p:nvSpPr>
            <p:spPr>
              <a:xfrm>
                <a:off x="4534560" y="3111480"/>
                <a:ext cx="35388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888440" y="3111480"/>
                <a:ext cx="35388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888440" y="311148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4888080" y="311148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4077000" y="334008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281760" y="4802400"/>
            <a:ext cx="2172960" cy="1339200"/>
            <a:chOff x="3281760" y="4802400"/>
            <a:chExt cx="2172960" cy="1339200"/>
          </a:xfrm>
        </p:grpSpPr>
        <p:sp>
          <p:nvSpPr>
            <p:cNvPr id="341" name=""/>
            <p:cNvSpPr/>
            <p:nvPr/>
          </p:nvSpPr>
          <p:spPr>
            <a:xfrm>
              <a:off x="3286800" y="4802400"/>
              <a:ext cx="2167920" cy="133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81760" y="5483160"/>
              <a:ext cx="1944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10360" y="5711760"/>
              <a:ext cx="7952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05320" y="4911480"/>
              <a:ext cx="35388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ет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59200" y="4911480"/>
              <a:ext cx="35388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39600" y="5711760"/>
              <a:ext cx="58500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3506040" y="5329440"/>
              <a:ext cx="360" cy="49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4534560" y="4911480"/>
              <a:ext cx="707760" cy="424080"/>
              <a:chOff x="4534560" y="4911480"/>
              <a:chExt cx="707760" cy="424080"/>
            </a:xfrm>
          </p:grpSpPr>
          <p:sp>
            <p:nvSpPr>
              <p:cNvPr id="349" name=""/>
              <p:cNvSpPr/>
              <p:nvPr/>
            </p:nvSpPr>
            <p:spPr>
              <a:xfrm>
                <a:off x="4534560" y="4911480"/>
                <a:ext cx="35388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888440" y="4911480"/>
                <a:ext cx="35388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888440" y="491148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4888080" y="4911480"/>
                <a:ext cx="353880" cy="4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4077000" y="514008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4534560" y="5368320"/>
              <a:ext cx="720" cy="49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34560" y="5711040"/>
              <a:ext cx="7952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85440" y="1389240"/>
            <a:ext cx="2565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4.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свободить 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ispose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377400" y="2426040"/>
            <a:ext cx="2172960" cy="1341000"/>
            <a:chOff x="6377400" y="2426040"/>
            <a:chExt cx="2172960" cy="1341000"/>
          </a:xfrm>
        </p:grpSpPr>
        <p:sp>
          <p:nvSpPr>
            <p:cNvPr id="358" name=""/>
            <p:cNvSpPr/>
            <p:nvPr/>
          </p:nvSpPr>
          <p:spPr>
            <a:xfrm>
              <a:off x="6382440" y="2426040"/>
              <a:ext cx="2167920" cy="134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77400" y="3107520"/>
              <a:ext cx="1944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06000" y="3336480"/>
              <a:ext cx="795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00960" y="2535120"/>
              <a:ext cx="353880" cy="42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ет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54840" y="2535120"/>
              <a:ext cx="353880" cy="42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35240" y="3336480"/>
              <a:ext cx="5850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601680" y="2953800"/>
              <a:ext cx="36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7630200" y="2535120"/>
              <a:ext cx="707760" cy="424800"/>
              <a:chOff x="7630200" y="2535120"/>
              <a:chExt cx="707760" cy="424800"/>
            </a:xfrm>
          </p:grpSpPr>
          <p:sp>
            <p:nvSpPr>
              <p:cNvPr id="366" name=""/>
              <p:cNvSpPr/>
              <p:nvPr/>
            </p:nvSpPr>
            <p:spPr>
              <a:xfrm>
                <a:off x="7630200" y="2535120"/>
                <a:ext cx="353880" cy="42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984080" y="2535120"/>
                <a:ext cx="353880" cy="42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984080" y="2535120"/>
                <a:ext cx="353880" cy="42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7983720" y="2535120"/>
                <a:ext cx="353880" cy="42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7172640" y="2764080"/>
              <a:ext cx="68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630200" y="2992680"/>
              <a:ext cx="7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30200" y="3335760"/>
              <a:ext cx="79524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86480" y="2535120"/>
              <a:ext cx="800280" cy="800640"/>
            </a:xfrm>
            <a:prstGeom prst="line">
              <a:avLst/>
            </a:prstGeom>
            <a:ln w="381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486480" y="2536920"/>
              <a:ext cx="914760" cy="571680"/>
            </a:xfrm>
            <a:prstGeom prst="line">
              <a:avLst/>
            </a:prstGeom>
            <a:ln w="381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900720" y="3429000"/>
            <a:ext cx="22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апомнить ук-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 := t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71640" y="5229360"/>
            <a:ext cx="18417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новить 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а верш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op := top^.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6D04-EB0E-4788-862C-B48DADF0F1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ример работы со стеком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ограмма формирует стек из пяти целых чисел и их текстового представления и выводит его на экран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gram stack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nst n = 5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node = ^node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de = record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 : wor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 : string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 : pnode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r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op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node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: wor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: string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nst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ext : array [1 .. n]  of string =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'one', 'two', 'three', 'four', 'five'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FE84-849F-41A9-B8D2-F7438023F6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02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{ -------------------------------- занесение в стек ----- }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unction push(top : pnode; d : word; const s : string) : pnode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r p : pnode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ew(p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^.d := d;     p^.s := s;     p^.p := top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ush := p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84360" y="3500280"/>
            <a:ext cx="8281800" cy="29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{ -------------------------------- выборка из стека -----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unction pop(top : pnode; var d : word; var s : string) : pno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r p : pno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 := top^.d;         s := top^.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op := top^.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ispose(to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C207-FE4A-464C-9E3F-B7F4BC24D8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{ ------------------------------- главная программа ----- }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top := nil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{ занесение в стек: }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r i := 1 to n do top := push(top, i, text[i]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{ выборка из стека: }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hile top &lt;&gt; nil do begi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op := pop(top, i, s);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riteln(i:2, s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110A-1B13-4BF3-9F04-0F64284F16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4000" y="-1717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Очередь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8002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Реализует принцип обслуживания FIFO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865400" y="2355120"/>
            <a:ext cx="3805920" cy="1613520"/>
            <a:chOff x="4865400" y="2355120"/>
            <a:chExt cx="3805920" cy="1613520"/>
          </a:xfrm>
        </p:grpSpPr>
        <p:sp>
          <p:nvSpPr>
            <p:cNvPr id="385" name=""/>
            <p:cNvSpPr/>
            <p:nvPr/>
          </p:nvSpPr>
          <p:spPr>
            <a:xfrm>
              <a:off x="4865400" y="2355120"/>
              <a:ext cx="3805920" cy="161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6120" y="3127320"/>
              <a:ext cx="380520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90920" y="3287880"/>
              <a:ext cx="77940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be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5205240" y="2435760"/>
              <a:ext cx="852480" cy="511200"/>
              <a:chOff x="5205240" y="2435760"/>
              <a:chExt cx="852480" cy="511200"/>
            </a:xfrm>
          </p:grpSpPr>
          <p:sp>
            <p:nvSpPr>
              <p:cNvPr id="389" name=""/>
              <p:cNvSpPr/>
              <p:nvPr/>
            </p:nvSpPr>
            <p:spPr>
              <a:xfrm>
                <a:off x="5205240" y="2435760"/>
                <a:ext cx="426240" cy="511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631480" y="2435760"/>
                <a:ext cx="426240" cy="511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631480" y="2435760"/>
                <a:ext cx="426240" cy="51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5631480" y="2435760"/>
                <a:ext cx="426240" cy="51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 flipV="1">
              <a:off x="5290920" y="2946600"/>
              <a:ext cx="72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205240" y="2954160"/>
              <a:ext cx="360" cy="69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848640" y="2522160"/>
              <a:ext cx="1557000" cy="430560"/>
            </a:xfrm>
            <a:prstGeom prst="borderCallout1">
              <a:avLst>
                <a:gd name="adj1" fmla="val 18750"/>
                <a:gd name="adj2" fmla="val -8333"/>
                <a:gd name="adj3" fmla="val 61634"/>
                <a:gd name="adj4" fmla="val -159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инамическая памя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859280" y="4514760"/>
            <a:ext cx="3875400" cy="1576800"/>
            <a:chOff x="4859280" y="4514760"/>
            <a:chExt cx="3875400" cy="1576800"/>
          </a:xfrm>
        </p:grpSpPr>
        <p:sp>
          <p:nvSpPr>
            <p:cNvPr id="397" name=""/>
            <p:cNvSpPr/>
            <p:nvPr/>
          </p:nvSpPr>
          <p:spPr>
            <a:xfrm>
              <a:off x="4908240" y="4514760"/>
              <a:ext cx="3788280" cy="157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05840" y="4596480"/>
              <a:ext cx="431640" cy="51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840360" y="4596480"/>
              <a:ext cx="431640" cy="51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7551360" y="4596480"/>
              <a:ext cx="864360" cy="519840"/>
              <a:chOff x="7551360" y="4596480"/>
              <a:chExt cx="864360" cy="519840"/>
            </a:xfrm>
          </p:grpSpPr>
          <p:sp>
            <p:nvSpPr>
              <p:cNvPr id="401" name=""/>
              <p:cNvSpPr/>
              <p:nvPr/>
            </p:nvSpPr>
            <p:spPr>
              <a:xfrm>
                <a:off x="7551360" y="4596480"/>
                <a:ext cx="432000" cy="519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983360" y="4596480"/>
                <a:ext cx="432360" cy="519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983360" y="4596480"/>
                <a:ext cx="432360" cy="51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7983000" y="4596480"/>
                <a:ext cx="432360" cy="51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 flipV="1">
              <a:off x="7023240" y="4860000"/>
              <a:ext cx="5252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60680" y="4596480"/>
              <a:ext cx="431640" cy="51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94840" y="4596480"/>
              <a:ext cx="431640" cy="51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5878080" y="4860000"/>
              <a:ext cx="5252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59280" y="5299920"/>
              <a:ext cx="387540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97760" y="5430600"/>
              <a:ext cx="71784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be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297760" y="5083200"/>
              <a:ext cx="720" cy="51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589520" y="5091120"/>
              <a:ext cx="360" cy="51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89520" y="5443200"/>
              <a:ext cx="71784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,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55640" y="1700280"/>
            <a:ext cx="489600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чальное формирование очеред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(beg)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^.d := 100; beg^.s := '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^.p := ni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98560" y="4365720"/>
            <a:ext cx="394956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бавление элемента в конец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(p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^.d := 10; p^.s :=  '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т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^.p := ni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^.p := p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FF2C-B10C-40C8-B54A-421B32B465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Выборка элемента из начала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8163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ith beg^ do writeln (d, s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 := beg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eg := beg^.p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ispose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);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34040" y="2066760"/>
            <a:ext cx="3787560" cy="15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30920" y="2147760"/>
            <a:ext cx="43164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265800" y="2147760"/>
            <a:ext cx="43200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977160" y="2147760"/>
            <a:ext cx="863640" cy="520920"/>
            <a:chOff x="6977160" y="2147760"/>
            <a:chExt cx="863640" cy="520920"/>
          </a:xfrm>
        </p:grpSpPr>
        <p:sp>
          <p:nvSpPr>
            <p:cNvPr id="422" name=""/>
            <p:cNvSpPr/>
            <p:nvPr/>
          </p:nvSpPr>
          <p:spPr>
            <a:xfrm>
              <a:off x="6977160" y="2147760"/>
              <a:ext cx="431640" cy="52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408800" y="2147760"/>
              <a:ext cx="432000" cy="52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08800" y="2147760"/>
              <a:ext cx="432000" cy="52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7408800" y="2147760"/>
              <a:ext cx="432000" cy="52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6448320" y="2413080"/>
            <a:ext cx="525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86480" y="2147760"/>
            <a:ext cx="43164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19560" y="2147760"/>
            <a:ext cx="43200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03880" y="2413080"/>
            <a:ext cx="525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84720" y="2852640"/>
            <a:ext cx="387504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722840" y="2982960"/>
            <a:ext cx="71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b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722840" y="2635200"/>
            <a:ext cx="1440" cy="5176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015320" y="264312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015320" y="2995560"/>
            <a:ext cx="717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5830920" y="2635200"/>
            <a:ext cx="1440" cy="5176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32360" y="2982960"/>
            <a:ext cx="71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b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19560" y="3152880"/>
            <a:ext cx="554040" cy="0"/>
          </a:xfrm>
          <a:prstGeom prst="line">
            <a:avLst/>
          </a:prstGeom>
          <a:ln w="63360">
            <a:solidFill>
              <a:srgbClr val="ff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03600" y="2147760"/>
            <a:ext cx="1229040" cy="636840"/>
          </a:xfrm>
          <a:prstGeom prst="line">
            <a:avLst/>
          </a:prstGeom>
          <a:ln w="507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4560840" y="2238480"/>
            <a:ext cx="1112760" cy="396720"/>
          </a:xfrm>
          <a:prstGeom prst="line">
            <a:avLst/>
          </a:prstGeom>
          <a:ln w="507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788000" y="2997360"/>
            <a:ext cx="431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EB5B-BB1E-4571-AADC-4F2305462E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4000" y="-1717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Линейные списки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392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односвязные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двусвязные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066920" y="1341360"/>
            <a:ext cx="39258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кольцевые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842920" y="1557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916360" y="1628640"/>
            <a:ext cx="107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48360" y="1916280"/>
            <a:ext cx="369252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элемент списка содержит ключ, идентифицирующий этот элемен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042920" y="3213000"/>
            <a:ext cx="785016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со списк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ое формирование списка (создание первого элемент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ление элемента в конец спи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элемента с заданным ключ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ка элемента в заданное место списка (до или после элемента с заданным ключо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ение элемента с заданным ключ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рядочивание списка по клю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E1D0-F3AC-4C65-A027-2E17B738ED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ример работы со списком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002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рограмма, формирующая односвязный список из пяти элементов, содержащих число и его текстовое представление. Выполняет вставку и удаление заданного элемента. В качестве ключа используется число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39840" y="3711600"/>
            <a:ext cx="7435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linked_li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 n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ode = ^no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{ элемент списка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: wo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: st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: pno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924360" y="3141720"/>
            <a:ext cx="4753080" cy="398880"/>
            <a:chOff x="3924360" y="3141720"/>
            <a:chExt cx="4753080" cy="398880"/>
          </a:xfrm>
        </p:grpSpPr>
        <p:sp>
          <p:nvSpPr>
            <p:cNvPr id="452" name=""/>
            <p:cNvSpPr/>
            <p:nvPr/>
          </p:nvSpPr>
          <p:spPr>
            <a:xfrm>
              <a:off x="3924360" y="3141720"/>
              <a:ext cx="43200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356360" y="3141720"/>
              <a:ext cx="352908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885440" y="3141720"/>
              <a:ext cx="79200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2CB7-2222-413D-844F-DA26A6D55B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455840" y="687240"/>
            <a:ext cx="657216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указатель на начало списка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,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wor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t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wor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: array [1 .. n] of string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'one', 'two', 'three', 'four', 'five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02D4-3AFC-48BB-AE80-15512177D8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971640" y="333360"/>
            <a:ext cx="784836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авление элемента в конец спис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add(var beg : pnode; d : word; const s : strin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{ указатель на создаваемый элемент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           { указатель для просмотра списка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создание элемента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^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^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заполнение элемента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^.p := ni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beg = nil then beg :=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begi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{ список не пуст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t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^.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&lt;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il do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{ проход по списку до конца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 := t^.p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^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привязка нового элемента к последнему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F391-7344-475D-B13B-BA3E9F5FE30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Основные понятия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532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еременные для хранения адресов областей памяти называются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указателям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В указателе можно хранить адрес данных или программного кода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Адрес занимает четыре байта и хранится в виде двух слов, одно из которых определяет сегмент, второе — смещение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4365720"/>
            <a:ext cx="266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гмент ст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4726080"/>
            <a:ext cx="2658960" cy="6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гмент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5373720"/>
            <a:ext cx="2658960" cy="70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гмент к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3584520"/>
            <a:ext cx="2658960" cy="7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намическая 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042920" y="4076640"/>
            <a:ext cx="4001040" cy="1942920"/>
            <a:chOff x="1042920" y="4076640"/>
            <a:chExt cx="4001040" cy="1942920"/>
          </a:xfrm>
        </p:grpSpPr>
        <p:sp>
          <p:nvSpPr>
            <p:cNvPr id="59" name=""/>
            <p:cNvSpPr/>
            <p:nvPr/>
          </p:nvSpPr>
          <p:spPr>
            <a:xfrm>
              <a:off x="1500120" y="4419360"/>
              <a:ext cx="251460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Адрес сегмент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85920" y="4991040"/>
              <a:ext cx="2514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Смещен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00120" y="5447880"/>
              <a:ext cx="320040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Физический адре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3043440" y="4133880"/>
              <a:ext cx="113760" cy="3200400"/>
            </a:xfrm>
            <a:custGeom>
              <a:avLst/>
              <a:gdLst>
                <a:gd name="textAreaLeft" fmla="*/ 72720 w 113760"/>
                <a:gd name="textAreaRight" fmla="*/ 114120 w 11376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5400000">
              <a:off x="2700360" y="3104280"/>
              <a:ext cx="113040" cy="2514600"/>
            </a:xfrm>
            <a:custGeom>
              <a:avLst/>
              <a:gdLst>
                <a:gd name="textAreaLeft" fmla="*/ 72360 w 113040"/>
                <a:gd name="textAreaRight" fmla="*/ 113400 w 1130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5400000">
              <a:off x="3385800" y="3675960"/>
              <a:ext cx="113760" cy="2514600"/>
            </a:xfrm>
            <a:custGeom>
              <a:avLst/>
              <a:gdLst>
                <a:gd name="textAreaLeft" fmla="*/ 72720 w 113760"/>
                <a:gd name="textAreaRight" fmla="*/ 114120 w 11376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5400000">
              <a:off x="4300920" y="4019400"/>
              <a:ext cx="113760" cy="685440"/>
            </a:xfrm>
            <a:custGeom>
              <a:avLst/>
              <a:gdLst>
                <a:gd name="textAreaLeft" fmla="*/ 72720 w 113760"/>
                <a:gd name="textAreaRight" fmla="*/ 114120 w 11376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71720" y="5790960"/>
              <a:ext cx="571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 би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00680" y="4648320"/>
              <a:ext cx="57060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6 би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14880" y="4076640"/>
              <a:ext cx="56988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6 би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0" y="4076640"/>
              <a:ext cx="56988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 бит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15080" y="4419360"/>
              <a:ext cx="68544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42920" y="4533480"/>
              <a:ext cx="5713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57760" y="533412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7EAD8-229B-4709-BCE8-53D59F4AAD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950760" y="326880"/>
            <a:ext cx="7653600" cy="50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-------------------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 элемента по ключ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----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find(beg : pnode; key : word; var p, pp : pnode) : 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:= be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p &lt;&gt; nil do be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1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^.d = key then be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2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:= true; exit 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 := p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3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:= p^.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4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:= fal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47640" y="2421000"/>
            <a:ext cx="360360" cy="2016000"/>
          </a:xfrm>
          <a:custGeom>
            <a:avLst/>
            <a:gdLst>
              <a:gd name="textAreaLeft" fmla="*/ 105840 w 360360"/>
              <a:gd name="textAreaRight" fmla="*/ 360720 w 360360"/>
              <a:gd name="textAreaTop" fmla="*/ 83880 h 2016000"/>
              <a:gd name="textAreaBottom" fmla="*/ 193212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643280" y="2421000"/>
            <a:ext cx="1584360" cy="2087640"/>
          </a:xfrm>
          <a:custGeom>
            <a:avLst/>
            <a:gdLst>
              <a:gd name="textAreaLeft" fmla="*/ 0 w 1584360"/>
              <a:gd name="textAreaRight" fmla="*/ 1111320 w 158436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A6E9-7A52-4989-9AD8-9154EEE909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755640" y="260280"/>
            <a:ext cx="6696000" cy="61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 ----------------------------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авка элемен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----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insert(beg : pnode; key, d : word; const s : str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od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   { указатель на создаваемый элемент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ke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od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 указатель на искомый элемент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od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 указатель на предыдущий элемент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t find(beg, key, pkey, pp) then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 вставка не выполнена'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(p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1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^.d := d; p^.s := s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2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^.p := pkey^.p;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3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key^.p := p;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4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4932360" y="3751200"/>
            <a:ext cx="4211640" cy="27021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300720" y="6453360"/>
            <a:ext cx="47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74C4-261B-427D-9EDD-80360B9C15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384200" y="471600"/>
            <a:ext cx="7148520" cy="54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--------------------------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аление элеме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----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del(var beg : pnode; key : wor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указатель на удаляемый элемент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указатель на предыдущий элемент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 find(beg, key, p, pp) then beg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 удаление не выполнено')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^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{ удаление первого элемента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pp^.p := p^.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se(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D324-8BF4-4E40-8C16-F664AD34AD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166760" y="471600"/>
            <a:ext cx="765324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-----------------------------------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---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print(beg : pnod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указатель для просмотра списка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:= be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p &lt;&gt; nil do beg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(p^.d:3, p^.s)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в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^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{ переход к следующему элементу списка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30AD-442D-4E8C-A5C2-652205F8BAF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384200" y="398520"/>
            <a:ext cx="700416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------------------------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ая програм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----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 := 1 to 5 do add(beg, i, text[i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 beg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1 - вставка, 2 - удал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вывод, 4 - выход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(opti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option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 вставка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Ключ для вставки?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(ke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('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ляем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(i); readln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g, key, i, 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C2A8-2497-4283-BAD8-3CC9DD92F41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023840" y="542880"/>
            <a:ext cx="7651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: be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Ключ для удаления?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(ke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g, ke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: be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Вывод списка: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: exi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х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DC77-2D4F-4CE0-BCB0-DC7A4AAE13C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Бинарное дерево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392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Бинарное дерево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 —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инамическая структура данных, состоящая из узлов, каждый из которых содержит кроме данных не более двух ссылок на различные бинарные деревья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 каждый узел имеется ровно одна ссылка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чальный узел называется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корнем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дерева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5025960" y="160020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CCC4-79C4-40A9-83C1-946D1835932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Операции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ля бинарных деревьев определены операции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ключения узла в дерево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оиска по дереву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хода дерева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даления узла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Элемент дерева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node = ^node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ode = record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ata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: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ord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;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{ ключ 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left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: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node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;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{ указатель на левое поддерево 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ight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: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node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{ указатель на правое поддерево 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5508720" y="765000"/>
            <a:ext cx="3395520" cy="452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4544-C9D5-4202-9C69-E228D583AF5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Поиск по дереву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6408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function find(root : pnode; key : word; var p, 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                  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parent : pnode) : boolean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p := root;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  { поиск начинается от корня }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while p &lt;&gt; nil do begin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if key = p^.data then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{ такой узел есть }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begin find := true; exit end;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parent := p;   { запомнить ук-ль перед спуском }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if key &lt; p^.data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then p := p^.left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 { спуститься влево }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else p := p^.right;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{ спуститься вправо }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find := false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539640" y="2852640"/>
            <a:ext cx="360360" cy="2808360"/>
          </a:xfrm>
          <a:custGeom>
            <a:avLst/>
            <a:gdLst>
              <a:gd name="textAreaLeft" fmla="*/ 105840 w 360360"/>
              <a:gd name="textAreaRight" fmla="*/ 360720 w 360360"/>
              <a:gd name="textAreaTop" fmla="*/ 117000 h 2808360"/>
              <a:gd name="textAreaBottom" fmla="*/ 269136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427640" y="342900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374E-FD11-449C-B9BC-5752170891B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4000" y="-1717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Включение в дерево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41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procedure insert(var root : pnode; key : word)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var p, parent : pnode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if find(root, key, p, parent) then begin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writeln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(' такой элемент уже есть'); 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exit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; 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new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);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{ создание нового элемента }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p^.data := key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p^.left   := nil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p^.right := nil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if root = nil then root := p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{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первый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элемент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 }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else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{ присоед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е нового элемента к дереву}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if key &lt; parent^.data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then   parent^.left   := p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else   parent^.right  := p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0" lang="ru-RU" sz="19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5580000" y="119700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37FC-01BB-4A55-8C9D-1FC7A90250A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Виды указателей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2276280"/>
            <a:ext cx="2808360" cy="14396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тандартные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var p 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ointer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2276640"/>
            <a:ext cx="4897440" cy="234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пределяемые программис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ype pword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= ^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var pw : pword;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var pw 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^word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050560" y="1197000"/>
            <a:ext cx="2016360" cy="936720"/>
          </a:xfrm>
          <a:prstGeom prst="line">
            <a:avLst/>
          </a:prstGeom>
          <a:ln w="158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1197000"/>
            <a:ext cx="2089080" cy="936720"/>
          </a:xfrm>
          <a:prstGeom prst="line">
            <a:avLst/>
          </a:prstGeom>
          <a:ln w="158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79DC-FFB2-496A-93B6-D7F88EC9AB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Обход дерева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9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edure print_tree(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ерево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int_tree(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левое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_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оддерево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осещение корня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int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_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ree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 правое_поддерево 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5025960" y="160020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4BE3-4AB4-48FE-AF80-5BCA1DECD69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Удаление из дерева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Найти узел, который будет поставлен на место удаляемого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Реорганизовать дерево так, чтобы не нарушились его свойства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рисоединить новый узел к узлу-предку удаляемого узла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Освободить память из-под удаляемого узла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D529-954E-4F79-B24E-84596D40241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2843280" y="1197000"/>
            <a:ext cx="3529080" cy="1611360"/>
            <a:chOff x="2843280" y="1197000"/>
            <a:chExt cx="3529080" cy="1611360"/>
          </a:xfrm>
        </p:grpSpPr>
        <p:sp>
          <p:nvSpPr>
            <p:cNvPr id="487" name=""/>
            <p:cNvSpPr/>
            <p:nvPr/>
          </p:nvSpPr>
          <p:spPr>
            <a:xfrm>
              <a:off x="2843280" y="1197000"/>
              <a:ext cx="613800" cy="53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21440" y="1197000"/>
              <a:ext cx="613800" cy="53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3457080" y="1810800"/>
              <a:ext cx="460080" cy="460440"/>
              <a:chOff x="3457080" y="1810800"/>
              <a:chExt cx="460080" cy="460440"/>
            </a:xfrm>
          </p:grpSpPr>
          <p:sp>
            <p:nvSpPr>
              <p:cNvPr id="490" name=""/>
              <p:cNvSpPr/>
              <p:nvPr/>
            </p:nvSpPr>
            <p:spPr>
              <a:xfrm>
                <a:off x="3457080" y="1810800"/>
                <a:ext cx="460080" cy="46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457080" y="2117880"/>
                <a:ext cx="46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687120" y="2117880"/>
                <a:ext cx="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2919960" y="2347920"/>
              <a:ext cx="460080" cy="460080"/>
              <a:chOff x="2919960" y="2347920"/>
              <a:chExt cx="460080" cy="460080"/>
            </a:xfrm>
          </p:grpSpPr>
          <p:sp>
            <p:nvSpPr>
              <p:cNvPr id="494" name=""/>
              <p:cNvSpPr/>
              <p:nvPr/>
            </p:nvSpPr>
            <p:spPr>
              <a:xfrm>
                <a:off x="2919960" y="2347920"/>
                <a:ext cx="460080" cy="46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919960" y="2654640"/>
                <a:ext cx="46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50000" y="2654640"/>
                <a:ext cx="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3993840" y="2347920"/>
              <a:ext cx="460080" cy="460080"/>
              <a:chOff x="3993840" y="2347920"/>
              <a:chExt cx="460080" cy="460080"/>
            </a:xfrm>
          </p:grpSpPr>
          <p:sp>
            <p:nvSpPr>
              <p:cNvPr id="498" name=""/>
              <p:cNvSpPr/>
              <p:nvPr/>
            </p:nvSpPr>
            <p:spPr>
              <a:xfrm>
                <a:off x="3993840" y="2347920"/>
                <a:ext cx="460080" cy="46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993840" y="2654640"/>
                <a:ext cx="46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223880" y="2654640"/>
                <a:ext cx="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 flipH="1">
              <a:off x="3303360" y="2194560"/>
              <a:ext cx="30672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63800" y="2194560"/>
              <a:ext cx="30672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5912280" y="1810800"/>
              <a:ext cx="460080" cy="460440"/>
              <a:chOff x="5912280" y="1810800"/>
              <a:chExt cx="460080" cy="460440"/>
            </a:xfrm>
          </p:grpSpPr>
          <p:sp>
            <p:nvSpPr>
              <p:cNvPr id="504" name=""/>
              <p:cNvSpPr/>
              <p:nvPr/>
            </p:nvSpPr>
            <p:spPr>
              <a:xfrm>
                <a:off x="5912280" y="1810800"/>
                <a:ext cx="460080" cy="46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912280" y="2117880"/>
                <a:ext cx="46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142320" y="2117880"/>
                <a:ext cx="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5375160" y="2347920"/>
              <a:ext cx="460080" cy="460080"/>
              <a:chOff x="5375160" y="2347920"/>
              <a:chExt cx="460080" cy="460080"/>
            </a:xfrm>
          </p:grpSpPr>
          <p:sp>
            <p:nvSpPr>
              <p:cNvPr id="508" name=""/>
              <p:cNvSpPr/>
              <p:nvPr/>
            </p:nvSpPr>
            <p:spPr>
              <a:xfrm>
                <a:off x="5375160" y="2347920"/>
                <a:ext cx="460080" cy="46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375160" y="2654640"/>
                <a:ext cx="46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05200" y="2654640"/>
                <a:ext cx="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 flipH="1">
              <a:off x="5758560" y="2194560"/>
              <a:ext cx="30672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61360" y="2117880"/>
              <a:ext cx="460080" cy="383400"/>
            </a:xfrm>
            <a:prstGeom prst="rightArrow">
              <a:avLst>
                <a:gd name="adj1" fmla="val 50000"/>
                <a:gd name="adj2" fmla="val 3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03360" y="1657440"/>
              <a:ext cx="30672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03360" y="1657440"/>
              <a:ext cx="30672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81880" y="1657440"/>
              <a:ext cx="30672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3916800" y="2271240"/>
              <a:ext cx="613800" cy="537120"/>
              <a:chOff x="3916800" y="2271240"/>
              <a:chExt cx="613800" cy="537120"/>
            </a:xfrm>
          </p:grpSpPr>
          <p:sp>
            <p:nvSpPr>
              <p:cNvPr id="517" name=""/>
              <p:cNvSpPr/>
              <p:nvPr/>
            </p:nvSpPr>
            <p:spPr>
              <a:xfrm flipH="1">
                <a:off x="3916800" y="2271240"/>
                <a:ext cx="613800" cy="537120"/>
              </a:xfrm>
              <a:prstGeom prst="line">
                <a:avLst/>
              </a:prstGeom>
              <a:ln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069800" y="2271240"/>
                <a:ext cx="460440" cy="460440"/>
              </a:xfrm>
              <a:prstGeom prst="line">
                <a:avLst/>
              </a:prstGeom>
              <a:ln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147560" y="2041200"/>
              <a:ext cx="23004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484360" y="3789360"/>
            <a:ext cx="4752720" cy="2418840"/>
            <a:chOff x="2484360" y="3789360"/>
            <a:chExt cx="4752720" cy="2418840"/>
          </a:xfrm>
        </p:grpSpPr>
        <p:grpSp>
          <p:nvGrpSpPr>
            <p:cNvPr id="521" name=""/>
            <p:cNvGrpSpPr/>
            <p:nvPr/>
          </p:nvGrpSpPr>
          <p:grpSpPr>
            <a:xfrm>
              <a:off x="3175560" y="4480560"/>
              <a:ext cx="518400" cy="518400"/>
              <a:chOff x="3175560" y="4480560"/>
              <a:chExt cx="518400" cy="518400"/>
            </a:xfrm>
          </p:grpSpPr>
          <p:sp>
            <p:nvSpPr>
              <p:cNvPr id="522" name=""/>
              <p:cNvSpPr/>
              <p:nvPr/>
            </p:nvSpPr>
            <p:spPr>
              <a:xfrm>
                <a:off x="3175560" y="4480560"/>
                <a:ext cx="518400" cy="51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75560" y="4826160"/>
                <a:ext cx="51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434760" y="4826160"/>
                <a:ext cx="0" cy="17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570400" y="5085360"/>
              <a:ext cx="518400" cy="518040"/>
              <a:chOff x="2570400" y="5085360"/>
              <a:chExt cx="518400" cy="518040"/>
            </a:xfrm>
          </p:grpSpPr>
          <p:sp>
            <p:nvSpPr>
              <p:cNvPr id="526" name=""/>
              <p:cNvSpPr/>
              <p:nvPr/>
            </p:nvSpPr>
            <p:spPr>
              <a:xfrm>
                <a:off x="2570400" y="5085360"/>
                <a:ext cx="518400" cy="518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570400" y="5430600"/>
                <a:ext cx="51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829600" y="5430600"/>
                <a:ext cx="0" cy="17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3780360" y="5085360"/>
              <a:ext cx="518400" cy="518040"/>
              <a:chOff x="3780360" y="5085360"/>
              <a:chExt cx="518400" cy="518040"/>
            </a:xfrm>
          </p:grpSpPr>
          <p:sp>
            <p:nvSpPr>
              <p:cNvPr id="530" name=""/>
              <p:cNvSpPr/>
              <p:nvPr/>
            </p:nvSpPr>
            <p:spPr>
              <a:xfrm>
                <a:off x="3780360" y="5085360"/>
                <a:ext cx="518400" cy="518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780360" y="5430600"/>
                <a:ext cx="51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039560" y="5430600"/>
                <a:ext cx="0" cy="17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 flipH="1">
              <a:off x="3002760" y="4912560"/>
              <a:ext cx="34560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21160" y="4912560"/>
              <a:ext cx="34560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3693960" y="4998960"/>
              <a:ext cx="691200" cy="604800"/>
              <a:chOff x="3693960" y="4998960"/>
              <a:chExt cx="691200" cy="604800"/>
            </a:xfrm>
          </p:grpSpPr>
          <p:sp>
            <p:nvSpPr>
              <p:cNvPr id="536" name=""/>
              <p:cNvSpPr/>
              <p:nvPr/>
            </p:nvSpPr>
            <p:spPr>
              <a:xfrm flipH="1">
                <a:off x="3693960" y="4998960"/>
                <a:ext cx="691200" cy="604800"/>
              </a:xfrm>
              <a:prstGeom prst="line">
                <a:avLst/>
              </a:prstGeom>
              <a:ln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866760" y="4998960"/>
                <a:ext cx="518400" cy="518400"/>
              </a:xfrm>
              <a:prstGeom prst="line">
                <a:avLst/>
              </a:prstGeom>
              <a:ln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3002760" y="4307760"/>
              <a:ext cx="34560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02760" y="4307760"/>
              <a:ext cx="34560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484360" y="3789360"/>
              <a:ext cx="6912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63480" y="3789360"/>
              <a:ext cx="6912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4385520" y="5690160"/>
              <a:ext cx="518400" cy="518040"/>
              <a:chOff x="4385520" y="5690160"/>
              <a:chExt cx="518400" cy="518040"/>
            </a:xfrm>
          </p:grpSpPr>
          <p:sp>
            <p:nvSpPr>
              <p:cNvPr id="543" name=""/>
              <p:cNvSpPr/>
              <p:nvPr/>
            </p:nvSpPr>
            <p:spPr>
              <a:xfrm>
                <a:off x="4385520" y="5690160"/>
                <a:ext cx="518400" cy="5180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5520" y="6035400"/>
                <a:ext cx="51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4720" y="6035400"/>
                <a:ext cx="0" cy="17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4126320" y="5517360"/>
              <a:ext cx="345600" cy="2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4817520" y="4307760"/>
              <a:ext cx="2419560" cy="1296000"/>
              <a:chOff x="4817520" y="4307760"/>
              <a:chExt cx="2419560" cy="1296000"/>
            </a:xfrm>
          </p:grpSpPr>
          <p:grpSp>
            <p:nvGrpSpPr>
              <p:cNvPr id="548" name=""/>
              <p:cNvGrpSpPr/>
              <p:nvPr/>
            </p:nvGrpSpPr>
            <p:grpSpPr>
              <a:xfrm>
                <a:off x="6113880" y="4480200"/>
                <a:ext cx="518400" cy="518400"/>
                <a:chOff x="6113880" y="4480200"/>
                <a:chExt cx="518400" cy="51840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113880" y="4480200"/>
                  <a:ext cx="518400" cy="518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113880" y="4825800"/>
                  <a:ext cx="51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373080" y="4825800"/>
                  <a:ext cx="0" cy="172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5508720" y="5085360"/>
                <a:ext cx="518400" cy="518400"/>
                <a:chOff x="5508720" y="5085360"/>
                <a:chExt cx="518400" cy="51840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5508720" y="5085360"/>
                  <a:ext cx="518400" cy="518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508720" y="5430960"/>
                  <a:ext cx="51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767920" y="5430960"/>
                  <a:ext cx="0" cy="172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"/>
              <p:cNvSpPr/>
              <p:nvPr/>
            </p:nvSpPr>
            <p:spPr>
              <a:xfrm flipH="1">
                <a:off x="5940720" y="4912560"/>
                <a:ext cx="34560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817520" y="4826160"/>
                <a:ext cx="518400" cy="432000"/>
              </a:xfrm>
              <a:prstGeom prst="rightArrow">
                <a:avLst>
                  <a:gd name="adj1" fmla="val 50000"/>
                  <a:gd name="adj2" fmla="val 3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854320" y="4307760"/>
                <a:ext cx="34560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9" name=""/>
              <p:cNvGrpSpPr/>
              <p:nvPr/>
            </p:nvGrpSpPr>
            <p:grpSpPr>
              <a:xfrm>
                <a:off x="6718680" y="5085360"/>
                <a:ext cx="518400" cy="518400"/>
                <a:chOff x="6718680" y="5085360"/>
                <a:chExt cx="518400" cy="51840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6718680" y="5085360"/>
                  <a:ext cx="518400" cy="5184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718680" y="5430960"/>
                  <a:ext cx="51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977880" y="5430960"/>
                  <a:ext cx="0" cy="172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6459480" y="4912560"/>
                <a:ext cx="34560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3953160" y="4826160"/>
              <a:ext cx="25920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71920" y="5430960"/>
              <a:ext cx="2592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Удаление узла, не имеющего потомков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4360" y="314172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84360" y="306864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Удаление узла с одним потом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03DF-5980-4871-9CEE-0E568581E11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1908000" y="2133720"/>
            <a:ext cx="5472360" cy="3228480"/>
            <a:chOff x="1908000" y="2133720"/>
            <a:chExt cx="5472360" cy="3228480"/>
          </a:xfrm>
        </p:grpSpPr>
        <p:grpSp>
          <p:nvGrpSpPr>
            <p:cNvPr id="570" name=""/>
            <p:cNvGrpSpPr/>
            <p:nvPr/>
          </p:nvGrpSpPr>
          <p:grpSpPr>
            <a:xfrm>
              <a:off x="2625480" y="2851200"/>
              <a:ext cx="538200" cy="538200"/>
              <a:chOff x="2625480" y="2851200"/>
              <a:chExt cx="538200" cy="538200"/>
            </a:xfrm>
          </p:grpSpPr>
          <p:sp>
            <p:nvSpPr>
              <p:cNvPr id="571" name=""/>
              <p:cNvSpPr/>
              <p:nvPr/>
            </p:nvSpPr>
            <p:spPr>
              <a:xfrm>
                <a:off x="2625480" y="2851200"/>
                <a:ext cx="538200" cy="538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625480" y="3210120"/>
                <a:ext cx="53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894400" y="3210120"/>
                <a:ext cx="0" cy="1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1997280" y="3479040"/>
              <a:ext cx="538200" cy="537840"/>
              <a:chOff x="1997280" y="3479040"/>
              <a:chExt cx="538200" cy="537840"/>
            </a:xfrm>
          </p:grpSpPr>
          <p:sp>
            <p:nvSpPr>
              <p:cNvPr id="575" name=""/>
              <p:cNvSpPr/>
              <p:nvPr/>
            </p:nvSpPr>
            <p:spPr>
              <a:xfrm>
                <a:off x="1997280" y="3479040"/>
                <a:ext cx="538200" cy="537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997280" y="3837600"/>
                <a:ext cx="53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266200" y="3837600"/>
                <a:ext cx="0" cy="1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253680" y="3479040"/>
              <a:ext cx="538200" cy="537840"/>
              <a:chOff x="3253680" y="3479040"/>
              <a:chExt cx="538200" cy="537840"/>
            </a:xfrm>
          </p:grpSpPr>
          <p:sp>
            <p:nvSpPr>
              <p:cNvPr id="579" name=""/>
              <p:cNvSpPr/>
              <p:nvPr/>
            </p:nvSpPr>
            <p:spPr>
              <a:xfrm>
                <a:off x="3253680" y="3479040"/>
                <a:ext cx="538200" cy="537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253680" y="3837600"/>
                <a:ext cx="53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22600" y="3837600"/>
                <a:ext cx="0" cy="1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 flipH="1">
              <a:off x="2446200" y="3299760"/>
              <a:ext cx="35856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984400" y="3299760"/>
              <a:ext cx="35856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3163320" y="3389400"/>
              <a:ext cx="717480" cy="627840"/>
              <a:chOff x="3163320" y="3389400"/>
              <a:chExt cx="717480" cy="627840"/>
            </a:xfrm>
          </p:grpSpPr>
          <p:sp>
            <p:nvSpPr>
              <p:cNvPr id="585" name=""/>
              <p:cNvSpPr/>
              <p:nvPr/>
            </p:nvSpPr>
            <p:spPr>
              <a:xfrm flipH="1">
                <a:off x="3163320" y="3389400"/>
                <a:ext cx="717480" cy="627840"/>
              </a:xfrm>
              <a:prstGeom prst="line">
                <a:avLst/>
              </a:prstGeom>
              <a:ln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342240" y="3389400"/>
                <a:ext cx="538200" cy="538200"/>
              </a:xfrm>
              <a:prstGeom prst="line">
                <a:avLst/>
              </a:prstGeom>
              <a:ln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2446200" y="2671920"/>
              <a:ext cx="35856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46200" y="2671920"/>
              <a:ext cx="35856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08000" y="2133720"/>
              <a:ext cx="71748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689000" y="2133720"/>
              <a:ext cx="71748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3881520" y="4106880"/>
              <a:ext cx="538200" cy="537840"/>
              <a:chOff x="3881520" y="4106880"/>
              <a:chExt cx="538200" cy="537840"/>
            </a:xfrm>
          </p:grpSpPr>
          <p:sp>
            <p:nvSpPr>
              <p:cNvPr id="592" name=""/>
              <p:cNvSpPr/>
              <p:nvPr/>
            </p:nvSpPr>
            <p:spPr>
              <a:xfrm>
                <a:off x="3881520" y="4106880"/>
                <a:ext cx="538200" cy="5378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881520" y="4465440"/>
                <a:ext cx="53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50440" y="4465440"/>
                <a:ext cx="0" cy="1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3612240" y="3927600"/>
              <a:ext cx="35856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4330080" y="2671920"/>
              <a:ext cx="2511720" cy="1344960"/>
              <a:chOff x="4330080" y="2671920"/>
              <a:chExt cx="2511720" cy="134496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5675760" y="2851200"/>
                <a:ext cx="538200" cy="538200"/>
                <a:chOff x="5675760" y="2851200"/>
                <a:chExt cx="538200" cy="53820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5675760" y="2851200"/>
                  <a:ext cx="538200" cy="538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675760" y="3210120"/>
                  <a:ext cx="53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5944680" y="321012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5047560" y="3479040"/>
                <a:ext cx="538200" cy="537840"/>
                <a:chOff x="5047560" y="3479040"/>
                <a:chExt cx="538200" cy="53784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5047560" y="3479040"/>
                  <a:ext cx="538200" cy="537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047560" y="3837600"/>
                  <a:ext cx="53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316480" y="383760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" name=""/>
              <p:cNvSpPr/>
              <p:nvPr/>
            </p:nvSpPr>
            <p:spPr>
              <a:xfrm flipH="1">
                <a:off x="5496120" y="3299760"/>
                <a:ext cx="358560" cy="26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330080" y="3209760"/>
                <a:ext cx="538200" cy="448560"/>
              </a:xfrm>
              <a:prstGeom prst="rightArrow">
                <a:avLst>
                  <a:gd name="adj1" fmla="val 50000"/>
                  <a:gd name="adj2" fmla="val 2999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06480" y="2671920"/>
                <a:ext cx="358560" cy="26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"/>
              <p:cNvGrpSpPr/>
              <p:nvPr/>
            </p:nvGrpSpPr>
            <p:grpSpPr>
              <a:xfrm>
                <a:off x="6303600" y="3479040"/>
                <a:ext cx="538200" cy="537840"/>
                <a:chOff x="6303600" y="3479040"/>
                <a:chExt cx="538200" cy="53784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6303600" y="3479040"/>
                  <a:ext cx="538200" cy="5378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303600" y="3837600"/>
                  <a:ext cx="53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6572520" y="383760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6034680" y="3299760"/>
                <a:ext cx="358560" cy="26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 flipH="1">
              <a:off x="3074040" y="3927600"/>
              <a:ext cx="35856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2625480" y="4106880"/>
              <a:ext cx="538200" cy="537840"/>
              <a:chOff x="2625480" y="4106880"/>
              <a:chExt cx="538200" cy="537840"/>
            </a:xfrm>
          </p:grpSpPr>
          <p:sp>
            <p:nvSpPr>
              <p:cNvPr id="615" name=""/>
              <p:cNvSpPr/>
              <p:nvPr/>
            </p:nvSpPr>
            <p:spPr>
              <a:xfrm>
                <a:off x="2625480" y="4106880"/>
                <a:ext cx="538200" cy="53784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25480" y="4465440"/>
                <a:ext cx="53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94400" y="4465440"/>
                <a:ext cx="0" cy="1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4240440" y="4555440"/>
              <a:ext cx="35856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4419720" y="4824360"/>
              <a:ext cx="538200" cy="537840"/>
              <a:chOff x="4419720" y="4824360"/>
              <a:chExt cx="538200" cy="537840"/>
            </a:xfrm>
          </p:grpSpPr>
          <p:sp>
            <p:nvSpPr>
              <p:cNvPr id="620" name=""/>
              <p:cNvSpPr/>
              <p:nvPr/>
            </p:nvSpPr>
            <p:spPr>
              <a:xfrm>
                <a:off x="4419720" y="4824360"/>
                <a:ext cx="538200" cy="5378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419720" y="5182920"/>
                <a:ext cx="53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88640" y="5182920"/>
                <a:ext cx="0" cy="1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>
              <a:off x="6662520" y="3927600"/>
              <a:ext cx="35856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6842160" y="4196520"/>
              <a:ext cx="538200" cy="537840"/>
              <a:chOff x="6842160" y="4196520"/>
              <a:chExt cx="538200" cy="537840"/>
            </a:xfrm>
          </p:grpSpPr>
          <p:sp>
            <p:nvSpPr>
              <p:cNvPr id="625" name=""/>
              <p:cNvSpPr/>
              <p:nvPr/>
            </p:nvSpPr>
            <p:spPr>
              <a:xfrm>
                <a:off x="6842160" y="4196520"/>
                <a:ext cx="538200" cy="5378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842160" y="4555080"/>
                <a:ext cx="53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111080" y="4555080"/>
                <a:ext cx="0" cy="1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H="1">
              <a:off x="6124320" y="3927600"/>
              <a:ext cx="35856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5765760" y="4196520"/>
              <a:ext cx="538200" cy="537840"/>
              <a:chOff x="5765760" y="4196520"/>
              <a:chExt cx="538200" cy="537840"/>
            </a:xfrm>
          </p:grpSpPr>
          <p:sp>
            <p:nvSpPr>
              <p:cNvPr id="630" name=""/>
              <p:cNvSpPr/>
              <p:nvPr/>
            </p:nvSpPr>
            <p:spPr>
              <a:xfrm>
                <a:off x="5765760" y="4196520"/>
                <a:ext cx="538200" cy="53784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65760" y="4555080"/>
                <a:ext cx="53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034680" y="4555080"/>
                <a:ext cx="0" cy="1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3432960" y="3209760"/>
              <a:ext cx="26892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71160" y="3837960"/>
              <a:ext cx="26892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Удаление узла с двумя потомками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5"/>
          <a:stretch/>
        </p:blipFill>
        <p:spPr>
          <a:xfrm>
            <a:off x="6877080" y="692280"/>
            <a:ext cx="2074680" cy="276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DCE6-859A-45C0-BF2B-5D51AC2D3D1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1763640" y="1628640"/>
            <a:ext cx="6503760" cy="4335480"/>
            <a:chOff x="1763640" y="1628640"/>
            <a:chExt cx="6503760" cy="4335480"/>
          </a:xfrm>
        </p:grpSpPr>
        <p:grpSp>
          <p:nvGrpSpPr>
            <p:cNvPr id="638" name=""/>
            <p:cNvGrpSpPr/>
            <p:nvPr/>
          </p:nvGrpSpPr>
          <p:grpSpPr>
            <a:xfrm>
              <a:off x="2430720" y="2295360"/>
              <a:ext cx="500040" cy="500040"/>
              <a:chOff x="2430720" y="2295360"/>
              <a:chExt cx="500040" cy="500040"/>
            </a:xfrm>
          </p:grpSpPr>
          <p:sp>
            <p:nvSpPr>
              <p:cNvPr id="639" name=""/>
              <p:cNvSpPr/>
              <p:nvPr/>
            </p:nvSpPr>
            <p:spPr>
              <a:xfrm>
                <a:off x="2430720" y="2295360"/>
                <a:ext cx="500040" cy="50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30720" y="2628720"/>
                <a:ext cx="5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680560" y="262872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846800" y="2879280"/>
              <a:ext cx="500040" cy="500040"/>
              <a:chOff x="1846800" y="2879280"/>
              <a:chExt cx="500040" cy="500040"/>
            </a:xfrm>
          </p:grpSpPr>
          <p:sp>
            <p:nvSpPr>
              <p:cNvPr id="643" name=""/>
              <p:cNvSpPr/>
              <p:nvPr/>
            </p:nvSpPr>
            <p:spPr>
              <a:xfrm>
                <a:off x="1846800" y="2879280"/>
                <a:ext cx="500040" cy="50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846800" y="3212640"/>
                <a:ext cx="5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096640" y="321264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3014280" y="2879280"/>
              <a:ext cx="500040" cy="500040"/>
              <a:chOff x="3014280" y="2879280"/>
              <a:chExt cx="500040" cy="500040"/>
            </a:xfrm>
          </p:grpSpPr>
          <p:sp>
            <p:nvSpPr>
              <p:cNvPr id="647" name=""/>
              <p:cNvSpPr/>
              <p:nvPr/>
            </p:nvSpPr>
            <p:spPr>
              <a:xfrm>
                <a:off x="3014280" y="2879280"/>
                <a:ext cx="500040" cy="50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014280" y="3212640"/>
                <a:ext cx="5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264120" y="321264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 flipH="1">
              <a:off x="2263680" y="2712600"/>
              <a:ext cx="3333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764080" y="2712600"/>
              <a:ext cx="3333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2930400" y="2795760"/>
              <a:ext cx="667440" cy="583560"/>
              <a:chOff x="2930400" y="2795760"/>
              <a:chExt cx="667440" cy="583560"/>
            </a:xfrm>
          </p:grpSpPr>
          <p:sp>
            <p:nvSpPr>
              <p:cNvPr id="653" name=""/>
              <p:cNvSpPr/>
              <p:nvPr/>
            </p:nvSpPr>
            <p:spPr>
              <a:xfrm flipH="1">
                <a:off x="2930400" y="2795760"/>
                <a:ext cx="667080" cy="583560"/>
              </a:xfrm>
              <a:prstGeom prst="line">
                <a:avLst/>
              </a:prstGeom>
              <a:ln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097440" y="2795760"/>
                <a:ext cx="500400" cy="500040"/>
              </a:xfrm>
              <a:prstGeom prst="line">
                <a:avLst/>
              </a:prstGeom>
              <a:ln w="1015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2180160" y="2128680"/>
              <a:ext cx="3333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763640" y="1628640"/>
              <a:ext cx="66708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49240" y="1628640"/>
              <a:ext cx="66708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597840" y="3462840"/>
              <a:ext cx="500040" cy="500040"/>
              <a:chOff x="3597840" y="3462840"/>
              <a:chExt cx="500040" cy="500040"/>
            </a:xfrm>
          </p:grpSpPr>
          <p:sp>
            <p:nvSpPr>
              <p:cNvPr id="659" name=""/>
              <p:cNvSpPr/>
              <p:nvPr/>
            </p:nvSpPr>
            <p:spPr>
              <a:xfrm>
                <a:off x="3597840" y="3462840"/>
                <a:ext cx="500040" cy="50004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597840" y="3796200"/>
                <a:ext cx="5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847680" y="379620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3348000" y="3296160"/>
              <a:ext cx="333360" cy="25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15080" y="2629080"/>
              <a:ext cx="500040" cy="416880"/>
            </a:xfrm>
            <a:prstGeom prst="rightArrow">
              <a:avLst>
                <a:gd name="adj1" fmla="val 50000"/>
                <a:gd name="adj2" fmla="val 299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2847600" y="3296160"/>
              <a:ext cx="333360" cy="25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31560" y="3879720"/>
              <a:ext cx="3333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4098240" y="4129920"/>
              <a:ext cx="500040" cy="500040"/>
              <a:chOff x="4098240" y="4129920"/>
              <a:chExt cx="500040" cy="500040"/>
            </a:xfrm>
          </p:grpSpPr>
          <p:sp>
            <p:nvSpPr>
              <p:cNvPr id="667" name=""/>
              <p:cNvSpPr/>
              <p:nvPr/>
            </p:nvSpPr>
            <p:spPr>
              <a:xfrm>
                <a:off x="4098240" y="4129920"/>
                <a:ext cx="500040" cy="5000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098240" y="4463280"/>
                <a:ext cx="5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348080" y="446328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 flipH="1">
              <a:off x="3431160" y="3879720"/>
              <a:ext cx="3333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3097800" y="4129920"/>
              <a:ext cx="500040" cy="500040"/>
              <a:chOff x="3097800" y="4129920"/>
              <a:chExt cx="500040" cy="500040"/>
            </a:xfrm>
          </p:grpSpPr>
          <p:sp>
            <p:nvSpPr>
              <p:cNvPr id="672" name=""/>
              <p:cNvSpPr/>
              <p:nvPr/>
            </p:nvSpPr>
            <p:spPr>
              <a:xfrm>
                <a:off x="3097800" y="4129920"/>
                <a:ext cx="500040" cy="5000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97800" y="4463280"/>
                <a:ext cx="5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347640" y="446328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 flipH="1">
              <a:off x="2930760" y="4546800"/>
              <a:ext cx="3333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31160" y="4546800"/>
              <a:ext cx="3333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2595960" y="4797000"/>
              <a:ext cx="500040" cy="500040"/>
              <a:chOff x="2595960" y="4797000"/>
              <a:chExt cx="500040" cy="500040"/>
            </a:xfrm>
          </p:grpSpPr>
          <p:sp>
            <p:nvSpPr>
              <p:cNvPr id="678" name=""/>
              <p:cNvSpPr/>
              <p:nvPr/>
            </p:nvSpPr>
            <p:spPr>
              <a:xfrm>
                <a:off x="2595960" y="4797000"/>
                <a:ext cx="500040" cy="5000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595960" y="5130360"/>
                <a:ext cx="5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845800" y="513036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3514680" y="4797000"/>
              <a:ext cx="500040" cy="500040"/>
              <a:chOff x="3514680" y="4797000"/>
              <a:chExt cx="500040" cy="500040"/>
            </a:xfrm>
          </p:grpSpPr>
          <p:sp>
            <p:nvSpPr>
              <p:cNvPr id="682" name=""/>
              <p:cNvSpPr/>
              <p:nvPr/>
            </p:nvSpPr>
            <p:spPr>
              <a:xfrm>
                <a:off x="3514680" y="4797000"/>
                <a:ext cx="500040" cy="50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514680" y="5130360"/>
                <a:ext cx="5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764520" y="513036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2930760" y="5213880"/>
              <a:ext cx="3333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3097800" y="5464080"/>
              <a:ext cx="500040" cy="500040"/>
              <a:chOff x="3097800" y="5464080"/>
              <a:chExt cx="500040" cy="500040"/>
            </a:xfrm>
          </p:grpSpPr>
          <p:sp>
            <p:nvSpPr>
              <p:cNvPr id="687" name=""/>
              <p:cNvSpPr/>
              <p:nvPr/>
            </p:nvSpPr>
            <p:spPr>
              <a:xfrm>
                <a:off x="3097800" y="5464080"/>
                <a:ext cx="500040" cy="50004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097800" y="5797440"/>
                <a:ext cx="5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347640" y="579744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2513880" y="3546360"/>
              <a:ext cx="500040" cy="500040"/>
              <a:chOff x="2513880" y="3546360"/>
              <a:chExt cx="500040" cy="500040"/>
            </a:xfrm>
          </p:grpSpPr>
          <p:sp>
            <p:nvSpPr>
              <p:cNvPr id="691" name=""/>
              <p:cNvSpPr/>
              <p:nvPr/>
            </p:nvSpPr>
            <p:spPr>
              <a:xfrm>
                <a:off x="2513880" y="3546360"/>
                <a:ext cx="500040" cy="50004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513880" y="3879720"/>
                <a:ext cx="5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763720" y="387972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5432760" y="2128680"/>
              <a:ext cx="2834640" cy="3000960"/>
              <a:chOff x="5432760" y="2128680"/>
              <a:chExt cx="2834640" cy="3000960"/>
            </a:xfrm>
          </p:grpSpPr>
          <p:grpSp>
            <p:nvGrpSpPr>
              <p:cNvPr id="695" name=""/>
              <p:cNvGrpSpPr/>
              <p:nvPr/>
            </p:nvGrpSpPr>
            <p:grpSpPr>
              <a:xfrm>
                <a:off x="6016320" y="2295360"/>
                <a:ext cx="500040" cy="500040"/>
                <a:chOff x="6016320" y="2295360"/>
                <a:chExt cx="500040" cy="50004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6016320" y="2295360"/>
                  <a:ext cx="500040" cy="500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016320" y="2628720"/>
                  <a:ext cx="5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266160" y="2628720"/>
                  <a:ext cx="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5432760" y="2878920"/>
                <a:ext cx="500040" cy="500040"/>
                <a:chOff x="5432760" y="2878920"/>
                <a:chExt cx="500040" cy="50004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5432760" y="2878920"/>
                  <a:ext cx="500040" cy="500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432760" y="3212280"/>
                  <a:ext cx="5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682600" y="3212280"/>
                  <a:ext cx="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"/>
              <p:cNvSpPr/>
              <p:nvPr/>
            </p:nvSpPr>
            <p:spPr>
              <a:xfrm flipH="1">
                <a:off x="5849640" y="2712240"/>
                <a:ext cx="33336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766120" y="2128680"/>
                <a:ext cx="33336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"/>
              <p:cNvGrpSpPr/>
              <p:nvPr/>
            </p:nvGrpSpPr>
            <p:grpSpPr>
              <a:xfrm>
                <a:off x="6600240" y="2878920"/>
                <a:ext cx="500040" cy="500040"/>
                <a:chOff x="6600240" y="2878920"/>
                <a:chExt cx="500040" cy="50004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6600240" y="2878920"/>
                  <a:ext cx="500040" cy="5000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600240" y="3212280"/>
                  <a:ext cx="5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850080" y="3212280"/>
                  <a:ext cx="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6350040" y="2712240"/>
                <a:ext cx="33336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933600" y="3295800"/>
                <a:ext cx="33336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6433200" y="3295800"/>
                <a:ext cx="33336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2" name=""/>
              <p:cNvGrpSpPr/>
              <p:nvPr/>
            </p:nvGrpSpPr>
            <p:grpSpPr>
              <a:xfrm>
                <a:off x="6016320" y="3462480"/>
                <a:ext cx="500040" cy="500040"/>
                <a:chOff x="6016320" y="3462480"/>
                <a:chExt cx="500040" cy="50004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6016320" y="3462480"/>
                  <a:ext cx="500040" cy="500040"/>
                </a:xfrm>
                <a:prstGeom prst="ellipse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016320" y="3795840"/>
                  <a:ext cx="5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266160" y="3795840"/>
                  <a:ext cx="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7183800" y="3462480"/>
                <a:ext cx="500040" cy="500040"/>
                <a:chOff x="7183800" y="3462480"/>
                <a:chExt cx="500040" cy="50004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7183800" y="3462480"/>
                  <a:ext cx="500040" cy="500040"/>
                </a:xfrm>
                <a:prstGeom prst="ellipse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7183800" y="3795840"/>
                  <a:ext cx="5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433640" y="3795840"/>
                  <a:ext cx="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600240" y="4046040"/>
                <a:ext cx="500040" cy="500040"/>
                <a:chOff x="6600240" y="4046040"/>
                <a:chExt cx="500040" cy="50004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6600240" y="4046040"/>
                  <a:ext cx="500040" cy="500040"/>
                </a:xfrm>
                <a:prstGeom prst="ellipse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00240" y="4379400"/>
                  <a:ext cx="5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850080" y="4379400"/>
                  <a:ext cx="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4" name=""/>
              <p:cNvSpPr/>
              <p:nvPr/>
            </p:nvSpPr>
            <p:spPr>
              <a:xfrm flipH="1">
                <a:off x="7017120" y="3879360"/>
                <a:ext cx="333360" cy="25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5" name=""/>
              <p:cNvGrpSpPr/>
              <p:nvPr/>
            </p:nvGrpSpPr>
            <p:grpSpPr>
              <a:xfrm>
                <a:off x="7767360" y="4046040"/>
                <a:ext cx="500040" cy="500040"/>
                <a:chOff x="7767360" y="4046040"/>
                <a:chExt cx="500040" cy="50004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7767360" y="4046040"/>
                  <a:ext cx="500040" cy="500040"/>
                </a:xfrm>
                <a:prstGeom prst="ellipse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7767360" y="4379400"/>
                  <a:ext cx="5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8017200" y="4379400"/>
                  <a:ext cx="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9" name=""/>
              <p:cNvSpPr/>
              <p:nvPr/>
            </p:nvSpPr>
            <p:spPr>
              <a:xfrm>
                <a:off x="7517160" y="3879360"/>
                <a:ext cx="333360" cy="25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0" name=""/>
              <p:cNvGrpSpPr/>
              <p:nvPr/>
            </p:nvGrpSpPr>
            <p:grpSpPr>
              <a:xfrm>
                <a:off x="7183800" y="4629600"/>
                <a:ext cx="500040" cy="500040"/>
                <a:chOff x="7183800" y="4629600"/>
                <a:chExt cx="500040" cy="50004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7183800" y="4629600"/>
                  <a:ext cx="5000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7183800" y="4962960"/>
                  <a:ext cx="5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433640" y="4962960"/>
                  <a:ext cx="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4" name=""/>
              <p:cNvSpPr/>
              <p:nvPr/>
            </p:nvSpPr>
            <p:spPr>
              <a:xfrm>
                <a:off x="6933600" y="4462920"/>
                <a:ext cx="33336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"/>
              <p:cNvGrpSpPr/>
              <p:nvPr/>
            </p:nvGrpSpPr>
            <p:grpSpPr>
              <a:xfrm>
                <a:off x="6016320" y="4629600"/>
                <a:ext cx="500040" cy="500040"/>
                <a:chOff x="6016320" y="4629600"/>
                <a:chExt cx="500040" cy="500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016320" y="4629600"/>
                  <a:ext cx="500040" cy="500040"/>
                </a:xfrm>
                <a:prstGeom prst="ellipse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016320" y="4962960"/>
                  <a:ext cx="50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266160" y="4962960"/>
                  <a:ext cx="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9" name=""/>
              <p:cNvSpPr/>
              <p:nvPr/>
            </p:nvSpPr>
            <p:spPr>
              <a:xfrm flipH="1">
                <a:off x="6433200" y="4462920"/>
                <a:ext cx="33336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3180960" y="2629080"/>
              <a:ext cx="25020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680560" y="4546800"/>
              <a:ext cx="24984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Удаление узла (общий случай)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1"/>
          <a:stretch/>
        </p:blipFill>
        <p:spPr>
          <a:xfrm>
            <a:off x="6962760" y="333360"/>
            <a:ext cx="2181240" cy="290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045F-1308-4599-AF83-BF89A01EB81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Операции с указателями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002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рисваивание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1 := p2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роверка на равенство и неравенство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f p1 = p2 then …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3213000"/>
            <a:ext cx="8496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авила присваивания указ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Любому указателю можно присвоить стандартную констант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nil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, которая означает, что указатель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 ссылается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на какую-либо конкретную ячейку памят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: p1 := ni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Указатели стандартного типа pointer совместимы с указателями люб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Указателю на конкретный тип данных можно присвоить только значение указателя того же или стандартн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DB20-A0EF-4C80-81A3-EC8F5E890B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перация разадресации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61927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именяется для обращения к значению переменной, адрес которой хранится в указателе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r p1: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^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ord;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Е разадресация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:= 2; inc(p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);    writeln(p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);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НА!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 величинами, адрес которых хранится в указателе, можно выполнять любые действия, допустимые для значений этого типа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381000" y="1773360"/>
            <a:ext cx="1810440" cy="1871280"/>
            <a:chOff x="6381000" y="1773360"/>
            <a:chExt cx="1810440" cy="1871280"/>
          </a:xfrm>
        </p:grpSpPr>
        <p:sp>
          <p:nvSpPr>
            <p:cNvPr id="84" name=""/>
            <p:cNvSpPr/>
            <p:nvPr/>
          </p:nvSpPr>
          <p:spPr>
            <a:xfrm>
              <a:off x="6381000" y="3081960"/>
              <a:ext cx="103032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856200" y="2345040"/>
              <a:ext cx="1080" cy="90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76400" y="2995560"/>
              <a:ext cx="6505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0480" y="1815120"/>
              <a:ext cx="649080" cy="51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11680" y="1773360"/>
              <a:ext cx="7797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p1^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7524720" y="1773360"/>
            <a:ext cx="503280" cy="360360"/>
          </a:xfrm>
          <a:prstGeom prst="ellipse">
            <a:avLst/>
          </a:prstGeom>
          <a:solidFill>
            <a:srgbClr val="bbe0e3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C60AB-0947-42B4-9F53-4AF80AD7D8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перация @ и функция addr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511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озволяют получить адрес переменной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r w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word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w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: ^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ord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w := @w;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{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pw := addr(w); }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w^ := 2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383160" y="1773360"/>
            <a:ext cx="2220840" cy="1871280"/>
            <a:chOff x="6383160" y="1773360"/>
            <a:chExt cx="2220840" cy="1871280"/>
          </a:xfrm>
        </p:grpSpPr>
        <p:sp>
          <p:nvSpPr>
            <p:cNvPr id="93" name=""/>
            <p:cNvSpPr/>
            <p:nvPr/>
          </p:nvSpPr>
          <p:spPr>
            <a:xfrm>
              <a:off x="6383160" y="3081960"/>
              <a:ext cx="126396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6966000" y="2345040"/>
              <a:ext cx="1440" cy="90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04280" y="2995560"/>
              <a:ext cx="79848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10200" y="1815120"/>
              <a:ext cx="796320" cy="51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47480" y="1773360"/>
              <a:ext cx="9565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C286-060B-4D85-A9E5-9DA97F17B9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Стандартные функции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604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ля работы с указателями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24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seg(x) : word — возвращает адрес сегмента для х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24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ofs(x) : word — возвращает смещение для х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24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cseg : word — возвращает значение регистра сегмента кода CS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24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dseg : word — возвращает значение регистра сегмента данных DS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24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ptr(seg, ofs : word) : pointer — по заданному сегменту и смещению формирует адрес типа pointer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755C-1C42-46A9-A450-9FCEB89468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Динамические переменные 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002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оздаются в хипе во время выполнения программы с помощью подпрограмм new или getmem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оцедура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new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var p : тип_указател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Функция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new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тип_указател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) : pointer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оцедура и функция new обычно применяются для типизированных указателей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оцедура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getmem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var p : pointer; size : word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Эту процедуру можно применять и для указателей типа pointer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CF95-045C-48BF-864A-7977695F2D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18:38:15Z</dcterms:created>
  <dc:creator>Mux</dc:creator>
  <dc:description/>
  <dc:language>en-US</dc:language>
  <cp:lastModifiedBy>мух</cp:lastModifiedBy>
  <dcterms:modified xsi:type="dcterms:W3CDTF">2010-08-12T14:50:49Z</dcterms:modified>
  <cp:revision>78</cp:revision>
  <dc:subject/>
  <dc:title>Слайд 1</dc:title>
</cp:coreProperties>
</file>