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8DEB-9F2A-449B-ACF9-2E484CF882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72D7-2803-4940-A106-4A04F303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66680"/>
            <a:ext cx="826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BACE-37A1-4D9A-9C66-4715EC0E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536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25F7-8228-45E4-9721-D75052C6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55720" y="121932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8960" y="121932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6668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55720" y="376668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8960" y="376668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CCAC-3FE3-422F-B3BA-1C1B3F84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D934-00EA-4F61-80A1-82B4A048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FC4A-DCE3-498D-9888-ED6DE69A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773D-30AF-42BD-914E-063A3F88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F4CA-2FB1-4457-A6FA-1B3E1C4F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0907-93ED-48EE-BCA9-C84A35AB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4920" y="-67284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0B15-1D84-46D8-B535-9DDE15F6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D159-A064-484F-A919-89D37B82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A3B-3B33-4ADD-8EF4-1A12418C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536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BB60-F725-40F0-8B46-6854A60F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66680"/>
            <a:ext cx="826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E8ED-D34C-4882-8739-7A7E16D9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66680"/>
            <a:ext cx="826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EC00-DBE0-475E-9947-F23B8CF0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536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CB9E-8786-4FE1-9D0B-6BDC6A35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55720" y="121932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48960" y="121932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6668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55720" y="376668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48960" y="376668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5C94-C9E3-47EE-8553-5C9E4C4B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61D9-EAC4-4F40-BFB6-DB30BA33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725-23D4-46AD-B1C4-7EFADA21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213-2145-47C2-92C9-5FB3DC51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-67284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8A5-33B6-45AF-AC92-B0931B26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E71E-1B11-4942-8DA4-D81B4709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536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8A4-3AAE-4BAB-A5C0-44989361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66680"/>
            <a:ext cx="826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BD34-0FFF-4D9A-963E-639CDE76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360" y="6638400"/>
            <a:ext cx="52563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2B6D-5D94-4A16-BD27-A4C1316701B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38480" y="1295280"/>
            <a:ext cx="4892760" cy="7632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5280" y="-13932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0" y="6605280"/>
            <a:ext cx="60199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72E4-572E-4242-9A62-8BC815879CE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26080"/>
            <a:ext cx="87948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Курс «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Паскаль. Программирование на языке высокого уровня» 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360" y="378936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авловская Т.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авловская Т.А. Паскаль. Программирование на языке высокого уровня. Учебник. 2-е изд. — СПб.: ПИТЕР, 2010. — 464 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D76D-A3B9-4AF5-9492-DAC0A44773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11280" y="2708280"/>
            <a:ext cx="8261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нутреннее представление данных, а следовательно и множество их возможны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пустимые действия над данными (операции и функции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981000" y="1593360"/>
            <a:ext cx="81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Тип данных определя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Концепция типа данных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4E71-15B9-4F04-97D8-C68C5B06F1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187200"/>
            <a:ext cx="8162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Классификация типов Паскаля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341360"/>
          <a:ext cx="8272440" cy="3888000"/>
        </p:xfrm>
        <a:graphic>
          <a:graphicData uri="http://schemas.openxmlformats.org/drawingml/2006/table">
            <a:tbl>
              <a:tblPr/>
              <a:tblGrid>
                <a:gridCol w="2087640"/>
                <a:gridCol w="2253960"/>
                <a:gridCol w="1735200"/>
                <a:gridCol w="21956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ндарт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яемые программист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логические целые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щественные</a:t>
                      </a:r>
                      <a:br>
                        <a:rPr sz="2000"/>
                      </a:b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символьный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оковый адресный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айлов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ст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еречисляем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интерва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рес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сси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о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пи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нож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ай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цедурные ти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370080" y="37882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900C-9177-4BE1-B430-6B57D66641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258840"/>
            <a:ext cx="9458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Структура программы в оперативной памяти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08240" y="1281600"/>
            <a:ext cx="3706920" cy="4942080"/>
            <a:chOff x="2208240" y="1281600"/>
            <a:chExt cx="3706920" cy="4942080"/>
          </a:xfrm>
        </p:grpSpPr>
        <p:sp>
          <p:nvSpPr>
            <p:cNvPr id="121" name=""/>
            <p:cNvSpPr/>
            <p:nvPr/>
          </p:nvSpPr>
          <p:spPr>
            <a:xfrm>
              <a:off x="2208240" y="3135240"/>
              <a:ext cx="3706920" cy="61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егмент сте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8240" y="3754080"/>
              <a:ext cx="3706920" cy="123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егмент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8240" y="4988880"/>
              <a:ext cx="3706920" cy="123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егмент к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8240" y="1281600"/>
              <a:ext cx="3706920" cy="185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инамическая памя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892A-1003-4972-9608-DEB7A9C3D3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53100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Стандартные типы данных Паска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B41C-CA7D-42D4-83A1-BEC43F8982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11952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Логические типы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640" y="980640"/>
            <a:ext cx="770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spcAft>
                <a:spcPts val="7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Основной логический тип данных -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boolean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Величины этого типа занимают в памяти 1 байт и могут принимать два значения: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истина) или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ложь). Внутреннее представление значения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— 0 (нуль), значе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ru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— 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spcAft>
                <a:spcPts val="7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совместимости с другими языками определены типы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yteBoo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ordBoo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ngBoo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длиной 1, 2 и 4 байта соответственно. Истинным в них считается любое отличное от нуля значе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spcAft>
                <a:spcPts val="7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величинам логического типа применяются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логически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операции отнош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042E-67B1-48CE-B07F-E0B082CEA8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Логические операции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55640" y="1197000"/>
          <a:ext cx="1990440" cy="4876560"/>
        </p:xfrm>
        <a:graphic>
          <a:graphicData uri="http://schemas.openxmlformats.org/drawingml/2006/table">
            <a:tbl>
              <a:tblPr/>
              <a:tblGrid>
                <a:gridCol w="955440"/>
                <a:gridCol w="1035000"/>
              </a:tblGrid>
              <a:tr h="153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771640" y="1197000"/>
          <a:ext cx="1527480" cy="4876920"/>
        </p:xfrm>
        <a:graphic>
          <a:graphicData uri="http://schemas.openxmlformats.org/drawingml/2006/table">
            <a:tbl>
              <a:tblPr/>
              <a:tblGrid>
                <a:gridCol w="1527480"/>
              </a:tblGrid>
              <a:tr h="153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an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284720" y="1197000"/>
          <a:ext cx="1579680" cy="4876920"/>
        </p:xfrm>
        <a:graphic>
          <a:graphicData uri="http://schemas.openxmlformats.org/drawingml/2006/table">
            <a:tbl>
              <a:tblPr/>
              <a:tblGrid>
                <a:gridCol w="1579680"/>
              </a:tblGrid>
              <a:tr h="153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or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867280" y="1197000"/>
          <a:ext cx="1582920" cy="4876920"/>
        </p:xfrm>
        <a:graphic>
          <a:graphicData uri="http://schemas.openxmlformats.org/drawingml/2006/table">
            <a:tbl>
              <a:tblPr/>
              <a:tblGrid>
                <a:gridCol w="1582920"/>
              </a:tblGrid>
              <a:tr h="153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xor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451640" y="1197000"/>
          <a:ext cx="1224000" cy="487692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153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EE7F-C213-4A6E-A248-DF56F67883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Операции отношения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120" y="1219320"/>
          <a:ext cx="6618240" cy="4876560"/>
        </p:xfrm>
        <a:graphic>
          <a:graphicData uri="http://schemas.openxmlformats.org/drawingml/2006/table">
            <a:tbl>
              <a:tblPr/>
              <a:tblGrid>
                <a:gridCol w="3089160"/>
                <a:gridCol w="3529080"/>
              </a:tblGrid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 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 или рав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ьш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ьше или равн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рав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0C7-308E-4787-85E4-35102A83B5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4920" y="11952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Целые типы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68360" y="1268280"/>
          <a:ext cx="8261280" cy="4876920"/>
        </p:xfrm>
        <a:graphic>
          <a:graphicData uri="http://schemas.openxmlformats.org/drawingml/2006/table">
            <a:tbl>
              <a:tblPr/>
              <a:tblGrid>
                <a:gridCol w="1822320"/>
                <a:gridCol w="1166760"/>
                <a:gridCol w="787680"/>
                <a:gridCol w="4484520"/>
              </a:tblGrid>
              <a:tr h="11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пазон знач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й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768 .. 32767  (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rt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8 .. 127   (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.. 255   (0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ай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.. 65535   (0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ай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147483648 .. 2147483647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4185-F2FF-4240-9A6A-BCA146FE91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Операции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с целыми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00000" y="1773360"/>
          <a:ext cx="7201080" cy="3289320"/>
        </p:xfrm>
        <a:graphic>
          <a:graphicData uri="http://schemas.openxmlformats.org/drawingml/2006/table">
            <a:tbl>
              <a:tblPr/>
              <a:tblGrid>
                <a:gridCol w="3894120"/>
                <a:gridCol w="3306960"/>
              </a:tblGrid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 опер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чит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но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ток от де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900000" y="530064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и 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разрядные операции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, xo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и сдвига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l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80280" y="1176480"/>
            <a:ext cx="44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рифметические 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CEC4-8940-4186-9AFF-3FFF54E95E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Стандартные функции для целых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2211480" y="57837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55640" y="1197000"/>
          <a:ext cx="8208720" cy="5471640"/>
        </p:xfrm>
        <a:graphic>
          <a:graphicData uri="http://schemas.openxmlformats.org/drawingml/2006/table">
            <a:tbl>
              <a:tblPr/>
              <a:tblGrid>
                <a:gridCol w="889920"/>
                <a:gridCol w="2500920"/>
                <a:gridCol w="1634040"/>
                <a:gridCol w="3183840"/>
              </a:tblGrid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с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 записываетс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c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ктангенс уг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tg 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исываетс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cta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инус уг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 x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ываетс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он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исываетс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уральный логариф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ываетс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а на чет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аст в результат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ыдущее 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d(3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ст в результат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ус уг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 x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ываетс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q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исываетс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qr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q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ный кор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ываетс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qrt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едующее 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cc(3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ст в результате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2211480" y="50076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4C4-EBA5-41B5-9E70-A9BA2D282E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103680"/>
            <a:ext cx="76788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Лекция 1. Основные понятия языка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9640" y="2852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В этой лекции описано то, что необходимо для создания простейших программ: элементарные строительные блоки языка, стандартные типы данных, структура программы, переменные, операции, выражения и процедуры ввода-вывода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7858-E883-4F02-952B-47071336F8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Стандартные процедуры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55640" y="1197000"/>
          <a:ext cx="7488360" cy="3578040"/>
        </p:xfrm>
        <a:graphic>
          <a:graphicData uri="http://schemas.openxmlformats.org/drawingml/2006/table">
            <a:tbl>
              <a:tblPr/>
              <a:tblGrid>
                <a:gridCol w="897120"/>
                <a:gridCol w="2517480"/>
                <a:gridCol w="4073760"/>
              </a:tblGrid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с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4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кре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— увеличить х на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3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— увеличить х на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ремен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— уменьшить х на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3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— уменьшить х на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060E-2338-4C9D-841A-D823587068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4920" y="11952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Вещественные типы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утреннее представление вещественного числа состоит из двух частей — </a:t>
            </a:r>
            <a:r>
              <a:rPr b="0" lang="ru-RU" sz="2400" spc="-1" strike="noStrike">
                <a:solidFill>
                  <a:srgbClr val="336699"/>
                </a:solidFill>
                <a:latin typeface="Verdana"/>
              </a:rPr>
              <a:t>мантисс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2400" spc="-1" strike="noStrike">
                <a:solidFill>
                  <a:srgbClr val="336699"/>
                </a:solidFill>
                <a:latin typeface="Verdana"/>
              </a:rPr>
              <a:t>порядк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и каждая часть имеет зна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уществует несколько вещественных типов, различающихся </a:t>
            </a:r>
            <a:r>
              <a:rPr b="0" lang="ru-RU" sz="2400" spc="-1" strike="noStrike">
                <a:solidFill>
                  <a:srgbClr val="336699"/>
                </a:solidFill>
                <a:latin typeface="Verdana"/>
              </a:rPr>
              <a:t>точностью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2400" spc="-1" strike="noStrike">
                <a:solidFill>
                  <a:srgbClr val="336699"/>
                </a:solidFill>
                <a:latin typeface="Verdana"/>
              </a:rPr>
              <a:t>диапазоно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едставления данных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числа определяется длиной мантиссы, а диапазон — длиной порядк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8DB2-46F1-4DF0-AFA7-804D4B89DD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1864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Характеристика вещественных типов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95280" y="981000"/>
          <a:ext cx="8280360" cy="5472360"/>
        </p:xfrm>
        <a:graphic>
          <a:graphicData uri="http://schemas.openxmlformats.org/drawingml/2006/table">
            <a:tbl>
              <a:tblPr/>
              <a:tblGrid>
                <a:gridCol w="1827360"/>
                <a:gridCol w="1168200"/>
                <a:gridCol w="789120"/>
                <a:gridCol w="4495680"/>
              </a:tblGrid>
              <a:tr h="193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ащих циф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пазон знач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й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e-39 .. 1.7e+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g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й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e-45 .. 3.4e+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e-324 .. 1.7e+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e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e-4932 .. 1.1e+49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.22e18 .. 9.22e18 (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16DB-3C03-40B6-9F58-F0E780BA90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96640" y="258840"/>
            <a:ext cx="8847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Операции с вещественными величинами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рифметическ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+     -     *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и отнош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=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=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855C-E57A-4406-B1F9-20F1E343FA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0920" y="1864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Функции для вещественных величин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9640" y="1052640"/>
          <a:ext cx="8064720" cy="5376600"/>
        </p:xfrm>
        <a:graphic>
          <a:graphicData uri="http://schemas.openxmlformats.org/drawingml/2006/table">
            <a:tbl>
              <a:tblPr/>
              <a:tblGrid>
                <a:gridCol w="2055960"/>
                <a:gridCol w="2033640"/>
                <a:gridCol w="1325520"/>
                <a:gridCol w="2649600"/>
              </a:tblGrid>
              <a:tr h="49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уральный логариф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c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ктангенс уг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числа 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инус уг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ление до цел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он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ус уг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бная часть аргум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q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ая часть аргум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q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ный кор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n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ая часть аргум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138400" y="43534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24DD-F833-4471-B127-179BF548C5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4920" y="11952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Символьный тип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т тип данных, обозначаемый ключевым словом 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cha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служит для представления любого символа из набора допустимых символов. Под каждый символ отводится </a:t>
            </a:r>
            <a:r>
              <a:rPr b="0" lang="ru-RU" sz="2400" spc="-1" strike="noStrike">
                <a:solidFill>
                  <a:srgbClr val="336699"/>
                </a:solidFill>
                <a:latin typeface="Verdana"/>
              </a:rPr>
              <a:t>1 бай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 символам можно применять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перации отнош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&lt;, &lt;=, &gt;,&gt;=, =, &lt;&gt;), при этом сравниваются коды символ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857-6CD1-4079-9A12-7BB26734DA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25848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Функции для символьных величин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00000" y="1268280"/>
          <a:ext cx="7632720" cy="5038920"/>
        </p:xfrm>
        <a:graphic>
          <a:graphicData uri="http://schemas.openxmlformats.org/drawingml/2006/table">
            <a:tbl>
              <a:tblPr/>
              <a:tblGrid>
                <a:gridCol w="1487520"/>
                <a:gridCol w="3660840"/>
                <a:gridCol w="248436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7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ковый номер симв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разование в 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ыдущий 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ующий 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од в верхний регис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3065400" y="40471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0E2-5407-492E-A7A0-2B1F978B539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4920" y="11952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Порядковые типы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0920" y="907920"/>
            <a:ext cx="8202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 возможные значения порядкового типа представляют собой ограниченное упорядоченное множеств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любому порядковому типу могут быть применены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возвращает порядковый номер конкретного значения в данном тип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возвращают предыдущее и последующее значения соответственно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возвращают наименьшее и наибольшее значения величин данного тип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К порядковым относятся: логические, целые, символьный, перечисляемый, интервальны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81F-C63D-4770-9788-51B7269F69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11280" y="292392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инейные програм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295280" y="652320"/>
            <a:ext cx="7678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CAB2-9BDC-49A4-AE4C-EE383965BF6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Переменные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5550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еременна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— это величина, которая во время работы программы может изменять свое значен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 переменные, используемые в программе, должны быть описа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Дл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ждой переменной задается ее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имя и тип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integer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6600"/>
                </a:solidFill>
                <a:latin typeface="Verdan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, 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eal;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ип переменной выбирается исходя из диапазона и требуемой точности представления данны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Паскале переменные описываются в разделе описания переменных, начинающемся со служебного слов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2997360"/>
            <a:ext cx="0" cy="93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91DB-5CB3-41CC-B0D6-FDFA5B73E28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7640" y="-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Состав язы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46800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мвол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уквы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-Z, a-z, _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ифры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-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ец. символы: +, *, {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ельные символ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1673280" y="2708280"/>
            <a:ext cx="7291440" cy="1921680"/>
          </a:xfrm>
          <a:prstGeom prst="rect">
            <a:avLst/>
          </a:prstGeom>
          <a:solidFill>
            <a:srgbClr val="c0c0c0">
              <a:alpha val="61000"/>
            </a:srgbClr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екс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стант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      0.11    ‘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ас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ен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sia     a     _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ючевые слов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gin    var     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ки операци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        -       :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делител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;   [ ]  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4724280"/>
            <a:ext cx="747072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ра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авило вычисления значе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+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то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няем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:= a +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 a, b : 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7620-E6D1-4107-B627-A685B4F43D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9520"/>
            <a:ext cx="8989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Инициализация переменных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261280" cy="54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объявлении можно присвоить переменной некоторое начальное значение (инициализировать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ициализированные переменные в Паскале описываются после ключевого слова 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cons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integer = 10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real = 0.0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har = ’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ю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’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CF59-935A-41FB-9D0C-423E3FF9EE9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4920" y="5832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Именованные константы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4920" y="1218960"/>
            <a:ext cx="862812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место значений констант мож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и нужно!) использовать в программе их имен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облегчает читабельность программы и внесение в нее изменений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ight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= 61.5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 = 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 = 9.8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8D48-9ED2-4134-BAF7-62940F26B92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Выражения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3640" y="836280"/>
            <a:ext cx="5400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Выра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— правило вычисления знач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выражении участвуют </a:t>
            </a: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операнд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объединенные знаками операц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ерандами выражения могут быть константы, переменные и вызовы функц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ерации выполняются в соответствии с </a:t>
            </a: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приоритетам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ля изменения порядка выполнения операций используются </a:t>
            </a: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круглые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скобк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езультатом выражения всегда является значение определенного типа, который определяется типами операнд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еличины, участвующие в выражении, должны быть </a:t>
            </a: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совместимых типо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836640"/>
            <a:ext cx="3089520" cy="5165640"/>
          </a:xfrm>
          <a:prstGeom prst="rect">
            <a:avLst/>
          </a:prstGeom>
          <a:noFill/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 +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sin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)/2 *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результат имеет вещественный ти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a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 &lt;=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b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результат имеет логический ти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 &gt; 0)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and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 (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 &lt; 0)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результат имеет логический ти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DE16-F536-4E9E-907A-527144F8D9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Приоритеты операций Паскаля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вичные - ()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нарны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- no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минус -, взятие адреса @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и типа умножения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v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9a0000"/>
              </a:buClr>
              <a:buSzPct val="75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и типа сложения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o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9a0000"/>
              </a:buClr>
              <a:buSzPct val="7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и отношения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&lt;&gt;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&lt;=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&gt;=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E5C3-822C-4082-A310-31999F313A9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Контрольный вопрос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му равно значение выражений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 +  1e1 / 2  *  5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-1 + 1 div 2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323-5DC8-4556-9D85-119AC5F3641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53100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Структура програм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06A8-91BB-4D9B-BD36-FA3273119BA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258840"/>
            <a:ext cx="90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Структура простейшей программы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на Паскале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&lt;имя&gt;;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{ заголовок 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&lt;разделы описаний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&lt;раздел операторов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*    программа заканчивается точкой    *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A3D-5B62-416A-B52B-1FCB6004019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Разделы описаний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640" y="105228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Verdana"/>
              </a:rPr>
              <a:t>Раздел описания модуле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cr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ule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Verdana"/>
              </a:rPr>
              <a:t>Раздел описания констан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Le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100;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9.8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oeff 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er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= 5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Verdana"/>
              </a:rPr>
              <a:t>Раздел описания переменных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integer;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, y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real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Verdana"/>
              </a:rPr>
              <a:t>Раздел описания меток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el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1, 2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ro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делы описания </a:t>
            </a:r>
            <a:r>
              <a:rPr b="0" lang="ru-RU" sz="2400" spc="-1" strike="noStrike">
                <a:solidFill>
                  <a:srgbClr val="336699"/>
                </a:solidFill>
                <a:latin typeface="Verdana"/>
              </a:rPr>
              <a:t>типов, процедур и функци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будут рассмотрены позж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DADA-3C63-4F18-95E4-653CB52374C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8920" y="24768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Общая структура программы на Паскале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042920" y="1052640"/>
            <a:ext cx="5834160" cy="547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28640" y="826920"/>
            <a:ext cx="119880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92360" y="1197000"/>
            <a:ext cx="352908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Глобальные пе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32000" y="1989000"/>
            <a:ext cx="5184720" cy="1368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49160" y="1773360"/>
            <a:ext cx="230076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дпрограмма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76360" y="3645000"/>
            <a:ext cx="5111640" cy="129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0" y="3429000"/>
            <a:ext cx="230364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дпрограмма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4076640"/>
            <a:ext cx="4392720" cy="576360"/>
          </a:xfrm>
          <a:prstGeom prst="roundRect">
            <a:avLst>
              <a:gd name="adj" fmla="val 16667"/>
            </a:avLst>
          </a:prstGeom>
          <a:solidFill>
            <a:srgbClr val="ffffff">
              <a:alpha val="26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84040" y="3860640"/>
            <a:ext cx="229896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дпрограмма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2133720"/>
            <a:ext cx="338436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Локальные пе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03520" y="5084640"/>
            <a:ext cx="86040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43200" y="6308640"/>
            <a:ext cx="63792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58800" y="2421000"/>
            <a:ext cx="86040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27200" y="3068640"/>
            <a:ext cx="63792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19280" y="2781360"/>
            <a:ext cx="46044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08000" y="6021360"/>
            <a:ext cx="46044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8000" y="5589720"/>
            <a:ext cx="475164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Вызов А ... Вызов А ... Вызов В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D8FF-64DC-453F-9298-FCA08C64789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94920" y="981000"/>
            <a:ext cx="8209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сваивание – это замена старого значения переменной на ново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ое значение стирается бесслед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менная := выра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: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:=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: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+ 0.5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личины в левой и правой части должны быть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вместимы по присваиванию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апример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Verdana"/>
              </a:rPr>
              <a:t>вещественная переменная := целое выражен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294920" y="5832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Оператор присваивания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6012000" y="3286080"/>
            <a:ext cx="718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12000" y="2637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72360" y="2205000"/>
            <a:ext cx="2087280" cy="1081080"/>
          </a:xfrm>
          <a:custGeom>
            <a:avLst/>
            <a:gdLst>
              <a:gd name="textAreaLeft" fmla="*/ 365040 w 2087280"/>
              <a:gd name="textAreaRight" fmla="*/ 1513440 w 2087280"/>
              <a:gd name="textAreaTop" fmla="*/ 144720 h 1081080"/>
              <a:gd name="textAreaBottom" fmla="*/ 93636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6000" y="3286080"/>
            <a:ext cx="15825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+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648200">
            <a:off x="6155640" y="3862080"/>
            <a:ext cx="2087640" cy="1081080"/>
          </a:xfrm>
          <a:custGeom>
            <a:avLst/>
            <a:gdLst>
              <a:gd name="textAreaLeft" fmla="*/ 365400 w 2087640"/>
              <a:gd name="textAreaRight" fmla="*/ 1513800 w 2087640"/>
              <a:gd name="textAreaTop" fmla="*/ 144720 h 1081080"/>
              <a:gd name="textAreaBottom" fmla="*/ 93636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84720" y="3286080"/>
            <a:ext cx="8636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B017-944B-42FB-89F6-4B06DE5AE13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1952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Константы Паскаля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95280" y="1268280"/>
          <a:ext cx="8261280" cy="4079880"/>
        </p:xfrm>
        <a:graphic>
          <a:graphicData uri="http://schemas.openxmlformats.org/drawingml/2006/table">
            <a:tbl>
              <a:tblPr/>
              <a:tblGrid>
                <a:gridCol w="1071720"/>
                <a:gridCol w="1298520"/>
                <a:gridCol w="1560240"/>
                <a:gridCol w="1386000"/>
                <a:gridCol w="1559160"/>
                <a:gridCol w="1385640"/>
              </a:tblGrid>
              <a:tr h="797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_FuturaRound"/>
                          <a:ea typeface="Times New Roman"/>
                        </a:rPr>
                        <a:t>Цел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_FuturaRound"/>
                          <a:ea typeface="Times New Roman"/>
                        </a:rPr>
                        <a:t>Веществ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_FuturaRound"/>
                          <a:ea typeface="Times New Roman"/>
                        </a:rPr>
                        <a:t>Символь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_FuturaRound"/>
                          <a:ea typeface="Times New Roman"/>
                        </a:rPr>
                        <a:t>-</a:t>
                      </a: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_FuturaRound"/>
                          <a:ea typeface="Times New Roman"/>
                        </a:rPr>
                        <a:t>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46800" bIns="46800" anchor="ctr">
                      <a:noAutofit/>
                    </a:bodyPr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_FuturaRound"/>
                          <a:ea typeface="Times New Roman"/>
                        </a:rPr>
                        <a:t>Строко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_FuturaRound"/>
                          <a:ea typeface="Times New Roman"/>
                        </a:rPr>
                        <a:t>-</a:t>
                      </a: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_FuturaRound"/>
                          <a:ea typeface="Times New Roman"/>
                        </a:rPr>
                        <a:t>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7400"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_FuturaRound"/>
                          <a:ea typeface="Times New Roman"/>
                        </a:rPr>
                        <a:t>Дес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_FuturaRound"/>
                          <a:ea typeface="Times New Roman"/>
                        </a:rPr>
                        <a:t>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_FuturaRound"/>
                          <a:ea typeface="Times New Roman"/>
                        </a:rPr>
                        <a:t>тич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_FuturaRound"/>
                          <a:ea typeface="Times New Roman"/>
                        </a:rPr>
                        <a:t>рич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_FuturaRound"/>
                          <a:ea typeface="Times New Roman"/>
                        </a:rPr>
                        <a:t>С плавающ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_FuturaRound"/>
                          <a:ea typeface="Times New Roman"/>
                        </a:rPr>
                        <a:t>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_FuturaRound"/>
                          <a:ea typeface="Times New Roman"/>
                        </a:rPr>
                        <a:t> точк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_FuturaRound"/>
                          <a:ea typeface="Times New Roman"/>
                        </a:rPr>
                        <a:t>С порядк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FFA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e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E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’      #186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^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бырвалг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’’m fine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2771640" y="56610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Булевск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ue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BF5A-4184-4DE3-9D5C-CC4024BD41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53100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вод-вывод в Паскал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1AF1-DB86-47BE-A58A-786D1DEA508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5640" y="58680"/>
            <a:ext cx="8702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Ввод с консоли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82720" y="836640"/>
            <a:ext cx="7650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read(список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readln[(список)];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вод значения каждой переменной выполняется так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spcAft>
                <a:spcPts val="7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чение переменной выделяется как группа символов, расположенных между разделител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spcAft>
                <a:spcPts val="7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и символы преобразуются во внутреннюю форму представления, соответствующую типу переменной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spcAft>
                <a:spcPts val="7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чение записывается в ячейку памяти, определяемую именем переменн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5300640"/>
            <a:ext cx="4392360" cy="1233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: integer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 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dln(a, 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19640" y="333360"/>
            <a:ext cx="3600360" cy="1410120"/>
          </a:xfrm>
          <a:prstGeom prst="rect">
            <a:avLst/>
          </a:prstGeom>
          <a:solidFill>
            <a:srgbClr val="c0c0c0">
              <a:alpha val="54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начения при вводе разделяются пробелами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b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л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089B-993E-4C42-9AC7-B1AD9B7E3BA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3640" y="119520"/>
            <a:ext cx="9134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Вывод на консоль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te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(список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teln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[(список)];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: integer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 : real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ln(’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наче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= ’, a:3, ’ b = ’, b:5:2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(a) + b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5516640"/>
            <a:ext cx="8640720" cy="45972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наче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=   1 b =  4.12</a:t>
            </a:r>
            <a:r>
              <a:rPr b="0" lang="ru-RU" sz="2400" spc="-1" strike="noStrike">
                <a:solidFill>
                  <a:srgbClr val="336699"/>
                </a:solidFill>
                <a:latin typeface="Verdana"/>
              </a:rPr>
              <a:t>4.9614709848E+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5456-0039-4C5B-B520-D2966D0FC76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indefinite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3" dur="indefinite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4" dur="indefinite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Правила записи процедур вывода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6994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писок вывода разделяется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запятым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писок содержит выражения логических, целых, вещественных, символьного и строкового тип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сле любого значения можно через двоеточие указать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количество отводимых под него позици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ля вещественных чисел можно указать второй формат, указывающий, сколько позиций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из общего количеств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позиций отводится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под дробную час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числ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Если форматы не указаны, под целое число, символ и строку отводится минимально необходимое для их представления количество позиций. Под вещественное число отводится 17 позиций, 10 из них — под дробную ча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Форматы могут быть выражениями целого тип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2679-D9C4-439E-ACEB-9E067FE23C9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4920" y="24156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Пример: перевод температуры из 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F </a:t>
            </a: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в С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am temperatur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 fahr, cels : real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'Введите температуру по Фаренгейту');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l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h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;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l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:= 5 / 9 *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h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32);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'По Фаренгейту: '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h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6:2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' в градусах Цельсия: '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l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6: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0968-AF05-415C-A903-F4BA53DD6D4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95280" y="53100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Тест №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для само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Паскаль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97CC-8BA1-4786-9E10-2B95A8CD54F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) Выберите все правильные отве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переменной типа byte можно хранить числ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  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  2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  -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  -2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  12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Выберите все правильные отве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исло 256 можно хранить в переменной тип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  by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  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3  short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long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re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1BC-2627-4E50-A266-083E8EEC979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Выберите все допустимые конста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  '\\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  $00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  -7.1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  'Ж'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  1,2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Какие выражения не содержат синтаксических ошибок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 -0.18 * Pi / r - 0.2 * 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 (-0.18) * Pi / 1(r - 0.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 cos^2 * x + 0,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 (-0.18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P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\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0.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F65A-18C5-4523-BED3-4D419C14F7E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Чему равно значение выражения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qrt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 * 1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 / 2 *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=4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=3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Чему равно значение выраж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and not b xor 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a = true, b = true,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= fal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  fals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 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  нечто средне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10F5-FC0F-49CC-96A0-0B1DF5FFAA2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7) Какие выражения не содержат синтаксических ошибок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  sin(abs(0.6e3 * y_t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  a div b / c * m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  $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F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01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.34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7_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  1_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exp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8) Чему равно значение переменной А после выполнения фрагмента программы, если В=5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:= 2; if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&gt;= 4 then C := 1 el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f B &gt; 2 then C := 0; A := C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F9A9-C6A5-4EF6-B09B-A19DA71B8C9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1952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Имена (идентификаторы)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981000"/>
            <a:ext cx="7913520" cy="23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25000"/>
              </a:lnSpc>
              <a:spcBef>
                <a:spcPts val="601"/>
              </a:spcBef>
              <a:spcAft>
                <a:spcPts val="4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мя должно 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начинаться с буквы или _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lnSpc>
                <a:spcPct val="125000"/>
              </a:lnSpc>
              <a:spcBef>
                <a:spcPts val="601"/>
              </a:spcBef>
              <a:spcAft>
                <a:spcPts val="4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мя должно содержать только буквы, знак подчеркивания и цифр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lnSpc>
                <a:spcPct val="125000"/>
              </a:lnSpc>
              <a:spcBef>
                <a:spcPts val="601"/>
              </a:spcBef>
              <a:spcAft>
                <a:spcPts val="4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писные и строчные буквы не различаются в Паскале и различаются в др. языка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lnSpc>
                <a:spcPct val="125000"/>
              </a:lnSpc>
              <a:spcBef>
                <a:spcPts val="601"/>
              </a:spcBef>
              <a:spcAft>
                <a:spcPts val="4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ина имени практически не ограниче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125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443700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римеры правильных име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Vasia, A, A13, A_and_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римеры неправильных име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late, Big gi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ю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ля С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#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ьн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873E-3261-4496-B785-09292BE71B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5280" y="53100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Ответы 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тест №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для само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CE74-B72F-4861-97A2-F130B187D16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) Выберите все правильные отве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переменной типа byte можно хранить числ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  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  2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3  -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4  -2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5  12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Выберите все правильные отве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исло 256 можно хранить в переменной тип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Verdana"/>
              </a:rPr>
              <a:t>1  by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  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Verdana"/>
              </a:rPr>
              <a:t>3  short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long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re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D55C-CC37-42CA-BF44-7CEB2BB0D5C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Выберите все допустимые конста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  '\\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2  $00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F</a:t>
            </a:r>
            <a:r>
              <a:rPr b="1" lang="en-US" sz="2000" spc="-1" strike="noStrike">
                <a:solidFill>
                  <a:srgbClr val="9a00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  -7.1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4  'Ж'</a:t>
            </a:r>
            <a:r>
              <a:rPr b="1" lang="ru-RU" sz="2000" spc="-1" strike="noStrike">
                <a:solidFill>
                  <a:srgbClr val="9a0000"/>
                </a:solidFill>
                <a:latin typeface="Verdana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5  1</a:t>
            </a:r>
            <a:r>
              <a:rPr b="1" lang="ru-RU" sz="2000" spc="-1" strike="noStrike">
                <a:solidFill>
                  <a:srgbClr val="9a0000"/>
                </a:solidFill>
                <a:latin typeface="Verdana"/>
              </a:rPr>
              <a:t>,</a:t>
            </a: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Какие выражения не содержат синтаксических ошибок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 -0.18 * Pi / r - 0.2 * 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2 (-0.18) * Pi / </a:t>
            </a:r>
            <a:r>
              <a:rPr b="1" lang="en-US" sz="2000" spc="-1" strike="noStrike">
                <a:solidFill>
                  <a:srgbClr val="9a0000"/>
                </a:solidFill>
                <a:latin typeface="Verdana"/>
              </a:rPr>
              <a:t>1(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r - 0.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3 cos</a:t>
            </a:r>
            <a:r>
              <a:rPr b="1" lang="en-US" sz="2000" spc="-1" strike="noStrike">
                <a:solidFill>
                  <a:srgbClr val="9a0000"/>
                </a:solidFill>
                <a:latin typeface="Verdana"/>
              </a:rPr>
              <a:t>^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2 * x + 0</a:t>
            </a:r>
            <a:r>
              <a:rPr b="1" lang="en-US" sz="2000" spc="-1" strike="noStrike">
                <a:solidFill>
                  <a:srgbClr val="9a0000"/>
                </a:solidFill>
                <a:latin typeface="Verdana"/>
              </a:rPr>
              <a:t>,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4 (-0.18)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*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 Pi</a:t>
            </a:r>
            <a:r>
              <a:rPr b="1" lang="ru-RU" sz="2000" spc="-1" strike="noStrike">
                <a:solidFill>
                  <a:srgbClr val="9a0000"/>
                </a:solidFill>
                <a:latin typeface="Verdana"/>
              </a:rPr>
              <a:t>)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9a0000"/>
                </a:solidFill>
                <a:latin typeface="Verdana"/>
              </a:rPr>
              <a:t>\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r </a:t>
            </a: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-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0.2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*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 t</a:t>
            </a: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)</a:t>
            </a:r>
            <a:r>
              <a:rPr b="1" lang="ru-RU" sz="2000" spc="-1" strike="noStrike">
                <a:solidFill>
                  <a:srgbClr val="9a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43BB-A029-4FDC-BD9C-D819A026BA1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Чему равно значение выражения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+ ((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qrt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 * 10) / 2) *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=4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=3 ?        </a:t>
            </a:r>
            <a:r>
              <a:rPr b="1" lang="ru-RU" sz="2000" spc="-1" strike="noStrike">
                <a:solidFill>
                  <a:srgbClr val="9a0000"/>
                </a:solidFill>
                <a:latin typeface="Verdana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Чему равно значение выраж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al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(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and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xor c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a = true, b = true,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= fal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  fals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Verdana"/>
              </a:rPr>
              <a:t>2 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3  нечто средне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987640" y="285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B00D-78B1-4FD2-9A5A-AF387E5F01B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7) Какие выражения не содержат синтаксических ошибок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 sin(abs(0.6e3 * y_t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Verdana"/>
              </a:rPr>
              <a:t>2  a div b / c * </a:t>
            </a:r>
            <a:r>
              <a:rPr b="1" lang="en-US" sz="1800" spc="-1" strike="noStrike">
                <a:solidFill>
                  <a:srgbClr val="9a0000"/>
                </a:solidFill>
                <a:latin typeface="Verdana"/>
              </a:rPr>
              <a:t>mo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  $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F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01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34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7_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2b2b2"/>
                </a:solidFill>
                <a:latin typeface="Verdana"/>
              </a:rPr>
              <a:t>4  </a:t>
            </a:r>
            <a:r>
              <a:rPr b="1" lang="ru-RU" sz="1800" spc="-1" strike="noStrike">
                <a:solidFill>
                  <a:srgbClr val="9a0000"/>
                </a:solidFill>
                <a:latin typeface="Verdana"/>
              </a:rPr>
              <a:t>1_2</a:t>
            </a:r>
            <a:r>
              <a:rPr b="1" lang="en-US" sz="1800" spc="-1" strike="noStrike">
                <a:solidFill>
                  <a:srgbClr val="9a0000"/>
                </a:solidFill>
                <a:latin typeface="Verdana"/>
              </a:rPr>
              <a:t>i</a:t>
            </a:r>
            <a:r>
              <a:rPr b="1" lang="en-US" sz="1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b2b2b2"/>
                </a:solidFill>
                <a:latin typeface="Verdana"/>
              </a:rPr>
              <a:t>-</a:t>
            </a:r>
            <a:r>
              <a:rPr b="1" lang="en-US" sz="1800" spc="-1" strike="noStrike">
                <a:solidFill>
                  <a:srgbClr val="b2b2b2"/>
                </a:solidFill>
                <a:latin typeface="Verdana"/>
              </a:rPr>
              <a:t> exp</a:t>
            </a:r>
            <a:r>
              <a:rPr b="1" lang="ru-RU" sz="1800" spc="-1" strike="noStrike">
                <a:solidFill>
                  <a:srgbClr val="b2b2b2"/>
                </a:solidFill>
                <a:latin typeface="Verdana"/>
              </a:rPr>
              <a:t>(</a:t>
            </a:r>
            <a:r>
              <a:rPr b="1" lang="en-US" sz="1800" spc="-1" strike="noStrike">
                <a:solidFill>
                  <a:srgbClr val="b2b2b2"/>
                </a:solidFill>
                <a:latin typeface="Verdana"/>
              </a:rPr>
              <a:t>y</a:t>
            </a:r>
            <a:r>
              <a:rPr b="1" lang="ru-RU" sz="1800" spc="-1" strike="noStrike">
                <a:solidFill>
                  <a:srgbClr val="b2b2b2"/>
                </a:solidFill>
                <a:latin typeface="Verdana"/>
              </a:rPr>
              <a:t>)</a:t>
            </a:r>
            <a:r>
              <a:rPr b="1" lang="en-US" sz="1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b2b2b2"/>
                </a:solidFill>
                <a:latin typeface="Verdana"/>
              </a:rPr>
              <a:t>/</a:t>
            </a:r>
            <a:r>
              <a:rPr b="1" lang="en-US" sz="1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b2b2b2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b2b2b2"/>
                </a:solidFill>
                <a:latin typeface="Verdana"/>
              </a:rPr>
              <a:t>*</a:t>
            </a:r>
            <a:r>
              <a:rPr b="1" lang="en-US" sz="1800" spc="-1" strike="noStrike">
                <a:solidFill>
                  <a:srgbClr val="b2b2b2"/>
                </a:solidFill>
                <a:latin typeface="Verdana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8) Чему равно значение переменной А после выполнения фрагмента программы, если В=5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A := 2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if </a:t>
            </a:r>
            <a:r>
              <a:rPr b="1" lang="ru-RU" sz="2000" spc="-1" strike="noStrike">
                <a:solidFill>
                  <a:srgbClr val="336699"/>
                </a:solidFill>
                <a:latin typeface="Verdana"/>
              </a:rPr>
              <a:t>В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 &gt;= 4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then C :=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1" lang="ru-RU" sz="2000" spc="-1" strike="noStrike">
                <a:solidFill>
                  <a:srgbClr val="9a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lse if B &gt; 2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n C := 0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A := C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7D4-64F6-46D7-84D0-1026A5ED2DD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Итог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-8 баллов – «отлично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6 баллов – «хорошо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-5 баллов – «удовлетворительно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41C6-7B3A-4DDD-ABB7-993B25FA0B2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4920" y="11952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Нотации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1520" y="765000"/>
            <a:ext cx="87724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нятные и согласованные между собой имена — основа хорошего стиля. Существует несколько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нотаци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— соглашений о правилах создания имен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88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Нотация Паскал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 каждое слово начинается с прописной букв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22240" indent="-285840">
              <a:lnSpc>
                <a:spcPct val="115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MaxLength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yFuzzyShooshpanchi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88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Венгерская нотац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отличается от предыдущей наличием префикса, соответствующего типу величин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22240" indent="-285840">
              <a:lnSpc>
                <a:spcPct val="115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iMaxLength, lpf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yFuzzyShooshpanchi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88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Camel notation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с прописной буквы начинается каждое слово, составляющее идентификатор, кроме первого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22240" indent="-285840">
              <a:lnSpc>
                <a:spcPct val="115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maxLength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yFuzzyShooshpanchi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88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ще одна традиция — разделять слова, составляющие имя, знаками подчеркивания, при этом все составные части начинаются со строчной букв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22240" indent="-285840">
              <a:lnSpc>
                <a:spcPct val="115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max_length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y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zzy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oshpanchik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DE0-8E3F-4DF7-802A-A4351595E7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11340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Ключевые слова и знаки операций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96472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99"/>
                </a:solidFill>
                <a:latin typeface="Verdana"/>
              </a:rPr>
              <a:t>Ключевые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336699"/>
                </a:solidFill>
                <a:latin typeface="Verdana"/>
              </a:rPr>
              <a:t>слов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— идентификаторы, имеющие специальное значение для компилятора. Их можно использовать только в том смысле, в котором они определе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пример, для оператора перехода определено слово </a:t>
            </a:r>
            <a:r>
              <a:rPr b="0" lang="ru-RU" sz="1800" spc="-1" strike="noStrike">
                <a:solidFill>
                  <a:srgbClr val="336699"/>
                </a:solidFill>
                <a:latin typeface="Verdana"/>
              </a:rPr>
              <a:t>goto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99"/>
                </a:solidFill>
                <a:latin typeface="Verdana"/>
              </a:rPr>
              <a:t>Знак операци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— один или более символов, определяющих действие над операндами. Внутри знака операции пробелы не допускаютс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пример, целочисленное деление в Паскале записывается </a:t>
            </a:r>
            <a:r>
              <a:rPr b="0" lang="ru-RU" sz="1800" spc="-1" strike="noStrike">
                <a:solidFill>
                  <a:srgbClr val="336699"/>
                </a:solidFill>
                <a:latin typeface="Verdana"/>
              </a:rPr>
              <a:t>div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ерации делятся на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унарны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с одним операндом) и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бинарны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с двумя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#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ть также одна тернарная опер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440320"/>
            <a:ext cx="889308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Разделител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используются для разделения или, наоборот, группирования элементов. Примеры разделителей: скобки, точка, запят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B67B-5BD1-4280-AC0E-1354B37728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Ключевые слова Паскаля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7848720" cy="5543640"/>
          </a:xfrm>
          <a:prstGeom prst="rect">
            <a:avLst/>
          </a:prstGeom>
          <a:solidFill>
            <a:srgbClr val="eaeaea"/>
          </a:solidFill>
          <a:ln w="9360">
            <a:solidFill>
              <a:srgbClr val="96969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and array asm begin </a:t>
            </a: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case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const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 constructor destructor div </a:t>
            </a: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do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 downto </a:t>
            </a: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else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 end exports file </a:t>
            </a: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for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 function </a:t>
            </a: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goto if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 implementation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in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 inherited inline </a:t>
            </a: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interface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 label library mod nil not </a:t>
            </a: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object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 of or packed procedure program record repeat set shl shr </a:t>
            </a: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string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 then to type unit until uses var </a:t>
            </a: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while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 with x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89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892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absolute assembler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export external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far forward index interrupt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name near </a:t>
            </a: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89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public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resident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virtual</a:t>
            </a:r>
            <a:r>
              <a:rPr b="1" lang="ru-RU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509-D57F-4A8F-8C94-C244F51AED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11280" y="299736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ипы дан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295280" y="652320"/>
            <a:ext cx="7678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313C-EB55-4052-81DA-844740EF47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11:53:58Z</dcterms:created>
  <dc:creator>Mux</dc:creator>
  <dc:description/>
  <dc:language>en-US</dc:language>
  <cp:lastModifiedBy>мух</cp:lastModifiedBy>
  <dcterms:modified xsi:type="dcterms:W3CDTF">2010-08-12T15:04:20Z</dcterms:modified>
  <cp:revision>97</cp:revision>
  <dc:subject/>
  <dc:title>Основные понятия языка</dc:title>
</cp:coreProperties>
</file>