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1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0CAB-3155-4C80-A3BA-A299A437019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0D19-AFEC-4F65-B212-047E604CBFE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447C-9C1A-4BBA-83C7-50C3BEA1F14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A0EC-846B-4775-A660-4BB48B3A20C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7F23-42B2-4840-8169-D1D3379F708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1CF0-F4AF-412C-9D0E-85625E45760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3901-FD5C-4ACB-A106-8971490C4D7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3709-35F0-41D6-B55A-207BD22A2C6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A3D2-70F5-44EB-9DD3-8801CCC397A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12BE-2859-4BEF-BECE-C1A7CF74BE9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284D-C795-4EF8-B4D7-174A75EC690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BBE9-1A92-48DF-80EE-065341A9098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76D8-C7A6-4503-8870-3B74B81138A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9AC9-7C24-4806-9DEF-E3DB4AC3137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40D0-0AAB-4428-87EF-7A8C13AC9D0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1D4E-CB01-4671-ADCF-99032448060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425E-AE85-44E4-9497-359063A6099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9913-1164-4FEE-A7F7-AE9FF2EE4D3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D7E7-257E-40BC-BC33-1A7EB213376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7F13-29D7-48AB-93F3-08DC8CF61B1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CC7D-E2AB-46E4-AD40-96F6424A913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BA91-08C9-4301-97CC-543FC3D3F72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9080" y="982800"/>
            <a:ext cx="4721040" cy="35416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068480" y="5175360"/>
            <a:ext cx="47736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6F96-606A-4B86-9A27-0E8EC132A87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CFEB-53EF-4C36-B0E2-DF4D84AAE91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0F47-6625-4690-9471-7950974535D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0B0A-018D-4D12-9CB2-C9D80AE682C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961A-0F5D-4569-932E-4B31EA5DB68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892A-8602-4CF0-BCE5-B413404618E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EB69-2D81-4EFA-A04B-015949D9C24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E502-0E2E-4B24-BD07-996E487E326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E4B9-A471-473E-8056-67740D25F2D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2DB8-2607-460D-9249-ABEFE94FF44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A42F-B92B-4390-9099-7E0D5B0EA0B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3723-D570-4339-883C-CAE60F88886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7605-509B-47EF-9957-D431352E64E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F206-0E6D-4A4E-A4B6-6838A00FD9D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7C4-A6A9-411B-A215-740903D1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CD99-FC70-4C65-AAA0-8F293286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6CF-87BB-44E7-9C61-569522F4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F80-9553-4939-9A73-4D0DC50B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0319-F646-4551-838F-8434A2D6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311D-3F90-4024-B221-2363D86F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F598-183F-4D48-A4F1-CFDFBDA1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BEBC-75E4-40AC-8BAF-BE353F4B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7F6B-BC1E-4C6A-BCD8-BAC77184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D96E-9B86-4E4D-B735-36B3614E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D0AD-E5BD-42F5-BEC9-C211BA88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539-64C2-4F78-A9EF-CFB7F942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028D-CA1F-4013-9776-79AF108E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FC44-08A4-4B71-AF7A-4A0A478F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C1E3-6357-452F-9A26-5F3AEDA6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51E8-44CA-44AF-A5D6-3DA47621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0CC5-D980-4C82-B62A-1CB49313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51875-B5F8-4132-AB46-F01B76DA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FF357-56C4-45AA-8F5B-5619EB60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F853A-5267-424A-8067-97DAEA4D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9864E-2657-4B1D-ACAA-0C858C73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B576-774B-4607-80E8-72C016BB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C28-4C1D-4865-8CF8-65BF4B31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BE409-E33B-4D38-A307-6F2C8391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9B2EB-36FC-4122-92D5-A4E5D2DC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068A2-35E2-4C59-8672-90CB652C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FDCD5-B34F-4DE2-A102-3AD733BE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2D7C-C7B9-4F04-984F-C917B565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1349-E6A9-41E6-9A78-C878DF13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E248-EC5A-4983-9CAF-A9854F56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8CB3F-E2A1-448C-A5B9-E2265A72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BCE82-8F82-4A27-9CD7-3DB7DA3F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64DD7-1222-4484-B918-B2585223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BC47-EB66-44D8-AE0D-38BF6CA9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ACC46-1F6C-4A55-A2A0-B10A39F7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3DBFB-F5F9-4CA4-BBD2-0B8FE18C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D45AA-296A-4C25-8DD3-CFE158F6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EA5ED-6B63-4A6C-8F4B-5918FE63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D2E41-33A7-4C40-BD7D-1EE56851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E7584-67D9-4972-8F2E-3B4511EF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1BE22-916E-45C2-B8EB-91D2D604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BE9D4-B475-4560-9261-DDBF8B66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70820-B868-4594-ABB4-AD30B6C1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C3C2A-4CC7-477B-8A66-981E69FE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8CA-7878-4C64-A479-7B07BE9B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4C2CB-7694-496B-B231-5FD74D45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CF21C-7F3F-4078-BFD2-7A3CD0A3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737E0-6E63-42F9-B7A6-CEF24E0F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A50AA-88CB-44AA-94E7-66C9662D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62656-5F9C-4B3A-80A6-4481D8A3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632D6-BEAB-4144-A0CE-2EF9F43C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906D2-1108-4AFE-95D9-98E960DF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9B6E1-4177-47B8-BBE8-F360EF79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B30E8-76C3-4FA0-B464-067718AD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7F836-571F-4687-B065-5310A0DB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E4D-0797-4631-9A84-A031F001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FB9B0-6C19-4D07-92F8-1DE0F6AA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57014-B019-4AE3-80AD-B2B85BA7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F21BD-7E38-4038-ADD0-9D7025C0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73E25-8D7F-4166-B0ED-A04C82AD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C11BD-01E5-4E7E-BBFB-9EBC1451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5DAF8-6C84-4E94-9F87-A48EA812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C9517-EB93-4F04-B164-1D785701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77013-F6B7-4F0B-AC52-6F981C4A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6EEEF-8BBF-4AAB-8037-DEA50E2D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0EB9A-FF16-41D0-902E-2497DFE8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1BA-D231-4926-9C5E-F9489FD8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337C8-08B5-4222-A3E7-EC36CA6D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E7386-D2BB-473A-919E-819D96AC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AEB25-EF5D-4002-9FCC-92683F40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1AD-2060-4422-A36B-BA0555C8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D42-CC26-4F91-9E17-5D65517A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F35B-DF95-4C4C-AB43-133159742AC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E77C-E8AD-4CC1-B047-995163EFDCF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551C-5398-4DF4-B0D9-DD43A14F39A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BE56-F6F2-428D-B2B2-48EBF38BE17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CBCC-2DF9-4A57-82E9-B5BAF80C8B8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B24C-891F-41E9-8BE2-A02FABE7736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1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4360" y="3068640"/>
            <a:ext cx="8208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.А.Немнюги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нкт-Петербургский государственный университ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Прямоугольник 3"/>
          <p:cNvSpPr/>
          <p:nvPr/>
        </p:nvSpPr>
        <p:spPr>
          <a:xfrm>
            <a:off x="468360" y="4653000"/>
            <a:ext cx="8207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uster Tools. Вводный курс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я 9. Компиля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5280" y="333360"/>
            <a:ext cx="85694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ий анализ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Прямоугольник 4"/>
          <p:cNvSpPr/>
          <p:nvPr/>
        </p:nvSpPr>
        <p:spPr>
          <a:xfrm>
            <a:off x="324000" y="1125360"/>
            <a:ext cx="8532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лексического анализ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строк исходной програм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знавание лекс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таблиц идентификаторов и литера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ть листинга исход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ий анализатор (сканер, лексер) учитывает особенности языка программирования. Это включает форматирование исходного текста, интерпретацию пробелов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ий анализатор использу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й текст програм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терминальных симво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литера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идентифика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4"/>
          <p:cNvSpPr/>
          <p:nvPr/>
        </p:nvSpPr>
        <p:spPr>
          <a:xfrm>
            <a:off x="324000" y="1125360"/>
            <a:ext cx="8532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терминальных символ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аблица, содержащая терминальные символы языка,  коды лексем и другую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символических имё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аблица, содержащая имена переменных, их тип, значение и другую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литерал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аблица, содержащая литералы (константы), их тип и другую информацию. Литералу выделяется ячейка памяти, в которую записывается константа. Далее все появления этого литерала заменяются обращениями по адресу этой ячей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работы сканера - последовательность кодов лексем. Код лексемы представляется кодом таблицы и спецификатором. Спецификатор задает номер строки в таблице, куда занесена лекс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5280" y="333360"/>
            <a:ext cx="85694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аксический анализ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Прямоугольник 4"/>
          <p:cNvSpPr/>
          <p:nvPr/>
        </p:nvSpPr>
        <p:spPr>
          <a:xfrm>
            <a:off x="324000" y="1125360"/>
            <a:ext cx="8532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аксис и семант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акси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ножество плавил, описывающих структуру предложений языка (порядок следования лексем). Речь идёт о формальной структуре предложений, а не о смыс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ант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ножество правил интерпретации смысла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аксический анали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строение дерева грамматического разбора обрабатываемого текста. Текст состоит из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анализа исходного предложения в терминах грамматических конструкций представляется в виде дерева. Такие деревья обычно называются деревьями грамматического разбора или синтаксическими деревь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4"/>
          <p:cNvSpPr/>
          <p:nvPr/>
        </p:nvSpPr>
        <p:spPr>
          <a:xfrm>
            <a:off x="324000" y="1125360"/>
            <a:ext cx="8532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терминальных символ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аблица, содержащая терминальные символы языка,  коды лексем и другую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символических имё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аблица, содержащая имена переменных, их тип, значение и другую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литерал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аблица, содержащая литералы (константы), их тип и другую информацию. Литералу выделяется ячейка памяти, в которую записывается константа. Далее все появления этого литерала заменяются обращениями по адресу этой ячей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работы сканера - последовательность кодов лексем. Код лексемы представляется кодом таблицы и спецификатором. Спецификатор задает номер строки в таблице, куда занесена лекс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3"/>
          <p:cNvSpPr/>
          <p:nvPr/>
        </p:nvSpPr>
        <p:spPr>
          <a:xfrm>
            <a:off x="2156760" y="2421000"/>
            <a:ext cx="484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иру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95280" y="169992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возможностей автоматической оптимизации компилятора может дать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начительный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игрыш в производительност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ение общих подвыражени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дно и то же подвыражение встречается несколько раз, компилятор может вычислить его один раз, а все последующие включения заменяются вычисленным значением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(b+35) * (b+35)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12.0 * (b+35)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удаления общего подвыражения превращается в следующий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mp = b + 35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tmp * tmp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12.0 * tmp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85480" y="1268280"/>
            <a:ext cx="854388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ёртка цикл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ёртка заключается в преобразовании цикла в линейную последовательность операций. Выигрыш в производительности достигается благодаря снижению накладных расходов на организацию цикла. Эффективным этот приём может быть в случае, когда тело цикла очень маленькое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or (i = 0; i &lt; 2; i++) a[i] = 2.0 * d[i]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развёртки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0] = 2.0 * d[0]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] = 2.0 *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]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2] = 2.0 *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2]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85480" y="1052640"/>
            <a:ext cx="8543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ение инвариантных выражений из тела цикл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я, не зависящие от счётчика цикла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арианты цик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целесообразно выносить за пределы цикла, так как это позволяет уменьшить количество операций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 = 0; i &lt; 10; i++) {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b * i + 0.35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уется следующим образом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 = b * 2.0 + 0.35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 = 0; i &lt; 10; i++) {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te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85480" y="1197000"/>
            <a:ext cx="8543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ановка функци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еобразование заключается в замене обращения к функции её кодом. Выигрыш в производительности может быть получен благодаря уменьшению накладных расходов на вызов функции и возвращение из неё, а также на передачу параметр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подстановка функции увеличивает эффективность использования кэш-памяти, так как код становится непрерывны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ком является увеличение размера программы, которое тем более заметно, чем больше размер функции и чем больше число обращений к н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262080" y="1927080"/>
            <a:ext cx="862164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иляция – первый шаг в создании проце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ирующие пре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иля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2562840" y="115920"/>
            <a:ext cx="32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85480" y="1196640"/>
            <a:ext cx="8543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ёртка и распространение констан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ыражение, содержащее только константы, вычисляется, а результат его вычисления подставляется в код программы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b + 2.0 / 3.0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илятор заменит данный код следующим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b + 0.666666666666666666667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вариант более удобен для программиста, поскольку улучшает читаемость код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стить свёртку констант компилятором можно, разместив константное выражение в скобка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285480" y="1125360"/>
            <a:ext cx="8543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указателе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втоматической оптимизации указатель или ссылка могут быть удалены, если известен их адреса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ub(int * p) {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p = *p - 5;}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10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b(&amp;a)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преобразования генерируется следующий код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10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-= 5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285480" y="1125360"/>
            <a:ext cx="854388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е ветве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вид оптимизации заключается в объединении одинаковых фрагментов кода, например фрагмент код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b)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x*x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y * 1.5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{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sin(x)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y * 1.5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птимизации будет выглядеть следующим образом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b)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x*x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sin(x); }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y * 1.5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78920" y="1120680"/>
            <a:ext cx="885852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ическая редукц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ическая редукция заключается в упрощении алгебраических выражений. Компиляторы могут выполнять редукцию относительно простых выражений, хотя и с определёнными ограничениями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a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(b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c)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-(-a) = a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0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(-a)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(-b) = a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1 = a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ru-RU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1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бращать внимание на корректность программы после оптимизации с использованием алгебраической редукции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85852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я логических выражени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ивалентные преобразования логических выражений, приводящие к понижению их сложности. Примеры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(!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) || (a&amp;&amp;c) = a&amp;&amp;(b||c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a &amp;&amp; !b = !(a || b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&amp;&amp; !a = false, a || !a = tru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&amp;&amp; true = a, a || false = 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&amp;&amp; false = false, a || true = tru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&amp;&amp; a = 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&amp;&amp;b) || (!a&amp;&amp;c) = a ? b : c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78920" y="1120680"/>
            <a:ext cx="885852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точностью вычислени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ключей управления точностью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fp:precise (-fp-model precise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fp:source  (-fp-model source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fp:fast (-fp-model fast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78920" y="1096920"/>
            <a:ext cx="88585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переходов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е ветвей условного оператор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егистровых переменных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дуктивных переменных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последовательности выполнения операций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полнении арифметических операций с плавающей точкой изменение последовательности операндов может привести к изменению результата вычисления арифметического выражения. В примере: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a = -1.0E8, b = 1.0E8, c = 1.23456, y;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a + b + c;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%f\n", y);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b + c + a;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%f", y);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 результата – разные.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78920" y="1096920"/>
            <a:ext cx="88585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виды автоматической оптимизац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ация под архитектуру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раллеливани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ация с профилированием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процедурная оптимизац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435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изменения поведения программы после оптимизации уровн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O2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 func(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(1000), b(0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 = 0; i &lt; 10000; i++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(a-i)/(a-i)*b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false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0" y="149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втоматической оптимизации может измениться поведен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3"/>
          <p:cNvSpPr/>
          <p:nvPr/>
        </p:nvSpPr>
        <p:spPr>
          <a:xfrm>
            <a:off x="2622240" y="2276640"/>
            <a:ext cx="381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иля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3"/>
          <p:cNvSpPr/>
          <p:nvPr/>
        </p:nvSpPr>
        <p:spPr>
          <a:xfrm>
            <a:off x="611280" y="1916280"/>
            <a:ext cx="78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иляция - первый шаг в создании проц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5280" y="119664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илятор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C++, Fortra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ключены в состав различных пакетов ПО для профессионального разработчи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ются платформ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Window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ся работа с оптимизированными библиотеками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MKL, Intel®IP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ая оптимиза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рхитекту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ная поддержка векторизации (увеличенная разрядность векторных инструкций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ran 2008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Visual Studi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а на ресурс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oftware.intel.co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95280" y="119700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U Compiler Collection (GCC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илятор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C++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ны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Fortran, Ada, Jav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ивается платформ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спространяется свободно, в том числе в исходных кода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ются различные варианты оптимизации, отладки, кодогенерации, компиляции для разных платфор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с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Cil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u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а на ресурс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gcc.gnu.org/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95280" y="119700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 Solaris Studio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илятор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C+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ra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иваются платформ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ari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рхитектур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86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R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ются различные варианты оптимизации, отладки, кодогенераци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а на ресурс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oracle.co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95280" y="119700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I Workstation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илятор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C+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ra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иваются платформ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, Microsoft Window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O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рхитектур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86, AM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D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ются различные варианты оптимизации, автоматического распараллеливания, отлад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Visual Studi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ran 2003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а на ресурс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group.com/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95280" y="119700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 (Numerical Algorithms Group) Fortran Compiler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илято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ra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иваются платформ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, Microsoft Window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O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ются различные варианты оптимизации, автоматического распараллеливания, отлад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ran 2003/2008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а на ресурс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ag.co.uk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95280" y="119700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Visual C+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держивается платфор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Window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Visual Studi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а на ресурс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icrosoft.co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24000" y="260280"/>
            <a:ext cx="8640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компиляторы (в том числе в статусе исследовательских проектов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64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а на ресурс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open64.net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ng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а на ресурс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lang.llvm.org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ble C compiler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а на ресурс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 http://pcc.ludd.ltu.se/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2" descr="compiler2v.png"/>
          <p:cNvPicPr/>
          <p:nvPr/>
        </p:nvPicPr>
        <p:blipFill>
          <a:blip r:embed="rId1"/>
          <a:stretch/>
        </p:blipFill>
        <p:spPr>
          <a:xfrm>
            <a:off x="468360" y="1341360"/>
            <a:ext cx="8424720" cy="49881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3"/>
          <p:cNvSpPr/>
          <p:nvPr/>
        </p:nvSpPr>
        <p:spPr>
          <a:xfrm>
            <a:off x="349560" y="260280"/>
            <a:ext cx="84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исходного текста программы к процессу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95280" y="119700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ят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 преобразование программы, написанной на одном языке программирования в программу на другом языке программирован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илят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 преобразование программы, написанной на языке программирования (как правило, высокого уровня) в программу на языке машинного уровн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трансляции и компиляции должны быть эквивалентны исходным программам – прежде всего, должна сохраняться корректность алгоритм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95280" y="333360"/>
            <a:ext cx="85694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фазы компиляц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75" name="Рисунок 3" descr="compiling.png"/>
          <p:cNvPicPr/>
          <p:nvPr/>
        </p:nvPicPr>
        <p:blipFill>
          <a:blip r:embed="rId1"/>
          <a:stretch/>
        </p:blipFill>
        <p:spPr>
          <a:xfrm>
            <a:off x="2700360" y="1197000"/>
            <a:ext cx="378468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5"/>
          <p:cNvSpPr/>
          <p:nvPr/>
        </p:nvSpPr>
        <p:spPr>
          <a:xfrm>
            <a:off x="324000" y="1341360"/>
            <a:ext cx="85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ий анал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ключает распознавание лексем языка программирования, замену их соответствующими код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лементарные единицы, наделённые определённым «смыслом» и входящие в структуру предложения языка (ключевые или зарезервированные слова, константы, имена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аксический анал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роверка правильности использования предложений языка в соответствии с его грамматикой. Остальные фазы компиляции выполняются только при отсутствии синтаксических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5"/>
          <p:cNvSpPr/>
          <p:nvPr/>
        </p:nvSpPr>
        <p:spPr>
          <a:xfrm>
            <a:off x="324000" y="134136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яция кода в промежуточную форм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реобразование программы в матрицу промежуточного кода. Каждая строка матрицы содержит тройку: код операции и два операнда. Промежуточные коды не имеют прямых аналогов в системе машинных команд, поэтому данную форму представления программы называют машинно-независ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меньшение избыточности программы по затратам процессорного времени и памяти. Пользователь может управлять процессом оптимизации, используя подходящие сочетания ключей (опций) оптим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5"/>
          <p:cNvSpPr/>
          <p:nvPr/>
        </p:nvSpPr>
        <p:spPr>
          <a:xfrm>
            <a:off x="324000" y="134136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памя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пределение объемов памяти каждого вида, используемого в программе. На этом этапе в матрицу промежуточного кода вносятся коды резервирования памяти . Каждая программа использует по крайней мере два вида  памяти: статическую - для размещения данных и кодов программы, и стековую - для обращения к подпрограм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ция к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дстановка кодовых образцов на выходном языке, соответствующих промежуточным кодам программы. Выполняется машинно-зависимая оптимизация программы – с учётом особенностей архитектуры целевой плат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1:55Z</dcterms:created>
  <dc:creator>sergei</dc:creator>
  <dc:description/>
  <dc:language>en-US</dc:language>
  <cp:lastModifiedBy>sergei</cp:lastModifiedBy>
  <dcterms:modified xsi:type="dcterms:W3CDTF">2012-05-29T21:17:43Z</dcterms:modified>
  <cp:revision>198</cp:revision>
  <dc:subject/>
  <dc:title>Слайд 1</dc:title>
</cp:coreProperties>
</file>