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8B98-4FFC-4227-8BA3-EC40F3FF135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EE74-041C-4F17-B857-BA3F553C950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027-4565-4A7E-BF7D-30D1128A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D6A-184A-44D7-BDFE-161015C0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7D2-3623-4743-B511-2D802D30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006-9C0F-4568-886C-AF5F143F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ABE4-A413-4871-8707-5C5A58EE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9B2-5AC4-4B31-93FD-81E2848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D2FE-3C7C-4120-B389-4106DD7A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727-3877-4892-81AF-FBCD6C8A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B448-B67F-40A3-A918-D3368780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615E-77E1-4495-8629-82DD05A7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ABF3-67D3-4582-BB9E-E6F62AF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23CD-C0B8-4C17-859D-4E2E2B2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8963-5EB6-42B2-8D4A-8861ACD0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6247-A1A2-4669-B381-B1A3055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A6A7-7660-4474-8CA5-3A0E35D9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FC5-2BFA-4979-B63E-ADB9BA08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E7C7-29F0-4DED-B363-7E8F61C9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50F9-7D33-4E39-85A0-3BE1EB10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A4B9-0979-466C-AF8B-D102FD82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7909-FC31-4176-BDD7-578C9DC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89B7-4AD7-419F-988E-3C1C57FE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F8CE-AF0E-4730-8552-08784A60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5FF-8E5D-44E3-8728-CF7C3A92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D4B6-D900-4528-9CF2-B2ED316E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167B-E734-4EAC-96CB-3B249AA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6B05-200D-4B58-A5CB-D31FBEE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6456-7129-4AC0-80C5-1A7B72C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373D-A9D6-422D-89D6-A0E352D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57D6-246A-44F6-AE2F-C53016E2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418D-D6AA-4A89-A2B8-287A62DF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9CC9-67BF-494D-89B9-1CDA1878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0975-A780-4092-86BD-6E3E6F99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A350-812A-47B2-94E7-3E0D1F04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CD5-4C49-400F-AEBD-A7C23B2C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A39A-42F3-4082-972F-741524DF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71FF-E5BA-4053-81BD-6D68149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EC64-D477-40EB-975C-EF296B84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A6EE-5291-497B-8C39-775C0A0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9C78-0BDC-45CD-8477-4E399EBF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7069-02FC-4956-8C94-75E1677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F46C-04D2-4815-AFD0-2FEBA19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C64E8-AC03-4493-B87C-80231B44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1F5B7-CD12-4D25-A1EC-12D94588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D262E-C7EA-4E38-AF6E-A1500451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EAD-AC89-44AF-A6CB-286E41A7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3D0C3-71C5-40F5-AD27-385DF4A0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79519-9282-40E3-95F8-24C22423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AB8EB-BC4D-4C6F-B284-0DA58D2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51D4-B5A5-4142-B398-5524E742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1BA9-5FAD-40A0-8A86-60658655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4482-5B47-4368-825C-CBD6D54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2E79D-2004-4B76-95CF-F0124766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62F5E-1767-499A-9F74-6A450BF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9A74-4345-43D7-B451-8FE68DE0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6168-6EFE-466D-B709-734315BD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507-E62E-4334-9DC5-C6719AB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29D3-248D-41BE-B096-87053ED6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8766-8F7A-4FED-958F-ECBB710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4E2B-FA0B-4327-832E-BBB56DA6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FB74B-89CC-4100-AFCE-F806E54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BB61-6544-43A9-8BAB-1214277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A1395-5174-49EC-9412-60ADC0A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C522C-E6D0-4B8E-9425-0562471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365EC-7557-4742-AF48-D4FB68F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FFFF-C461-4AF8-BC6C-C2B3DC31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94AF6-B9D8-4FC3-B7C8-D53423D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EB5-61B0-465C-AF24-094DC6A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93F8-4826-4DFF-972C-1D060842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46DB3-0CA6-4BAE-B954-E6F5E17A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BB3A-C8CA-470C-8B83-A031537B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C71-14EE-4707-9AF6-FE8A0F71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2B0-5E0F-4C20-9245-76D3CAE2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C4DA-F275-448A-A76F-029F90874DF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0787-AFD9-4F78-903C-EC11DAF91DB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DD4-78CA-4A82-A4D9-189FD81C813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0965-7622-4FC3-87D0-6E7FE6529E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A011-5D7B-4E85-9E5A-9C97C66F96A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583B-ED16-4AE6-BC80-E3C915D1178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688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4360" y="3068640"/>
            <a:ext cx="820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.А.Немнюгин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анкт-Петербургский государственный универс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468360" y="465300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uster Tools. Вводный курс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4. Программирование с использование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® MP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ь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326880" y="1339920"/>
            <a:ext cx="8425080" cy="35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зовы подпрограмм неблокирующего обмена формируют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на выполнение операции обмена и связывают его с идентификатором операции request. Запрос идентифицирует свойства операции обме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характеристики буфера обме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онтек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тег и ран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Запрос содержит информацию о состоянии ожидающих обработки операций обмена и может быть использован для получения информации о состоянии обмена или для ожидания его завершени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>
            <a:off x="539640" y="1844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Неблокирующи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26880" y="1339920"/>
            <a:ext cx="84250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обме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фактического выполнения передачи или приема в неблокирующем режиме осуществляется с помощью вызов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 ожид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блокирующих работу процесса до завершения операции или неблокирующих подпрограмм проверки, возвращающих логическое значение «истина», если операция выполнен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326880" y="1339920"/>
            <a:ext cx="84250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 том случае, когда одновременно несколько процессов обмениваются сообщениями, можно использовать проверки, которые применяются одновременно к нескольким обме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сть три типа таких провер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всех обме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любого обмена из нескольк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 заданного обмена из нескольк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Каждая из этих проверок имеет две разнови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«ожидание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«провер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26880" y="1339920"/>
            <a:ext cx="842508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ующие операции провер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блокирует работу процесса до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Wait(MPI_Request *request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дентификатор операции обмена, выходной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326880" y="1339920"/>
            <a:ext cx="84250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ное выполнение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вызов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Ib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ет, что буфер передачи можно использовать вновь, то есть пересылаемые данные отправлены или скопированы в буфер, выделенный при вызове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Buffer_attac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момент уже нельзя отменить передачу. Если не будет зарегистрирован соответствующий прием, буфер нельзя будет освободить. В этом случае можно применить подпрограмму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Cance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освобождает память, выделенную подсистеме коммуник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326880" y="1339920"/>
            <a:ext cx="842508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всех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всех обменов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Waital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 request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[]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 statuse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all(count, requests, status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вызове этой подпрограммы выполнение процесса блокируется до тех пор, п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вс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перации обмена, связанные с активными запросами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не будут выполнены. Возвращается статус этих операций. Статус обменов содержится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. 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запросов на обмен (размер массиво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326880" y="1339920"/>
            <a:ext cx="84250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росы, сформированные неблокирующими операциями обмена, аннулируются, а соответствующим элементам массива присваивается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REQUEST_NU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успешного выполнения одной или более операций обмена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Wait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вращает код ошибки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ERR_IN_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сваивает полю ошибки статуса значение кода ошибки соответствующей опер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перация выполнена успешно, полю присваивается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UCCES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если не выполнена, но и не было ошибки - значени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ERR_PENDIN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соответствует наличию запросов на выполнение операции обмена, ожидающих обрабо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326880" y="1023840"/>
            <a:ext cx="863784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любого числа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авершения любого числа обменов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Waitany(int count, MPI_Request requests[], int *index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Waitany(count, requests, index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ение процесса блокируется до тех пор, пока, по крайней мере, один обмен из массива запросов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не будет завер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за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элементов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de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индекс запроса (в языке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это целое число от 0 до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, а в язы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rtra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т 1 до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26880" y="1339920"/>
            <a:ext cx="842508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роцедуры провер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MPI_Test выполняет неблокирующую проверку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(MPI_Request *request, int *flag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(request, flag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ой параметр: идентификатор операции обмена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«истина», если операция, заданная идентификатором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статус выполненной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2861280" y="18900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92040" y="1992240"/>
            <a:ext cx="849168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неблокирующих об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ередача и приё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выполнения неблокирующих обме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326880" y="1339920"/>
            <a:ext cx="863784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ая проверка завершения всех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l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ыполняет неблокирующую проверку завершения приема или передачи всех сообщ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all(int count, MPI_Request requests[], int *flag, MPI_Status statuses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all(count, requests, flag, statuse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вызове возвращается значение флага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 «истина», если все обмены, связанные с активными запросами в массиве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quest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выполнены. Если завершены не все обмены, флагу присваивается значение «ложь», а массив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не определ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количество запр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 статусу, соответствующему активному запросу, присваивается значение статуса соответствующего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179280" y="1339920"/>
            <a:ext cx="878544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ая проверка любого числа обмен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ыполняет неблокирующую проверку завершения приема или передачи сообщ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_Testany(int count, MPI_Request requests[], int *index, int *flag, MPI_Status *sta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Testany(count, requests, index, flag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Смысл и назначение параметров этой подпрограммы те же, что и для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Дополнительный аргумент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,  принимает значение «истина», если одна из операций заверш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Блокирующая подпрограмма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Wai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и неблокирующая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Testan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взаимозаменяемы, как и другие аналогичные п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3"/>
          <p:cNvSpPr/>
          <p:nvPr/>
        </p:nvSpPr>
        <p:spPr>
          <a:xfrm>
            <a:off x="611280" y="191628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использования неблокирующих двухточечны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326880" y="1339920"/>
            <a:ext cx="84250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tag, cnt, ierr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sndbuf(5) /1., 2., 3., 4., 5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rcvbuf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nt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195120" y="1339920"/>
            <a:ext cx="87537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send(sndbuf(1), cnt, MPI_REAL, 1, tag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WORLD, 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before Wait", snd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after Wait", snd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recv(rcvbuf(1), cnt, MPI_REAL, 0, tag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COMM_WORLD, 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95120" y="1339920"/>
            <a:ext cx="86886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tag1, tag2, cnt, ierr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integ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real sndbuf1, sndbuf2, rcvbuf1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cnt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ndbuf1 = 3.14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ndbuf2 = 2.718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195120" y="1012680"/>
            <a:ext cx="89488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sndbuf1, cnt, MPI_REAL, 1, tag1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", snd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sndbuf2, cnt, MPI_REAL, 1, tag2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send ", snd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recv(rcvbuf1, cnt, MPI_REAL, 0, tag1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ques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rcvbuf2, cnt, MPI_REAL, 0, tag2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before Wait"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Wait(request, 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process ", rank, " received after Wait", rcvbu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3"/>
          <p:cNvSpPr/>
          <p:nvPr/>
        </p:nvSpPr>
        <p:spPr>
          <a:xfrm>
            <a:off x="1284120" y="234936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ы-проб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4"/>
          <p:cNvSpPr/>
          <p:nvPr/>
        </p:nvSpPr>
        <p:spPr>
          <a:xfrm>
            <a:off x="131760" y="1012680"/>
            <a:ext cx="901224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ая проверка сообщ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ая проверка сообщения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prob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prob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ходные параметры этой подпрограммы те же, что и у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MPI_Prob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Выходные 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fla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ф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statu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- стат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Если сообщение уже поступило и может быть принято, возвращается значение флага «ист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08000" y="1146240"/>
            <a:ext cx="9144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полученного сообщения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но определить с помощью вызова под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_Get_count(MPI_Status *status, MPI_Datatype datatype, int *cou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Get_count(status, datatype, count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  количество элементов в буфере пере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тип каждого пересылаемого эле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с обм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 код завер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гумент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ен соответствовать типу данных, указанному в операции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3"/>
          <p:cNvSpPr/>
          <p:nvPr/>
        </p:nvSpPr>
        <p:spPr>
          <a:xfrm>
            <a:off x="395280" y="19890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Неблокирующих обм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195120" y="1339920"/>
            <a:ext cx="89488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华文楷体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ogram main_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clude 'mpif.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nteger rank, i, k, ierr, tag, dest, status(MPI_status_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rea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tag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dest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Init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Comm_rank(MPI_COMM_WORLD, rank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rank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 =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i, 1, MPI_INTEGER, dest, tag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 if(rank.eq.1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x = 3.14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Send(x, 1, MPI_REAL, dest, tag, MPI_COMM_WORLD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华文楷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195120" y="1012680"/>
            <a:ext cx="894888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do k =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Probe(MPI_ANY_SOURCE, tag, MPI_COMM_WORLD, statu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f (status(MPI_source).eq.0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i, 1, MPI_INTEGER, 0, tag, MPI_COMM_WORL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atus, 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received ", i, " from 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Recv(x, 1, MPI_REAL, 1, tag, MPI_COMM_WORLD, statu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华文楷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print *, "received ", x, " from 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call MPI_Finalize(ie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79280" y="1339920"/>
            <a:ext cx="876960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зов подпрограммы неблокирующей передачи инициирует, но не завершает ее. Завершиться выполнение подпрограммы может еще до того, как сообщение будет скопировано в буфер пере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менение неблокирующих операций улучшает производительность программы, поскольку в этом случае допускается перекрытие (то есть одновременное выполнение) вычислений и обменов. Передача данных из буфера или их считывание может происходить одновременно с выполнением процессом другой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326880" y="1339920"/>
            <a:ext cx="842508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ля завершения неблокирующего обмена требуется вызов дополнительной процедуры, которая проверяет, скопированы ли данные в буфер пере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и неблокирующем обмене возвращение из подпрограммы обмена происходит сразу, но запись в буфер или считывание из него после этого производи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- сообщение может быть еще не отправлено или не получено и работа с буфером может «испортить» его содержимо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4"/>
          <p:cNvSpPr/>
          <p:nvPr/>
        </p:nvSpPr>
        <p:spPr>
          <a:xfrm>
            <a:off x="326880" y="1339920"/>
            <a:ext cx="842508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Неблокирующий обмен выполняется в два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ици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бм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роверка завер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об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Разделение этих шагов делает необходимы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маркиров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каждой операции обмена, которая позволяет целенаправленно выполнять проверки завершения соответствующих опер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Для маркировки в неблокирующих операциях использу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дентификаторы операций обм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3"/>
          <p:cNvSpPr/>
          <p:nvPr/>
        </p:nvSpPr>
        <p:spPr>
          <a:xfrm>
            <a:off x="1193040" y="2133720"/>
            <a:ext cx="701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окирующие передач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326880" y="1339920"/>
            <a:ext cx="855684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Инициализация неблокирующей стандартной передач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выполняется подпрограммам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MPI_I[S, B, R]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华文楷体"/>
              </a:rPr>
              <a:t>Стандартная неблокирующ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передача выполняется подпрограмм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 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ые параметры этой подпрограммы аналогичны аргументам под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_Sen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ной параметр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дентификатор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326880" y="1339920"/>
            <a:ext cx="855684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ализация неблокирующего приема выполняется при вызове под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rec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 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 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PI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rec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typ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urc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g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es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er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аргументов здесь такое же, как и в ранее рассмотренных подпрограммах, за исключением того, что указывается ранг не адресата, а источника сообщения (sour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1:55Z</dcterms:created>
  <dc:creator>sergei</dc:creator>
  <dc:description/>
  <dc:language>en-US</dc:language>
  <cp:lastModifiedBy>sergei</cp:lastModifiedBy>
  <dcterms:modified xsi:type="dcterms:W3CDTF">2012-05-29T20:43:34Z</dcterms:modified>
  <cp:revision>19</cp:revision>
  <dc:subject/>
  <dc:title>Слайд 1</dc:title>
</cp:coreProperties>
</file>