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B2FF-9F28-4CB0-948F-64CC4D9C9EC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A139-5C75-44EC-97AC-FBCC0F474FF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F784-3688-4EEE-9000-F2788F66F1F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4AF-3B7A-4485-85A7-6D0E091D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79B-1121-49D0-A5EF-AA52187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491-E44F-4443-B3AF-EDF31E5A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116-BAFF-4DC2-8327-CF83AF17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8251-2FA1-4187-9FF5-DA40373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AAFE-4E92-4B09-8164-E3C86FB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798-4F31-47A0-ABD7-D5C3B53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E7EB-8862-4B96-B149-8B0725A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C4AF-690A-4001-B031-B66D8983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DC0-F07E-4BBD-AC04-CC396F57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9497-2994-4D94-A1EB-AD1F7F0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2BE-3578-4D83-AFD3-48404A8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D23-AC4D-468B-A14F-7D0F3D0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3961-07C7-402C-B404-91837DD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2754-8BA5-4E7E-ADB8-86AFA5B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06CF-C9B0-42B6-B662-9BCD31BE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139-D12A-4651-A072-90921DC3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FC15-1628-4894-B66E-2F578060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B5D5-85FE-49C3-B1BB-12D1B770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3FF4-2B60-4B58-AA71-4446D210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DBBC-46EC-4E27-81FA-07FA7E3A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DE72-62E6-4D49-A9CA-7CA3AE78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F37-4215-4EF3-AAD5-FE9690B6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2F3C-FA98-4BEB-B03C-A6EAD720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CA33-6249-4050-AF84-E2B79F9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10F4-75B4-4B2C-A131-110793C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77B1-4BDC-4895-8D9C-389F96B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B36E-E31E-4D16-86EF-D9E1481C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CEFD-B42E-483B-AB9A-32C0C0A6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80E0-B68C-4669-B252-5A625268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2FD7-FD21-416A-AFFF-0866473E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B3C6-557E-455A-9D7B-401075A5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AFFA-45EB-42B7-966A-EC6249DE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BB3-B8BE-48B8-A362-ECF7C0F1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47A6-C468-40F9-A674-83C8B165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EFA0-31CD-4413-9EE5-1DCEB43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CC09-7BB3-4C4A-95D9-FAE53C08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4715-9B98-442F-BB4D-9BBC24C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E1D2-179E-4B94-BA79-CDB469D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F256-4C1A-45BB-AFF8-3EA3047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82F3-FDAF-4075-BA20-1AD8C005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0F11-C466-4800-9B1C-E2345C8A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7AEC-C5B2-4E0D-93CD-1D012883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3732-D05A-4128-AFB3-273A9E7D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EDC-2C30-4359-89B0-30CB23AE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FEDA-B93E-4EE7-AAB7-ADBA0537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38AB-7271-4651-9BF7-40627ACE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C176E-63FE-434D-85A2-4F4D171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4EAA-E49A-4D6F-83F4-8867A04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2E2E-DAD6-45E1-829A-78416946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8BD0-AD35-4920-9D81-BE505294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F91D-C5E4-463C-B56D-51D64B9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D3222-4DFC-40DA-AC10-C324810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6ED3-CB73-4A22-B6D8-B727992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25D27-F2BA-4493-9C47-62E0609C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74D-C7B7-45DA-87E6-7D2ABC6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138E-1806-4DD3-9500-1B58E598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66727-36A5-4686-B4BB-F5972C9D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48BD-6342-4BB0-9864-D92F0F5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DF721-0306-4603-B0F6-CF3D798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6074-4B91-4A12-91C2-9FD5A22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B541-3AFE-49A7-986C-E551940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741E-39CB-46B0-A82C-50C65B74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CF286-BF4D-4592-93D2-46D9F40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74A6D-677A-47DF-BA08-E61A24E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9D63-8C0E-4AA0-823C-22FA2B5F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634-91F2-4842-BFBA-060669B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6F9D-8347-40D4-BE36-F6FFBB1E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D041-C3B5-43E1-99A3-8DC900E1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9ACD-CF0C-4806-81C3-24CBF0C4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982-4F73-4DF9-A52B-2D086637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7E3-5B36-41EF-95F7-D4A6DA6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1663-2342-43B1-96A7-2AE7BDA70C5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9D7A-1DD8-4BB2-A595-97AABB15BF3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281-DC63-4D57-924A-6DB446EA618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7B9-F639-4CEA-87F4-61C7C52FC5D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EFB-3D33-4AAF-AC44-FDE26983C59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78F-429B-4ECE-BB04-EB3B621F183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820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Прямоугольник 3"/>
          <p:cNvSpPr/>
          <p:nvPr/>
        </p:nvSpPr>
        <p:spPr>
          <a:xfrm>
            <a:off x="468360" y="465300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Вводны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граммирование с использование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P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ь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3"/>
          <p:cNvSpPr/>
          <p:nvPr/>
        </p:nvSpPr>
        <p:spPr>
          <a:xfrm>
            <a:off x="900000" y="1989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4" descr="pr02_ris01.wmf"/>
          <p:cNvPicPr/>
          <p:nvPr/>
        </p:nvPicPr>
        <p:blipFill>
          <a:blip r:embed="rId1"/>
          <a:stretch/>
        </p:blipFill>
        <p:spPr>
          <a:xfrm>
            <a:off x="1979640" y="1255680"/>
            <a:ext cx="540684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326880" y="1227240"/>
            <a:ext cx="8622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точечные обмены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ются для организации локальных и неструктурированных коммуник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полнении глобальных операций используются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обмены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нхронные коммуникаци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уются с помощью запросов о получении сооб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взаимодействи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ласть связи) определяет группу процессов. Все процессы, принадлежащие одной области взаимодействия, могут обмениваться сообщениями. Описывает это множество процессов специальная информационная структура, которая называется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оро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т 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низм скрывает от программиста внутренние коммуникационные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Рисунок 3" descr="pr02_ris02.wmf"/>
          <p:cNvPicPr/>
          <p:nvPr/>
        </p:nvPicPr>
        <p:blipFill>
          <a:blip r:embed="rId1"/>
          <a:stretch/>
        </p:blipFill>
        <p:spPr>
          <a:xfrm>
            <a:off x="1441440" y="1197000"/>
            <a:ext cx="63705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4"/>
          <p:cNvSpPr/>
          <p:nvPr/>
        </p:nvSpPr>
        <p:spPr>
          <a:xfrm>
            <a:off x="326880" y="1227240"/>
            <a:ext cx="8622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оры, создаваемые по умолч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COMM_WORL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вс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COMM_SEL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муникатор, содержащий только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й процес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COMM_NUL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стой коммуник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326880" y="1227240"/>
            <a:ext cx="856620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ит пересылаемые данные и служебную информа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тор процесса-отправителя сообщ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, по которому размещаются пересылаемые данные процесс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прав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 пересылаемых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анных (размер буфера сообщения для того, чтобы прин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, процесс должен отвести для него достаточный объ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й памя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тор процесса, который должен получить сообщ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, по которому должны быть размещены данные процесс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ел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тор коммуникатора, описывающего область взаимодей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которой происходит об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mpi_send_recv.jpg"/>
          <p:cNvPicPr/>
          <p:nvPr/>
        </p:nvPicPr>
        <p:blipFill>
          <a:blip r:embed="rId1"/>
          <a:stretch/>
        </p:blipFill>
        <p:spPr>
          <a:xfrm>
            <a:off x="1187280" y="1052640"/>
            <a:ext cx="7016760" cy="58053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4"/>
          <p:cNvSpPr/>
          <p:nvPr/>
        </p:nvSpPr>
        <p:spPr>
          <a:xfrm>
            <a:off x="1711080" y="189000"/>
            <a:ext cx="59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-прием со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326880" y="476280"/>
            <a:ext cx="8622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чника дает возможность различать сообщения, приходящие от разны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- это задаваемое пользователем целое число от 0 до 32767, идентификатор сообщ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ги могут использоваться для соблюдения определенного порядка приема сообщ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, содержащиеся в сообщении, в общем случае организованы в массив элементов, каждый из которых имеет 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 и тот ж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п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молчанию предполагается, что элементы массива располагаются в памяти последовательно, один за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пересылки данных система передачи сообщений поддержи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пересылку информации о состоянии процессов коммуникации. Это может быть, например, уведомление о том, что прием данных, отправленных другим процессом, завер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179280" y="620640"/>
            <a:ext cx="882036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использованием процедур передачи сообщений программа должна "подключиться" к системе обмена сообщ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ение выполняется с помощью соответствующего вызова процедуры из библиотеки. В одних реализациях модели допускается только одно подключение, а в других  несколько подключений к систем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сообщения начинается с подготовки буфера достаточного размера. В этот буфер записываются принимаемые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могут быть закодированы, в этом случае при их считывании выполняется декодирование. Кодирование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в некоторый универсальный форм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тся для того, чтобы обеспечить обмен сообщениями между системами с разным форматом представления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 отправки или приема сообщения считается завершенной, если программа может вновь использовать такие ресурсы, как буферы сооб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3"/>
          <p:cNvSpPr/>
          <p:nvPr/>
        </p:nvSpPr>
        <p:spPr>
          <a:xfrm>
            <a:off x="611280" y="141300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ция и запуск программ в MPI-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конфигу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4"/>
          <p:cNvSpPr/>
          <p:nvPr/>
        </p:nvSpPr>
        <p:spPr>
          <a:xfrm>
            <a:off x="2861280" y="18900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"/>
          <p:cNvSpPr/>
          <p:nvPr/>
        </p:nvSpPr>
        <p:spPr>
          <a:xfrm>
            <a:off x="0" y="172080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, вер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, термино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паке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C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ция и запус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конфигу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ция и запус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а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0" y="1468080"/>
            <a:ext cx="91440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пуск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с использование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Shell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создать фай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rhost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1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tc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p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2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tc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3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tc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4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tc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414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r w - - - - - - -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Прямоугольник 4"/>
          <p:cNvSpPr/>
          <p:nvPr/>
        </p:nvSpPr>
        <p:spPr>
          <a:xfrm>
            <a:off x="3356640" y="333360"/>
            <a:ext cx="17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0" y="1468080"/>
            <a:ext cx="91440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файла machin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01.ptc.spbu.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02.ptc.spbu.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03.ptc.spbu.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04.ptc.spbu.ru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server.ptc.spbu.ru:2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ц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picc -compile_inf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c -DUSE_STDARG -DHAVE_STDLIB_H=1 -DHAVE_STRING_H=1 -DHAVE_UNISTD_H=1 -DHAVE_STDARG_H=1 -DUSE_STDARG=1 -DMALLOC_RET_VOID=1 -I/usr/local/mpich/include –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picc -link_inf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c -DUSE_STDARG -DHAVE_STDLIB_H=1 -DHAVE_STRING_H=1 -DHAVE_UNISTD_H=1 -DHAVE_STDARG_H=1 -DUSE_STDARG=1 -DMALLOC_RET_VOID=1 -L/usr/local/mpich/lib –lmpich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pif77 -compile_inf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77 -I/usr/local/mpich/include –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pif77 -link_inf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77 -L/usr/local/mpich/lib -lmpich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1468440"/>
            <a:ext cx="914400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pirun –np n [ключи MPI] программа [ключи и аргументы программы]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0" y="1468080"/>
            <a:ext cx="914400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9000"/>
              </a:lnSpc>
              <a:spcBef>
                <a:spcPts val="624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ючи загрузчика приложений mpirun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arch &lt;архитектура&gt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параллельной вычислительной системы, которая должна соответствовать суффиксу в имени файла machines.&lt;архитектура&gt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machinefile фай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писок компьютеров из указанного файл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3"/>
          <p:cNvSpPr/>
          <p:nvPr/>
        </p:nvSpPr>
        <p:spPr>
          <a:xfrm>
            <a:off x="684360" y="130500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ция и запуск программ в MPI-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 m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конфигу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228600" y="1166760"/>
            <a:ext cx="8807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емо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-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емо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грает важную роль. Параллельная программа может выполняться только если предварительно были запущены демон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d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бразующие «кольцо демонов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н управляет выполнением процесс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граммы на данном вычислительном узле. Демоны запускаются от имени конкретных пользователей ОС и не оказывают влияния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которые факты из жизни дем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льцо демонов создаётся один раз и может быть использова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ногократно, разными программами одного польз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льцо демонов прекращает свой существование в результате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манд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dallex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льцо демонов одного пользователя не может взаимодей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 демона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ругих пользов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лагодаря демона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пус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грамм выполняется быстр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сключена возможность «зависания»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3500280" y="260280"/>
            <a:ext cx="17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260280" y="382680"/>
            <a:ext cx="8556840" cy="55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ных реализация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средства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й демон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у параллельной программы предшествует запуск демо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узлах вычислительной системы. Демоны взаимодействуют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демон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примере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команд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dboot –n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заимодействия демонов между собой выполняется команд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d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 выполнении этой команды выводятся сообщения об ошибках, это говорит о неправильной настройк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окальной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работы демонов выполняется команд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dall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94760" y="1534680"/>
            <a:ext cx="480564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онный фай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mpd.con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фай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mpd.con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D_SECRETWORD=kalosh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D_PORT_RANGE=1003:1000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5189400" y="1541520"/>
            <a:ext cx="352584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50800" indent="-3427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.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фай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m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0  ifhn=195.168.0.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1  ifhn=192.168.0.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2  ifhn=192.168.0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3  ifhn=192.168.0.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4  ifhn=192.168.0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0800" indent="-34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5480"/>
                <a:tab algn="l" pos="1311120"/>
                <a:tab algn="l" pos="196704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5440"/>
                <a:tab algn="l" pos="6559560"/>
                <a:tab algn="l" pos="7218360"/>
                <a:tab algn="l" pos="787572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d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5120" y="1272960"/>
            <a:ext cx="894888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демон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boot –n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_демоно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параллельной программ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exec 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n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_исполняемого фай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работы всех демон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508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5480"/>
                <a:tab algn="l" pos="1311120"/>
                <a:tab algn="l" pos="1968480"/>
                <a:tab algn="l" pos="2624040"/>
                <a:tab algn="l" pos="3281400"/>
                <a:tab algn="l" pos="3936960"/>
                <a:tab algn="l" pos="4592520"/>
                <a:tab algn="l" pos="5251320"/>
                <a:tab algn="l" pos="5907240"/>
                <a:tab algn="l" pos="6561000"/>
                <a:tab algn="l" pos="7218360"/>
                <a:tab algn="l" pos="78771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allexi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611280" y="184464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я MPI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3"/>
          <p:cNvSpPr/>
          <p:nvPr/>
        </p:nvSpPr>
        <p:spPr>
          <a:xfrm>
            <a:off x="826920" y="155736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язки к языкам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5120" y="1355400"/>
            <a:ext cx="87537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52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использовании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 программах на языке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 именах функций используется префикс </a:t>
            </a:r>
            <a:r>
              <a:rPr b="0" lang="ru-RU" sz="2200" spc="-1" strike="noStrike">
                <a:solidFill>
                  <a:srgbClr val="9a0000"/>
                </a:solidFill>
                <a:latin typeface="Times New Roman"/>
                <a:ea typeface="华文楷体"/>
              </a:rPr>
              <a:t>MPI_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а первая буква имени набирается в верхнем регистре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гласно спецификации имена подпрограмм имеют вид </a:t>
            </a:r>
            <a:r>
              <a:rPr b="1" lang="ru-RU" sz="2200" spc="-1" strike="noStrike">
                <a:solidFill>
                  <a:srgbClr val="a5644e"/>
                </a:solidFill>
                <a:latin typeface="Times New Roman"/>
                <a:ea typeface="华文楷体"/>
              </a:rPr>
              <a:t>Класс_действие_подмножеств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ли </a:t>
            </a:r>
            <a:r>
              <a:rPr b="1" lang="ru-RU" sz="2200" spc="-1" strike="noStrike">
                <a:solidFill>
                  <a:srgbClr val="a5644e"/>
                </a:solidFill>
                <a:latin typeface="Times New Roman"/>
                <a:ea typeface="华文楷体"/>
              </a:rPr>
              <a:t>Класс_дей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Аналогичное правило действует и для подпрограмм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я языка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ortra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В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+ подпрограмма является методом для определенного класса, имя имеет в этом случае вид </a:t>
            </a:r>
            <a:r>
              <a:rPr b="1" lang="ru-RU" sz="2200" spc="-1" strike="noStrike">
                <a:solidFill>
                  <a:srgbClr val="a5644e"/>
                </a:solidFill>
                <a:latin typeface="Times New Roman"/>
                <a:ea typeface="华文楷体"/>
              </a:rPr>
              <a:t>MPI::Класс::действие_подмножеств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ля некоторых действий введены стандартные наименования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reat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оздание нового объек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e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получение информации об объект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e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установка параметров объек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elet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удаление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запрос о том, имеет ли объект указанное свойство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Прямоугольник 4"/>
          <p:cNvSpPr/>
          <p:nvPr/>
        </p:nvSpPr>
        <p:spPr>
          <a:xfrm>
            <a:off x="2064240" y="260280"/>
            <a:ext cx="539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язка к языку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7519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начения кода завершения имеют целый тип и определяются по значению функции. Имена констант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записываются в верхнем регистре. Их описания находятся в заголовочном файле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который обязательно включается 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программу. Имя этого файла может быть другим в других реализациях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Входные параметры функций передаются по значению, а выходные (и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OU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 — по ссылке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95120" y="620640"/>
            <a:ext cx="8753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принята своя система обозначения типов данных, которая соответствует типам данных в языках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rtran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ответствие  неполно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2" name="Picture 4" descr="C_types"/>
          <p:cNvPicPr/>
          <p:nvPr/>
        </p:nvPicPr>
        <p:blipFill>
          <a:blip r:embed="rId1"/>
          <a:stretch/>
        </p:blipFill>
        <p:spPr>
          <a:xfrm>
            <a:off x="522360" y="1628640"/>
            <a:ext cx="7778520" cy="46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4920" y="1217160"/>
            <a:ext cx="894888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се имена подпрограмм и констант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начинаются с </a:t>
            </a: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华文楷体"/>
              </a:rPr>
              <a:t>MPI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ды завершения передаются через дополнительный параметр целого типа (находится на последнем месте в списке параметров подпрограммы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д успешного завершения 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9a0000"/>
                </a:solidFill>
                <a:latin typeface="Times New Roman"/>
                <a:ea typeface="华文楷体"/>
              </a:rPr>
              <a:t>MPI_SUCCES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нстанты и другие объекты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писываются в файле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который обязательно включается 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программу с помощью оператора </a:t>
            </a: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华文楷体"/>
              </a:rPr>
              <a:t>inclu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Этот оператор находится в начале программ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</a:t>
            </a: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stat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массивом стандартного целого типа. Его размер и индексы задаются именованными константам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status(MPI_STATUS_SIZ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status(MPI_TAG).EQ.tag1) the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Прямоугольник 4"/>
          <p:cNvSpPr/>
          <p:nvPr/>
        </p:nvSpPr>
        <p:spPr>
          <a:xfrm>
            <a:off x="1206360" y="115920"/>
            <a:ext cx="68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язка к языку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195120" y="1557000"/>
            <a:ext cx="894888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грамма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язык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Fortra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аки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бъекты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MPI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ак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000" spc="-1" strike="noStrike">
                <a:solidFill>
                  <a:srgbClr val="91581f"/>
                </a:solidFill>
                <a:latin typeface="Times New Roman"/>
                <a:ea typeface="SimSun"/>
              </a:rPr>
              <a:t>MPI_Data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л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000" spc="-1" strike="noStrike">
                <a:solidFill>
                  <a:srgbClr val="91581f"/>
                </a:solidFill>
                <a:latin typeface="Times New Roman"/>
                <a:ea typeface="SimSun"/>
              </a:rPr>
              <a:t>MPI_Com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целог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ип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GB" sz="2000" spc="-1" strike="noStrike">
                <a:solidFill>
                  <a:srgbClr val="9a0000"/>
                </a:solidFill>
                <a:latin typeface="Times New Roman"/>
                <a:ea typeface="SimSun"/>
              </a:rPr>
              <a:t>integ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52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программах на язык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спользуются библиотечные функции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в программах на язык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rtr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процедуры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Fortran_types"/>
          <p:cNvPicPr/>
          <p:nvPr/>
        </p:nvPicPr>
        <p:blipFill>
          <a:blip r:embed="rId1"/>
          <a:stretch/>
        </p:blipFill>
        <p:spPr>
          <a:xfrm>
            <a:off x="587520" y="1339920"/>
            <a:ext cx="757692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3"/>
          <p:cNvSpPr/>
          <p:nvPr/>
        </p:nvSpPr>
        <p:spPr>
          <a:xfrm>
            <a:off x="1069560" y="1916280"/>
            <a:ext cx="728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0" y="1405080"/>
            <a:ext cx="894888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соблюдать определенные правила, бе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она окажется неработоспособно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программы, сразу после ее заголовка, необходимо подключить соответствующий заголовочный файл. В программе на язык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#</a:t>
            </a:r>
            <a:r>
              <a:rPr b="0" lang="en-US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include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 "</a:t>
            </a:r>
            <a:r>
              <a:rPr b="0" lang="en-US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mpi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h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"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программе на язык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r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include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 "</a:t>
            </a: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mpif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.</a:t>
            </a: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h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"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этих файлах содержатся описания констант и переменных библиотеки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0" y="1405080"/>
            <a:ext cx="89488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вызовом библиотечной процедуры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грамме должен быть вызов подпрограммы инициализации </a:t>
            </a: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MPI_Ini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д ним может располагаться только вызов </a:t>
            </a: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MPI_Initialize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помощью которого определяют, инициализирована ли систем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зов процедуры инициализации выполняется только один раз. В язык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оцедуры инициализации единственный аргумент 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 ошибк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ER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call </a:t>
            </a:r>
            <a:r>
              <a:rPr b="0" lang="en-US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mpi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_</a:t>
            </a:r>
            <a:r>
              <a:rPr b="0" lang="en-US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init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ierr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0"/>
          <p:cNvSpPr/>
          <p:nvPr/>
        </p:nvSpPr>
        <p:spPr>
          <a:xfrm>
            <a:off x="195120" y="1860480"/>
            <a:ext cx="87058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интерес к системам передачи сообщений возник в 1980-е годы. Его следствием стало появление достаточно большого количества реализаций, создававшихся разными коллективами разработчиков и предназначенных для разных вычислительны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4, PICL, PARMACS, PVM, TCGMSG, Zipcode, Exp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ла необходимость координировать и стандартизировать этот процесс, поэтому в рамках конферен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omputing’9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лось совещание, на котором было принято решение о разработке стандарта программного интерфейса обмена сообщ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0" y="1405080"/>
            <a:ext cx="894888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аметры функции инициализации получают адреса аргументов главной программы, задаваемых при ее запуск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MPI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_</a:t>
            </a: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Init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(&amp;</a:t>
            </a: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argc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, &amp;</a:t>
            </a:r>
            <a:r>
              <a:rPr b="0" lang="en-GB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argv</a:t>
            </a:r>
            <a:r>
              <a:rPr b="0" lang="ru-RU" sz="2000" spc="-1" strike="noStrike">
                <a:solidFill>
                  <a:srgbClr val="9a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грузчик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ru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 конец командной строки запус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программы добавляет служебные параметры, необходимые </a:t>
            </a: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华文楷体"/>
              </a:rPr>
              <a:t>MPI_Ini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В программах на языке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аргументы командной строки не использую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цедура инициализации создает коммуникатор со стандартным имен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_COMM_WORL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Это имя указывается во всех последующих вызовах процедур MPI.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1404720"/>
            <a:ext cx="89488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сле выполнения всех обменов сообщениями в программе должен располагаться вызов процед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Finalize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SimSun"/>
              </a:rPr>
              <a:t>ier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华文楷体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результате этого вызова удаляются структуры данных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выполняются другие необходимые действия. Программист должен позаботиться о том, чтобы к моменту вызова процедур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_Finaliz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были завершены все пересылки данных. После выполнения данного вызова другие вызовы процедур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включ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_Ini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недопустимы. Исключение составляет подпрограмм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_Initialize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которая возвращает значение "истина", если процесс вызыва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_Ini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Данный вызов может находиться в любом месте программы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граммы по схем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-slav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parall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процесс = мастер) the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ste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av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476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3"/>
          <p:cNvSpPr/>
          <p:nvPr/>
        </p:nvSpPr>
        <p:spPr>
          <a:xfrm>
            <a:off x="931680" y="1795320"/>
            <a:ext cx="756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а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26880" y="1534680"/>
            <a:ext cx="849312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*argc, char **argv)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ение к MPI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ы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v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ются только в программах на C, где они задают количество аргументов командной строки запуска программы и вектор этих аргументов. Данный вызов предшествует всем прочим вызовам подпрограмм MP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148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Finalize(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работы с MPI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зова данной подпрограммы нельзя вызывать подпрограммы MPI. </a:t>
            </a:r>
            <a:r>
              <a:rPr b="1" lang="en-GB" sz="2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MPI_Finaliz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вызывать все процессы перед завершением своей работ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83760" y="1196640"/>
            <a:ext cx="8148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size(comm, size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размера области взаимодействия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входной параметр-коммуникат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одным является параметр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го типа - количеств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ов в области взаимодействи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1339560"/>
            <a:ext cx="8948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rank(comm, pid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номера процесса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идентификатор процесса в указанной области взаимодействи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95120" y="1468440"/>
            <a:ext cx="875376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_MPI.cpp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mpi.h&gt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argv[]) {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rocNum, ProcRank, tmp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tatus status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Init(&amp;argc, &amp;argv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size(MPI_COMM_WORLD, &amp;ProcNum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rank(MPI_COMM_WORLD, &amp;ProcRank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ello world from process %i \n", ProcRank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Finalize(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2005200" y="40464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95120" y="1468080"/>
            <a:ext cx="875376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_MPI.f90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main_mpi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e 'mpif.h'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:: myid, numprocs, ier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mpi_init(ierr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mpi_comm_rank(mpi_comm_world, myid, ierr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mpi_comm_size(mpi_comm_world, numprocs, ierr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*, "process ", myid, " of ", numproc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mpi_finalize(ierr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52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program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195120" y="1860480"/>
            <a:ext cx="87058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тандартизации был поддержан индустри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vex, Cray, IBM, Intel, Meiko, nCUBE, N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nking Mach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я заинтересована в средстве разработки эффективных программ для высокопроизводительных вычислительн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95120" y="1665360"/>
            <a:ext cx="8705880" cy="31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ай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ttp://www.mpi-for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ла в 1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ла в 1998 году, первая реализация появила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 го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.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нтября 2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285840" y="285840"/>
            <a:ext cx="87040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я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описание стандарта программного интерфейса обмена сообщ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я учитывает опыт предшествующих разработок и ориентирована на большую часть аппаратных платформ. Несмотря на то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о на использование с языка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антика в значительной степени не зависит от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ются интерфейсы процедур двухточечных и коллективных обменов, сбора информации, организации обменов в группах процессов, синхронизации процессов, виртуальные топологии, привязки к языкам программирования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142920" y="317520"/>
            <a:ext cx="900108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я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дальнейшим развити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 сравнению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оздания новых процессов во время выполне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процессов фиксировано, крах одн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ит к крах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й 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разновидности двухточечных обменов (односторонние обмен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возможности коллективных обме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внешних интерфей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многопото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параллельного ввода-вывода с фай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2F5-96BE-4B44-9ABD-0D4C8BD192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71280" y="285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ируем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грамм. Сравнение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ускорения параллельной версии код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 количества вычислительных узлов уз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image004"/>
          <p:cNvPicPr/>
          <p:nvPr/>
        </p:nvPicPr>
        <p:blipFill>
          <a:blip r:embed="rId1"/>
          <a:stretch/>
        </p:blipFill>
        <p:spPr>
          <a:xfrm>
            <a:off x="1692360" y="1919160"/>
            <a:ext cx="6665760" cy="484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20:44:17Z</dcterms:modified>
  <cp:revision>30</cp:revision>
  <dc:subject/>
  <dc:title>Слайд 1</dc:title>
</cp:coreProperties>
</file>