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688680" y="742680"/>
            <a:ext cx="53658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1960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098F-8725-412E-B3CA-220579642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1960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15AD-6E13-4B18-88A0-C73AF2211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68904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те план действий с таким расчетом, чтобы ничего не делать в спеш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1960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2A6C-DB2C-4E7E-9D38-70E021E65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904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Очень важно, чтобы машина для перевозки имела достаточно вместительный кузов, чтобы вместе с деревом доставить землю и все остальное, что требуется для переса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C49-798E-430E-8568-D26A126B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603440" y="413064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45F-E5C0-4973-AF66-CA449B07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83668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D66-C402-4DCB-AB21-01006960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9704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19028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60344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39704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719028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6A2-E55A-4448-894F-609C15C6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CFB5-A685-41CC-AE67-ABD8F36D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DD7B-E5FF-4709-B994-25D66E2B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0857-F320-496D-A330-D1EFAF5A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81E4-1565-4361-AAF6-6C7170BB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F63A-774D-46B1-B7A9-B6740571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55280" y="304560"/>
            <a:ext cx="81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D6E4-FAD5-4AA9-A952-AB8B7CB7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C86A-82A5-4404-B62D-D6E88B6C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CB1-22A5-4B55-9E02-FC207AE8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3668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4642-AF83-4341-8615-F4B0BAFB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7FEE-C1E4-47BE-ADC7-CBA5715B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603440" y="413064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851F-DEB6-4268-8D54-B885A042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83668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F985-9831-4740-84BC-8CD5457F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9704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190280" y="198108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60344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39704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7190280" y="4130640"/>
            <a:ext cx="266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21A1-D4B3-4E29-905F-2427210A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62B2-4113-43B9-AE2E-D16490A0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531-9811-47C0-9F98-CF3FD53E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FDC-9D3A-4DAE-BEA3-F27F4B39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655280" y="304560"/>
            <a:ext cx="81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79A-0951-41FC-87EE-78375148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64D-E15C-42CD-9B83-52EFED79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6680" y="413064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FFF-F88E-45E5-9C54-24DEE84F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36680" y="1981080"/>
            <a:ext cx="403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4130640"/>
            <a:ext cx="8261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608-0C44-4AAA-834D-D61E3368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3600" cy="6856560"/>
            <a:chOff x="0" y="0"/>
            <a:chExt cx="990360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591920" cy="6856560"/>
              <a:chOff x="0" y="0"/>
              <a:chExt cx="159192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58688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080" y="49320"/>
                <a:ext cx="158184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10080" y="1623960"/>
                <a:ext cx="153036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0080" y="3313080"/>
                <a:ext cx="153036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0080" y="5016600"/>
                <a:ext cx="153036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707480" y="1631880"/>
              <a:ext cx="8196120" cy="189000"/>
              <a:chOff x="1707480" y="1631880"/>
              <a:chExt cx="819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712520" y="1643040"/>
                <a:ext cx="819108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717560" y="1817640"/>
                <a:ext cx="818604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17560" y="1779480"/>
                <a:ext cx="818604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17560" y="1731960"/>
                <a:ext cx="818604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717560" y="1677960"/>
                <a:ext cx="818604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707480" y="1631880"/>
                <a:ext cx="819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604880" y="6248520"/>
            <a:ext cx="1930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411300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82748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0E0F-41DC-47B5-98EC-777D61664418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849600" cy="6856560"/>
            <a:chOff x="0" y="0"/>
            <a:chExt cx="984960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654200" y="3090960"/>
              <a:ext cx="8195400" cy="188640"/>
              <a:chOff x="1654200" y="3090960"/>
              <a:chExt cx="819540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659240" y="3101760"/>
                <a:ext cx="819036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64280" y="3276360"/>
                <a:ext cx="81853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664280" y="3238200"/>
                <a:ext cx="81853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64280" y="3190680"/>
                <a:ext cx="81853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64280" y="3136680"/>
                <a:ext cx="81853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654200" y="3090960"/>
                <a:ext cx="819360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594800" cy="6856560"/>
              <a:chOff x="0" y="0"/>
              <a:chExt cx="159480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58688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594800" cy="6405480"/>
                <a:chOff x="0" y="65160"/>
                <a:chExt cx="159480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58148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5160" y="65160"/>
                  <a:ext cx="1529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080" y="3313080"/>
                  <a:ext cx="1530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080" y="5016600"/>
                  <a:ext cx="1530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0280" y="180612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650960" y="6350040"/>
            <a:ext cx="186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946680" y="6350040"/>
            <a:ext cx="3736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8007480" y="6350040"/>
            <a:ext cx="186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FDE9-0DFF-4C26-B5F9-434A24FE1520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0280" y="180612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ак пересадить дерево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806560" y="35593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этрин Терн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ервые шаг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ерите подходящее для пересадки врем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ьте поч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ьте кор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Транспортировка дерев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уйте деликат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торопите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людайте осторож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55280" y="839520"/>
            <a:ext cx="819468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ересадк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местите дере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ыхлите и удобрите поч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людайте график пол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Уход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две не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ое полугод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торое полугодие и далее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корая помощ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щь по телефон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да обрати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сурсы интер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ите поиск по виду дерева, которое вы пересаживаете, чтобы получить дополнительную информаци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55280" y="3045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Вывод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03440" y="198108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ьте пл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умайте все дет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се получитс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ания "Все для сад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5T13:11:36Z</dcterms:modified>
  <cp:revision>3</cp:revision>
  <dc:subject/>
  <dc:title>Как пересадить дерево</dc:title>
</cp:coreProperties>
</file>