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F51A-8253-4651-B060-F5CECEFEC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FFC1-632C-4013-8F7A-EB38B454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A3D7-273E-496E-8EA2-94D486A6E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9983-1454-464B-9F9F-0E720918F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6D1B-80CD-476D-8DFD-B425450D8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947D-4E0E-4AFE-B758-CA11CF93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D203-E1E8-4B3B-88EC-28C20B2A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589A-6C68-498E-A93F-C9C75A53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50CC-9BB4-4EC8-B21D-B4E989D0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1865-2E3C-49B7-8996-996CEF6B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02ED-3409-405F-925B-55159D47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1737-2521-404F-B79A-29162DB6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9A16-A437-42D9-BA6E-5343EE73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E197-7B78-4180-ABE0-93DFFFF9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118E-017C-4375-8E7B-02549363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75F3-C2EE-4DE7-994F-4758FA504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EEAA-457F-4379-A861-60FDF110A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4FB1-C7BD-42C7-9E44-884BB99B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6BFB-C349-4396-860D-6D89A474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FDB3-EA9E-4C54-96A8-170FDD02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4D51-0337-480B-81AF-990F3434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2286-3DFE-4392-80F6-3BEEAD1F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1F83-84FA-4174-A2C0-9156EA7F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A8E9-FD5A-4A70-A758-D5006988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A333-C600-4FEF-AD56-6C98AE680B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8266-8805-4949-B840-9383E5D79D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Как пересадить дерево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этрин Терне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мпания «Все для сад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ервые шаг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берите подходящее для пересадки врем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дготовьте почв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дготовьте корн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Транспортировка дере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йствуйте деликатн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торопитес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блюдайте осторожн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8125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ересад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местите дерев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рыхлите и удобрите почв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блюдайте график поли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Уход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0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рвые две недел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рвое полугод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торое полугодие и далее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корая помощ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мпания «Все для сад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мощь по телефону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уда обратитьс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сурсы интерн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ведите поиск по виду дерева, которое вы пересаживаете, чтобы получить дополнительную информацию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ывод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ставьте пла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думайте все детал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все получится!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rigorieva</cp:lastModifiedBy>
  <dcterms:modified xsi:type="dcterms:W3CDTF">2002-03-25T12:25:26Z</dcterms:modified>
  <cp:revision>4</cp:revision>
  <dc:subject/>
  <dc:title>Как пересадить дерево</dc:title>
</cp:coreProperties>
</file>