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6886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5AB-98FA-489F-BD41-E39D651E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F37F-9ABB-4266-A092-CF371AFD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90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5FA-02DC-4865-B2A6-C2909CDC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90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0D7-6093-4962-A771-9E291F3A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E4C-5CA3-492F-A75F-02E0917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B9D-5BB0-47E5-9439-4586DE5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6CA-1779-4740-8A20-E47ECC54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70E-D2CD-42CF-828B-6C7C9D85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FAE-6BE0-49D7-9CBA-C8064C2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3EC3-5DE9-4338-90C0-2F56FDC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94A-EC7F-4B3A-ADB5-BFE2B5E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267-A1D7-47BE-8653-2053583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5280" y="3045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40E6-62B4-40DB-9D35-799AD88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45FC-A582-47BD-9FB7-5F42AB89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2C6-5C0F-4DB2-812A-8EF3BB7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D08-2D7E-461E-9958-C89635FC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7CB-10FD-4A81-A56E-1503365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6479-18FE-4FBB-9535-74C0A68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5D4C-C51A-4F4E-A12A-A019AF06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2F4-50F8-4F5E-9BA7-1648AAE7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9A8-6666-4001-A708-1B5CDCDA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6BD-4326-4A29-8533-235BCA80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D5C-9C2B-4D8E-A346-FDCA67D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5280" y="3045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2A5-0D5F-4262-A4B6-C28C4CC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A7F-6524-4AD8-AF21-382D079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85A-278B-4A24-880C-20C2FFB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B10-BA05-429E-BA7D-61FAEC1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3600" cy="6856560"/>
            <a:chOff x="0" y="0"/>
            <a:chExt cx="9903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591920" cy="6856560"/>
              <a:chOff x="0" y="0"/>
              <a:chExt cx="159192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49320"/>
                <a:ext cx="158184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10080" y="162396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080" y="331308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0080" y="501660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707480" y="1631880"/>
              <a:ext cx="8196120" cy="189000"/>
              <a:chOff x="1707480" y="1631880"/>
              <a:chExt cx="819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712520" y="1643040"/>
                <a:ext cx="819108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717560" y="181764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17560" y="177948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17560" y="1731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717560" y="1677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707480" y="1631880"/>
                <a:ext cx="819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604880" y="6248520"/>
            <a:ext cx="1930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11300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8274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87B-7F7A-43BA-BE58-D10226C731B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849600" cy="6856560"/>
            <a:chOff x="0" y="0"/>
            <a:chExt cx="984960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654200" y="3090960"/>
              <a:ext cx="8195400" cy="188640"/>
              <a:chOff x="1654200" y="3090960"/>
              <a:chExt cx="819540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659240" y="3101760"/>
                <a:ext cx="819036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64280" y="327636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64280" y="323820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64280" y="319068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64280" y="313668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4200" y="3090960"/>
                <a:ext cx="819360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594800" cy="6856560"/>
              <a:chOff x="0" y="0"/>
              <a:chExt cx="159480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594800" cy="6405480"/>
                <a:chOff x="0" y="65160"/>
                <a:chExt cx="159480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58148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5160" y="65160"/>
                  <a:ext cx="1529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080" y="331308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080" y="501660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65096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946680" y="6350040"/>
            <a:ext cx="373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800748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BD9-1899-4CA5-94D6-BD1A3AE6C5D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пересадить дере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06560" y="3559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е ша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ранспортировка дере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55280" y="839520"/>
            <a:ext cx="81946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есад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Ухо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корая помощ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3:05:57Z</dcterms:modified>
  <cp:revision>3</cp:revision>
  <dc:subject/>
  <dc:title>Как пересадить дерево</dc:title>
</cp:coreProperties>
</file>