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7ABD-9A54-48D0-92E4-BDD1AD641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9B13-1EAD-48BB-BAE6-B8F281D03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1BF1-6276-43EF-97C2-D4609B5B5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3C40-C2E3-4B76-91CE-CE7F2E5BB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00D81-A403-4CFB-AE3F-29CB7B436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AF655-C043-4EFF-8743-21018EC8B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658CD-1E3E-443E-BBB9-5A45848F2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7E770-80D0-41F0-B82E-BBD7F5E4F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54EA1-A057-4AF6-AA2D-2D1E668D4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63F8A-A13D-4D48-BB6B-18B547915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4DCDA-8F40-428F-AF67-4BA06C2E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70EF-82C0-44FF-BEC5-DAE027BE7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C3125-70FC-48F1-9DF9-5C7FDC546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E2750-034A-40A0-9F07-E565D934D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230FB-0AFC-431D-ADD2-A490B00A2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1DCAC-80DE-4ADB-B354-5D523C3F2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15B67-D395-4B99-9705-7F7C683CA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C89A-63DA-4740-8705-2B1643C47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6171-D9D8-45DE-821C-12A072C80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57A9-DCA5-4DC9-9B19-EB0BDDCA4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F3E8-E32D-431F-A1C7-45D73A787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2BEF-6FD8-4E17-A426-97972C494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B3ED-23F2-4E42-A918-24327E336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D909-7B75-464F-B627-8EE40DF54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A3DFB-9B0D-4F91-ACBF-862CADE2C166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10C80-C3B8-4C44-9BC0-A86775421267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Обучение для новичков и опытных садоводов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Компания «Все для сада»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Создание комфортной обстановки на занятиях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Запоминающиеся названия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Отдых между занятиями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Организация рабочего места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Подготовка к занятиям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Обновите свои знания по теме занятия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Соберите необходимые пособия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Выясните, как оборудована аудитория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Разместите необходимые пособия в  «ВДС»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Проверьте готовность к занятию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Знакомство со студентами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Определите уровень подготовки ваших студентов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Откорректируйте программу в соответствии с уровнем подготовки аудитории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Использование доступных обучающих средств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Пособия «Шаг за шагом»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Фотографии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Видеоклип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Интерне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Основная информация - бесплатно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Подготовка проекта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Бюджет проекта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Необходимое оборудование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Программа поддержки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a3d7a"/>
                </a:solidFill>
                <a:latin typeface="Times New Roman"/>
              </a:rPr>
              <a:t>Курсы в компании «Все для сада»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Пересадка деревьев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Сезонные посадки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Подкормка и удобрение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Обрезка растени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Уход за садом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Оформление букетов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Домашние заготовки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Вопросы и ответ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7772400" cy="27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Как записаться на курсы, численность группы, стоимость занятий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Реклама курсов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Скидки преподавателям и студентам Разное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23880" y="5013360"/>
            <a:ext cx="6858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Arial"/>
              </a:rPr>
              <a:t>Компания «Все для сада» ищет талантливых садоводов-практиков для занятий с нашими студентами</a:t>
            </a:r>
            <a:r>
              <a:rPr b="0" lang="en-US" sz="2000" spc="-1" strike="noStrike">
                <a:solidFill>
                  <a:srgbClr val="5b5249"/>
                </a:solidFill>
                <a:latin typeface="Arial"/>
              </a:rPr>
              <a:t>.” </a:t>
            </a:r>
            <a:br>
              <a:rPr sz="2000"/>
            </a:br>
            <a:r>
              <a:rPr b="0" lang="en-US" sz="2000" spc="-1" strike="noStrike">
                <a:solidFill>
                  <a:srgbClr val="5b5249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5b5249"/>
                </a:solidFill>
                <a:latin typeface="Arial"/>
              </a:rPr>
              <a:t>Майк Гэлос,</a:t>
            </a:r>
            <a:r>
              <a:rPr b="0" lang="en-US" sz="2000" spc="-1" strike="noStrike">
                <a:solidFill>
                  <a:srgbClr val="5b524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5b5249"/>
                </a:solidFill>
                <a:latin typeface="Arial"/>
              </a:rPr>
              <a:t>компания «Все для сада» </a:t>
            </a:r>
            <a:r>
              <a:rPr b="0" lang="en-US" sz="2000" spc="-1" strike="noStrike">
                <a:solidFill>
                  <a:srgbClr val="5b524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rigorieva</cp:lastModifiedBy>
  <dcterms:modified xsi:type="dcterms:W3CDTF">2002-03-25T14:22:35Z</dcterms:modified>
  <cp:revision>1</cp:revision>
  <dc:subject/>
  <dc:title>Обучение для новичков и опытных садоводов</dc:title>
</cp:coreProperties>
</file>