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5281-F153-4C5E-B898-EB622794A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2D9A-9074-454B-AA5C-4432C9C16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лан действий с таким расчетом, чтобы ничего не делать в спеш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0626-011D-4C99-A2D7-DE531459D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чень важно, чтобы машина для перевозки имела достаточно вместительный кузов, чтобы вместе с деревом доставить землю и все остальное, что требуется для перес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63C-CE08-43A9-8EDC-404CD36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79F-F595-455C-9546-71853273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BD5-3DE8-4FDA-9B81-4432B4C2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267-851E-4DC9-AD2D-757D200A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A47B-7CBE-4C58-844C-BAAD7A25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718C-C3BE-4B48-AA1E-0D2B625D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373D-AEA0-4A91-A734-61E5FD29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9986-BC2C-465F-A822-DAD2900D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633C-63AF-4ACE-9182-487AC3A2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0CC5-CE83-42F0-98AA-1BAEE5D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C812-209B-46BA-A0FA-E5F6F31A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DFF-4B34-46D2-9E29-E189CD79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D1EB-6D86-4573-9559-131C956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D111-8AA4-462A-B170-E6AA250B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5019-3AC8-4515-90D5-046D9E02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E32C-10DD-4711-A422-EBA54AAA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22F-EAE0-496D-BBF0-3DDD090C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F87-BCBA-434E-ABA0-7DEE9E1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227-6C41-40D9-8FCA-0C1D31AD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465-6592-44DB-8B31-798C081C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092-30CA-46DF-BF1D-4311048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EF9-8B66-4C4B-B95D-88952F2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5A3-A88D-4F3A-9196-9112A5F4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9E1-4B7D-49B7-868F-B6A1B67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D55-1106-49DE-956C-1AB8C6477C95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0FDD-B47C-4AF0-BA67-09EDBE4D2755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пересадить дерево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вые шаг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ерите подходящее для пересадки 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ьте ко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Транспортировка дерев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уйте делика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торопите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осторо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есад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стите дере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ыхлите и удобрите поч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йте график пол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Уход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две не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е полугод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ое полугодие и дале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корая помощ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ь по телефон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да обрат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сурсы 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ите поиск по виду дерева, которое вы пересаживаете, чтобы получить дополнительную информаци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ывод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п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умайте все дет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 получи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3:00:13Z</dcterms:modified>
  <cp:revision>1</cp:revision>
  <dc:subject/>
  <dc:title>Как пересадить дерево</dc:title>
</cp:coreProperties>
</file>