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259-8149-4BA7-BCFF-2596711C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8DF-18F6-499C-A635-FC0BF58D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446-7E80-4ED7-95CE-B5AF596C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D91-85E6-42F6-B666-6B9777C8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ED8E-537B-4B7A-A8C9-731068A5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0DCC-376B-4D8C-A7BD-647C4AA2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8407-E776-4610-9150-0E0CF808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A8A9-C2FF-4956-979D-9041D33F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F9EF-B33F-479E-9462-11B4B213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3FC6-E1FE-47A2-8EC9-8982989E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83E3-AA34-4B9F-842A-9A004BA4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47B-32E7-4685-8454-3169B618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B5BC-ED32-4919-B586-1F4BBF55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655D-87C0-4278-A99B-BC2272CC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6387-1392-4FC3-8B09-2E32B88A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2439-A56F-465A-9E88-EF0FF1A4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27DA-4547-4D07-B8DF-845173EC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8AB-A30B-4613-95D0-C40A44AE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28F-E4E1-4CA8-87FA-8E3C3663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E96-DB44-42B1-8920-3E7EBE27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07A-A82E-470B-A609-A6127AE9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43A-28AC-417C-965A-0C98C486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B34-A23F-46AE-AB09-C46056B7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C84-6706-4A61-9386-066CBD1F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F56A-4641-432F-84B0-B7012EAD3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2462-B6F2-4A47-A4A7-FD3DC6477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158840"/>
            <a:ext cx="6248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Пересадка деревьев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«Все для са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Пересадка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стите дер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ыхлите и удобрите поч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людайте график пол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Скорая помощь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«Все для са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щь по телефо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да обрат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сурсы 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ите поиск по виду дерева, которое вы пересаживаете, чтобы получить дополнительную информаци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Уход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е две не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е полугод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е полугодие и дале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Выводы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омогает Вам компания «Все для сада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5T12:19:45Z</dcterms:modified>
  <cp:revision>1</cp:revision>
  <dc:subject/>
  <dc:title>Пересадка деревьев</dc:title>
</cp:coreProperties>
</file>