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620-84E6-4E0A-B4DB-FFD98949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DBA-B803-4CC4-94EE-0B454554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740-494B-41B6-A138-53635501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E4A-131E-44DC-82A7-70158ACA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0227-5292-4316-AF66-231AA836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CE9E-63C3-438E-9714-2435AC94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4A6B-6D8F-4A1D-9080-C239FBB8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3CC3-75BB-4F8F-9F46-6D86C69E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0B10-D06E-4623-B205-2431F7F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3F99-109A-4F3E-8554-0DAC9F18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9C74-9939-423E-89F6-EC24A92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5CD-3B38-4053-A416-F21145FE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8382-55F6-43D1-80D4-8A9FBDD7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A569-E4DD-49C8-A620-900160E6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B335-8BF0-4D27-930C-2B72D94F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65F7-6CCD-49AB-8B4C-B2249B37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D20F-607A-4723-B311-1CEA7E80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D44-3CF7-4727-B2A6-CB42A901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5DB-8764-4B41-B8CB-11F87D4D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22C-F4A0-4A48-9F61-AB647D78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95A-114E-42AB-BB01-77D4F2C0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7FF-1360-4D24-B696-EF2E75B6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F4B-8C4E-49AD-82C0-ABDB6109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A40-EE19-4149-AF73-7FD6E0E7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B784-B3E4-4322-805D-FBE2F197D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590E-8753-49F7-B52A-95D410770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чебный курс</a:t>
            </a: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	</a:t>
            </a: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	</a:t>
            </a: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	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аш лог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7238880" cy="380988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этрин Тернер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0201-F200-48F5-B12A-AF07F1D8B0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чебные курсы для клиентов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рганизовать курсы для ознакомления клиентов с передовыми технологиями садоводства и новыми товарами, которые могут понадобиться для их внедрения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рганизовать цикл занятий для подготовки преподавателей курсов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49B-173F-42D2-A256-DDCE4E96E2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Занятия.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актические занятия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дробные инструкци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Цветные раздаточные материалы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сскажите покупателям, чем ваш товар особенно хорош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дин слайд – для одной модел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E5D-7334-4BC1-9A25-1B39127989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Цены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писок имеющихся товаров с указанием цены каждой модели и дополнительной информацией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C39-01F1-472D-A1A7-54FB033B4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Где купи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писок имеющихся в наличии товаров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Где купить или как заказать нашу продукцию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FB4-E5D4-4342-AD43-D4162713E0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2T14:14:21Z</dcterms:modified>
  <cp:revision>7</cp:revision>
  <dc:subject/>
  <dc:title>Учебный курс </dc:title>
</cp:coreProperties>
</file>