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B20-6908-436F-9D5D-CA68D1E2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FF4-4E31-4842-BBFE-801F30AF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877-BE47-41C3-B5AB-B4DBC8A4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0A8-5565-41B8-8C09-184798F9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7CF9-8BBC-4114-AD9B-916C6616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6B79-6EB8-4A94-A66F-ED56DBB5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1305-7543-4478-9B20-6E1BE10C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7E2D-47E1-42C7-BF63-8AED8126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C393-E16E-41AE-845B-94561AE7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59EF-6708-442D-905C-E06F7828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6179-967A-4104-B312-BB812159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E0C-5D87-4E38-AC03-EEF4003B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AA94-4E8D-4672-B6DB-81ED092D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2067-B67D-4205-B3F3-E77E5B2E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60F7-6252-4325-9E7C-D44E9889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98A1-8564-4C60-B0FE-37234091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CFE7-6E7D-43A5-B251-A1C16445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1E1-AC23-46DC-B79C-CFCCE005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53B-E495-492C-B1C9-D48539C0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7340-53A1-42C3-BE3E-61D88B12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24D-2692-4891-94E1-D62E78E7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969E-882B-4346-996A-6A781CEB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4C48-9C28-4305-A9FE-0C494A71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F30D-0713-4356-9C3D-B2EBA04E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9F2A-0D97-4878-9EA5-92433260ED9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6C73-4276-4CE6-9E7F-94EBADD0C7D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Обучение для новичков и опытных садовод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оздание комфортной обстановки на занятиях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Запоминающиеся названи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тдых между занятиям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рганизация рабочего мест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Подготовка к занятиям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36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бновите свои знания по теме заняти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Соберите необходимые пособия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ыясните, как оборудована аудитори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Разместите необходимые пособия в  компании «Все для сада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роверьте готовность к занятию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60199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6019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Дополнительные сведения – на слайде 5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Знакомство со студентам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пределите уровень подготовки ваших студентов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ткорректируйте программу в соответствии с уровнем подготовки аудитори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спользование доступных обучающих средст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собия «Шаг за шагом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Фотографи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идеоклип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Интерне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9528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Штат компании «Все для сада» может подготовить для вас презентацию до начала занятий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Основная информация - бесплатно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дготовка проект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Бюджет проект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Необходимое оборудова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рограмма поддержк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Курсы в компании «Все для сада»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ересадка деревьев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Сезонные посадк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дкормка и удобр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брезка растен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Уход за садом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формление букетов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омашние заготовки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опросы и ответ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Как записаться на курсы, численность группы, стоимость занятий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Реклама курсов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Скидки преподавателям и студентам Разно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501336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Arial"/>
              </a:rPr>
              <a:t>Компания «Все для сада» ищет талантливых садоводов-практиков для занятий с нашими студентами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.” </a:t>
            </a:r>
            <a:br>
              <a:rPr sz="2000"/>
            </a:b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5b5249"/>
                </a:solidFill>
                <a:latin typeface="Arial"/>
              </a:rPr>
              <a:t>Майк Гэлос,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5b5249"/>
                </a:solidFill>
                <a:latin typeface="Arial"/>
              </a:rPr>
              <a:t>компания «Все для сада»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igorieva</cp:lastModifiedBy>
  <dcterms:modified xsi:type="dcterms:W3CDTF">2002-03-25T14:33:47Z</dcterms:modified>
  <cp:revision>3</cp:revision>
  <dc:subject/>
  <dc:title>Обучение для новичков и опытных садоводов</dc:title>
</cp:coreProperties>
</file>