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276-E1A9-4400-BC9E-6493FD67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305-59AD-460C-BEB7-2FD2926B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FA9-3F2E-43AE-9650-B6E9F6BD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CD9-61CA-4EA9-ACED-8A8D2D99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B3A6-70F6-43BC-852D-E8D193CE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9069-9206-4B93-AEBE-E69170B2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3B86-8C74-4487-B28F-A38D4611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8FD5-34E2-4D17-B522-45E9D4C9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840C-F0E2-4AD2-A04F-B0CA8F8F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92A9-BFD9-4AC7-AFA8-AB57E150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65E7-CC3F-4AD9-B5C9-C00C7447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9B2-3B93-49F1-9353-7814B0D3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4658-7558-4B5B-9676-900802AA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BF17-C16B-428C-9D58-CA414DD2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EF09-8A68-4C99-AA63-459526DE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8C7C-E57C-40A2-9D0A-26DBCAB6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B54C-968A-48BB-86FE-458CBFE2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3F5-89D7-4BA6-B0A0-F88A9F1B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DF5-E510-4C1E-9292-4DE0FD0C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FFF-055B-4FCE-BF1B-3F6A6DB5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E7C-B1CE-48C5-A91B-8514DCC0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042-5090-4790-947D-8E42B72F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FB9-4F29-45C0-935E-084A29B0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1AA-4E60-4271-91FE-470976CB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297D-81BF-4FF9-BEA1-DF97F60AC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9A47-C06D-4910-9C91-E9D5F8A4C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ак пересадить дерево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этрин Терн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1:58:24Z</dcterms:modified>
  <cp:revision>1</cp:revision>
  <dc:subject/>
  <dc:title>Как пересадить дерево</dc:title>
</cp:coreProperties>
</file>