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3BBA-EA04-4150-AB2A-EA9F0B0A9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C877-44EB-49FE-827F-1AE47ACE6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те план действий с таким расчетом, чтобы ничего не делать в спеш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63D1-450C-4DA7-BFDA-46A809DEF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Очень важно, чтобы машина для перевозки имела достаточно вместительный кузов, чтобы вместе с деревом доставить землю и все остальное, что требуется для переса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FE0-8CC8-4350-BCB9-3D4D2FB8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417-A7B9-4A75-A392-E0AE8011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5E00-D47D-41BD-A4FB-A63152D6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D62-5C9E-4FA4-9DF0-50A38031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D984-5386-4256-9779-1680208A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F909-1797-4A4B-8FFE-5AB2ACCB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DC40-9677-4CAA-A712-5CD94907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7299-2CCC-406B-A77B-E87A5FB5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ABD9-C9E3-4751-9BAD-77FC4679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8668-4DF8-46A5-8D2A-8F7E12E9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56D3-233B-4ED2-963B-58C07B15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CF6-3909-4C74-B8C0-018E4157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ECF8-018B-4568-AD88-D8C0707C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61A4-D2D6-456D-BFB2-BC65A37B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C5A5-E505-4A87-9607-A89BE006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CA8A-28B8-4422-AB3A-1E4F11BC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3CBA-17FA-4730-935B-36B9BD96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819-4549-4705-8757-7569CCAB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E76-354C-4ACA-A825-736BBE96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771-AB15-4AC7-9CC4-7533AE91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887-2BD3-4452-9A72-BFA6C9CD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F47-3A3A-4B1A-925E-D28F8989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584A-691D-4EF7-998B-C4D649C3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14C-E769-4931-9074-858E5718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146B-0CB3-4CC9-96A1-F39A2502A22F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6E1D-2402-4FF8-9CF3-52140C93800A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ак пересадить дерево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этрин Терн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ервые шаг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ерите подходящее для пересадки врем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ьте поч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ьте кор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Транспортировка дерев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уйте деликат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торопите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людайте осторож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ересадк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местите дере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ыхлите и удобрите поч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людайте график пол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Уход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две не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ое полугод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торое полугодие и далее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Скорая помощь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щь по телефон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да обрати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сурсы интер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ите поиск по виду дерева, которое вы пересаживаете, чтобы получить дополнительную информаци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Выводы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ьте пл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умайте все дета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се получитс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igorieva</cp:lastModifiedBy>
  <dcterms:modified xsi:type="dcterms:W3CDTF">2002-03-25T13:01:38Z</dcterms:modified>
  <cp:revision>1</cp:revision>
  <dc:subject/>
  <dc:title>Как пересадить дерево</dc:title>
</cp:coreProperties>
</file>