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719-3D91-40A2-9596-1EFF7D72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C38-069A-4E0D-88BF-E985616F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456-C7FD-40C5-A95C-6CCE1284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FFD-4D04-44C7-8B04-C6CFFC37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AEF0-A20E-4E37-B929-67E9BFAC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1685-F0C8-4615-B8DF-7EB8823F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FAFB-2AD2-40A3-A02F-B47AB376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A456-C053-48EF-8BD3-C5006CFD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9994-1F4F-444A-87B8-5F505C7A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1DB8-1389-4C45-8558-5167AC9F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795C-EEE6-4894-A37C-3F4ED53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603-BF14-469A-9233-A4BD98CD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3379-D83B-4571-A811-C70835F8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7E3F-D2BA-49F9-80E9-EE8EAA21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4B46-DB71-4CCB-8548-5861F19A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653-2FC9-4E00-888D-F5AE745B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983F-D401-4487-91AF-39528388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6C7-68AD-4402-98B4-AD2EF1DD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552-1530-4B1E-9601-274CFD30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3F8-6625-4880-B729-9F895652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0F5-9B51-42AD-B71F-20F451E0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6F9-F211-4283-8E7A-74AC196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1AF-11D3-4655-8E8B-388B81FC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F61-0D84-4DC8-83F3-0757D775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18C2-3673-4BEB-A261-30B09E85DAA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6C9D-2E4B-4713-8667-0DE5269427A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бучение для новичков и опытных садовод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оздание комфортной обстановки на занятиях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Запоминающиеся назван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дых между занятия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рганизация рабочего мес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одготовка к занятия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бновите свои знания по теме занят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оберите необходимые пособи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е, как оборудована аудитор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азместите необходимые пособия в  компании «Все для сада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верьте готовность к заняти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6019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ополнительные сведения – на слайде 5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накомство со студентам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пределите уровень подготовки ваших студентов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корректируйте программу в соответствии с уровнем подготовки аудитор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пользование доступных обучающих средст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собия «Шаг за шагом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Фотограф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идеоклип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64832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Штат компании «Все для сада» может подготовить для вас презентацию до начала занятий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сновная информация - бесплатно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дготовка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Бюджет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еобходимое оборудова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грамма поддержк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Курсы в компании «Все для сада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ересадка деревье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езонные посадк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дкормка и удобр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брезка растен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ход за садо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формление букет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омашние заготовки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опросы и ответ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ак записаться на курсы, численность группы, стоимость занятий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еклама курс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кидки преподавателям и студентам Разно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50133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Arial"/>
              </a:rPr>
              <a:t>Компания «Все для сада» ищет талантливых садоводов-практиков для занятий с нашими студентами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.” </a:t>
            </a:r>
            <a:br>
              <a:rPr sz="2000"/>
            </a:b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5b5249"/>
                </a:solidFill>
                <a:latin typeface="Arial"/>
              </a:rPr>
              <a:t>Майк Гэлос,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Arial"/>
              </a:rPr>
              <a:t>компания «Все для сада»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4:28:07Z</dcterms:modified>
  <cp:revision>2</cp:revision>
  <dc:subject/>
  <dc:title>Обучение для новичков и опытных садоводов</dc:title>
</cp:coreProperties>
</file>