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108-9713-43B5-B8DE-FD597EF8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971-496B-4C75-8481-BD0C1AF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5AF-7361-4013-AE3D-6546B47D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FA5-1200-49B2-8DDC-1A088184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895-DFCF-44A6-A7A4-15CA8CEF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EDA-20F5-4307-A49A-7DAD5137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2EE-9C11-425C-8565-7E3DEAB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7EC-AA22-472E-8FF9-8DBAEF9A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7AF0-DC58-46E5-8922-629BEF38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04B1-A15A-44EF-878C-EF618821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992-1AE0-44C8-A905-F90E382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CFF-AFFA-42B3-B7A6-38BACD5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6C7E-73FB-4E09-B4FE-0FFDDCAD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8E9-ECB5-4D98-A991-E4C300D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D6D8-59F8-4223-BDC6-81E8343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8F41-51DD-47D8-B273-599E1172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90C4-CF66-4C48-BBF9-4E09C227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F04-EE16-43F0-AF86-54AF037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D28-91EE-4968-AA81-17DAC89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5FB-9F4D-40B1-BBAB-82E19157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8C0-CD37-4F1C-9097-B506ED2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EB7-31C8-49B8-8679-0E198D1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64F-954F-461B-A16F-0A71FCF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722-E8EB-4284-8BB7-8BE54B6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269-FC57-4E8C-AFC5-5852ED86F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6282-AA47-463F-B87E-24EF68E7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чебный курс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	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аш 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7238880" cy="380988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этрин Терне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D4B8-2DC3-46DB-9496-28E4A999C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бзо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ратко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пишите продукцию и услуг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задачи, которые они решают, и категории покупателей, для которых они предназначены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пишите доступные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98B-FF44-43BE-928F-71D923F267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аш товар – самый лучш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 о своей продукции с помощью слайдо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ля каждой характеристики товара – свой слай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 покупателям, чем ваш товар особенно хорош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дин слайд – для одной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DA2-81B0-4825-A1CF-FB41591D0E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Дополн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сскажите, как еще может использоваться данная продукция или услуга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348-FF5A-43E8-9E6F-C8F78BC07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Характерист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ля продукции приводится подробная техническая документация со слайдам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ля услуг описываются условия и способы их предост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3C8-E5AC-4979-A979-005F6123B5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Цены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сок имеющихся товаров с указанием цены каждой модели и дополнительной информацией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BA8-5D19-4049-A2EE-7E95EE86C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Где купи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писок имеющихся в наличии товаро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де купить или как заказать нашу продукцию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се для са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295-3914-40B8-BB11-8E41DC5D6B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ieva</cp:lastModifiedBy>
  <dcterms:modified xsi:type="dcterms:W3CDTF">2002-03-22T13:50:44Z</dcterms:modified>
  <cp:revision>6</cp:revision>
  <dc:subject/>
  <dc:title>Учебный курс </dc:title>
</cp:coreProperties>
</file>