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6AA-B0FA-442E-B941-D78351D6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28D-04B3-4251-8CDC-901536FC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8E-5E1C-49AD-BAFD-AECB30CE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D2C-C12F-40BF-9DD8-40CEAC0A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6C6-C9ED-4DFD-A236-D18DDCF1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094-4CD9-477B-851E-CC5531A1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8529-1553-4E6D-AFCB-77D95E2F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82A1-7245-4660-B144-1F59677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A9A-8266-44E2-A660-32A2693F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EF9-6A15-47B2-B108-F81D15C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49E-5E3A-4DC1-93CC-54DCF7F1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C31-B52B-47F8-A04A-FEB2D8F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771A-E8A9-42D5-9CE5-0DBC35B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ECAF-BC35-4239-A59F-9F60F5A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4C6-C504-42FE-BE02-C88D1631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DAA4-6CDE-4279-A9A8-04FFABF2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1692-104C-4E6C-A7AD-69EC73AF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F57-CB81-40AC-B586-A5BF856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480-E72A-41D1-9F37-A94358F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2ED-C472-484D-BFE8-7E28F75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207-A786-4587-892B-5A96E924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5E8-60C6-4855-9707-6949EBD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8DF-0358-4595-8F45-CCB2229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785-1C9D-49F5-9FF3-9FBDA43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6B8-9370-4E41-84B8-C1A5D8E5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55D9-3858-401A-9D66-E62ED4C55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чебный курс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аш 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7238880" cy="380988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4D7D-9BE1-4C54-AE93-7377719D85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бзо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ратк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пишите продукцию и услуг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задачи, которые они решают, и категории покупателей, для которых они предназначены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пишите доступные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FBA-67DE-4FE8-A1C7-21D1A3DE2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аш товар – самый лучш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 о своей продукции с помощью слайд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каждой характеристики товара – свой слай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 покупателям, чем ваш товар особенно хорош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дин слайд – для одной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C33-BE9F-4481-B3C7-1041B27CB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Дополн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, как еще может использоваться данная продукция или услуга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EFF-8CDC-44D9-A635-ADC16BE0A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Характерист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продукции приводится подробная техническая документация со слайдам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услуг описываются условия и способы их предост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3F2-8AAC-4255-9760-D63E1FCFF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Цены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товаров с указанием цены каждой модели и дополнительной информацией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719-8E1D-4532-9F3B-1AFCC8B65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Где купи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в наличии товар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де купить или как заказать нашу продукцию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C64-8CDF-4504-BAE9-432A2246D5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2T13:50:44Z</dcterms:modified>
  <cp:revision>6</cp:revision>
  <dc:subject/>
  <dc:title>Учебный курс </dc:title>
</cp:coreProperties>
</file>