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02B-9662-4623-BC84-BD514C5519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лан действий с таким расчетом, чтобы ничего не делать в спе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чень важно, чтобы машина для перевозки имела достаточно вместительный кузов, чтобы вместе с деревом доставить землю и все остальное, что требуется для перес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0EB-861F-4C60-86F5-F165664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1D1-FD25-401E-9025-0B4A6C7E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793-EAAD-464D-B6A6-A93459E3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216-282F-4EBE-B430-DD4D4BC9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8A81-D4E2-478C-91C9-6D4D8C00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969-21A2-42D7-BC19-8F572430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77F2-DC14-49DE-904C-6F75622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AED6-A9EC-4E67-9DD7-BA59585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CCFD-EEB8-4407-BB22-6E872AEB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40FE-C3C5-4038-A938-F846113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0666-F425-4FB8-9B4D-285A904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47B-8EE5-4F1B-BF9D-D6913360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8014-F8E1-470B-A7A6-5A3CC7E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6128-7707-4A0B-93E0-0F53BC1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6DA7-9F74-4BAD-9C7E-D1435F0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ED2-72FE-4D39-9A70-0FB4708A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10CB-C788-4FBD-92E4-7B388C1F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3CA-97CB-49AD-BD30-3B604013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14B-A0BC-4040-941F-69171C4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A87-CA39-4657-B586-42B8C18D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9D3-541E-44E7-B7DF-A9BCE9C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CCA-20D1-4641-9EFC-2A5A509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F8A-55B6-4551-9F78-12299E9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CBA-E3C7-4DF9-892C-1D80C3A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F1D-BACF-4230-B6A8-3049AD751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0274-19DA-4DEA-9DE8-CDFD86269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пересадить дерев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е шаг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анспортировка дере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есад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х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корая помощ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2:39:39Z</dcterms:modified>
  <cp:revision>5</cp:revision>
  <dc:subject/>
  <dc:title>Как пересадить дерево</dc:title>
</cp:coreProperties>
</file>