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DE41-8DDF-4DAA-A3C3-3A9C9AA05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70F5-3E70-484A-BBC3-6FFF56999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ьте план действий с таким расчетом, чтобы ничего не делать в спеш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4161-595F-42B7-8941-93FFF5EA9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Очень важно, чтобы машина для перевозки имела достаточно вместительный кузов, чтобы вместе с деревом доставить землю и все остальное, что требуется для пересад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892-D8BB-4346-94E0-D18BDCDD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578B-34AE-4AA1-A85E-ADEB5B3F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40A6-C952-4787-AC28-274C5B04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8D48-41CD-4F15-BB9B-C2577CB3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FA03-835D-446E-A3E1-5A1F902F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8431-5842-429D-A4BC-8025DE5D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C21A-AE08-447D-A930-1BE8AFC3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2DC2-E287-4DBD-BED3-C963492B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9298-942C-4BBE-975B-0957CEE4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4E35-22BB-4E71-9BDF-CFF24BAD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B912-2E56-41B7-AA42-39B41A2F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0E57-4E1F-4D68-ADFF-C6BB0AD0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A547-E401-4501-9E8F-ED903F37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C693-A820-4981-9740-02C3BCAA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1A88-6198-4D0A-9DFF-18914784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B98E-831C-45B8-AB90-D4499E99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6F04-5578-41BD-8678-6B17ACFD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6201-E62E-4DAD-9009-9BCFFB29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8FBE-AC12-42FD-9910-D7DB27C8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7FE6-7593-4E04-B914-4088C4AB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543-25DC-483C-8FDC-671EA0B4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B966-36D7-4CD1-BE11-FAE0DEB6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67B2-4B25-4D9C-B26E-9174BBFD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7A2-7475-492E-8EE8-D2E5DF59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26DD-60F1-46CA-A5D0-7FF767393CA2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6BA6-E363-4029-A589-C113874F32AB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ак пересадить дерево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этрин Терн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ания «Все для сад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ервые шаг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берите подходящее для пересадки врем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ьте почв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ьте кор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ания "Все для сада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Транспортировка дерев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уйте деликат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торопите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людайте осторож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ания "Все для сада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839520"/>
            <a:ext cx="75643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ересадк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местите дере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ыхлите и удобрите почв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людайте график поли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ания "Все для сада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Уход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е две нед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ое полугод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торое полугодие и далее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ания "Все для сада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Скорая помощь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ания «Все для сад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ощь по телефон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да обратить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сурсы интер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ите поиск по виду дерева, которое вы пересаживаете, чтобы получить дополнительную информаци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ания "Все для сада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Выводы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авьте пл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умайте все дета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все получится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ания "Все для сада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igorieva</cp:lastModifiedBy>
  <dcterms:modified xsi:type="dcterms:W3CDTF">2002-03-25T13:04:03Z</dcterms:modified>
  <cp:revision>2</cp:revision>
  <dc:subject/>
  <dc:title>Как пересадить дерево</dc:title>
</cp:coreProperties>
</file>