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6C9F-E1D9-4F7C-9A52-21AEC30B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A563-CC42-4FD2-BED5-2E88C57A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C4D0-6250-4FA9-8889-42B3DF6D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2485-18F1-42A0-8C53-AB2A9B25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6937-8682-41C4-B48E-08E42A7C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4F42-A891-4E6F-83FE-AAF99375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6863-6C73-4F08-B1D5-F785A62F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3659-93B6-42D9-915C-31D2E939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7E1E-64CE-439F-9B60-BFB12314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9758-DCA8-4F50-981E-65B5F47B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9E29-0243-47A5-BE3E-5EE3B1E6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A03B-C6F5-499A-B420-52A15AB3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DE9A-386E-445E-B38F-759581E8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A73F-BEEF-4072-B745-F88E262C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F852-8D2F-448E-9652-E94318D4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05FB-A417-4FFE-9441-31E0E3EF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E249-99F2-41DA-A73C-C8DCDF2B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F235-3270-4B98-A9C2-96E8B16F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CA08-59BC-4D21-9803-7BE0C0EF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0E1F-61C2-44CC-839A-85019A3D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13D3-9FA3-4A7D-A882-9ECB1DAD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8C35-6BB0-4AFE-B425-A0EA4BA0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87F5-0354-43EC-967A-DF799D25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ED7F-B75E-4BB8-BA72-5D9531C9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7E78-2478-4AB7-8286-1B58D13F58E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 Unicode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085C-EC9C-4D8E-BD32-5B65CFAFD1F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Обучение для новичков и опытных садовод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Компания «все для сада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Создание комфортной обстановки на занятиях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Запоминающиеся названи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тдых между занятиям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рганизация рабочего мест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Подготовка к занятиям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36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Обновите свои знания по теме занят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Соберите необходимые Материалы и оборудование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Выясните, как оборудована аудитор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Разместите необходимые Материалы и оборудование в  компании «Все для сада»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роверьте готовность к занятию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60199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6019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Дополнительные сведения – на слайде 5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Знакомство со студентам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пределите уровень подготовки ваших студентов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ткорректируйте программу в соответствии с уровнем подготовки аудитори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Использование доступных обучающих средст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Материалы и оборудование «Шаг за шагом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Фотографи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Видеоклип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Интерне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95288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Штат компании «Все для сада» может подготовить для вас презентацию до начала занятий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Основная информация - бесплатно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одготовка проект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Бюджет проект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Необходимое оборудовани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рограмма поддержк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Курсы в компании «Все для сада»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391520" cy="58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ересадка деревьев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Сезонные посадк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одкормка и удобрение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Обрезка растени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Уход за садом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Оформление букетов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Домашние заготовки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Создание лужайки или газон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Установка разбрызгивателе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опросы и ответ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Как записаться на курсы, численность группы, стоимость занятий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Реклама курсов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Скидки преподавателям и студентам Разно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501336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Arial Unicode MS"/>
              </a:rPr>
              <a:t>Компания «Все для сада» ишет талантливых садоводов-практиков для занятий с нашими студентами</a:t>
            </a:r>
            <a:r>
              <a:rPr b="0" lang="en-US" sz="2000" spc="-1" strike="noStrike">
                <a:solidFill>
                  <a:srgbClr val="5b5249"/>
                </a:solidFill>
                <a:latin typeface="Arial Unicode MS"/>
              </a:rPr>
              <a:t>.” </a:t>
            </a:r>
            <a:br>
              <a:rPr sz="2000"/>
            </a:br>
            <a:r>
              <a:rPr b="0" lang="en-US" sz="2000" spc="-1" strike="noStrike">
                <a:solidFill>
                  <a:srgbClr val="5b5249"/>
                </a:solidFill>
                <a:latin typeface="Arial Unicode MS"/>
              </a:rPr>
              <a:t>(</a:t>
            </a:r>
            <a:r>
              <a:rPr b="0" lang="ru-RU" sz="2000" spc="-1" strike="noStrike">
                <a:solidFill>
                  <a:srgbClr val="5b5249"/>
                </a:solidFill>
                <a:latin typeface="Arial Unicode MS"/>
              </a:rPr>
              <a:t>Майк Гэлос,</a:t>
            </a:r>
            <a:r>
              <a:rPr b="0" lang="en-US" sz="2000" spc="-1" strike="noStrike">
                <a:solidFill>
                  <a:srgbClr val="5b5249"/>
                </a:solidFill>
                <a:latin typeface="Arial Unicode MS"/>
              </a:rPr>
              <a:t> </a:t>
            </a:r>
            <a:r>
              <a:rPr b="0" lang="ru-RU" sz="2000" spc="-1" strike="noStrike">
                <a:solidFill>
                  <a:srgbClr val="5b5249"/>
                </a:solidFill>
                <a:latin typeface="Arial Unicode MS"/>
              </a:rPr>
              <a:t>компания «Все для сада» </a:t>
            </a:r>
            <a:r>
              <a:rPr b="0" lang="en-US" sz="2000" spc="-1" strike="noStrike">
                <a:solidFill>
                  <a:srgbClr val="5b5249"/>
                </a:solidFill>
                <a:latin typeface="Arial Unicode MS"/>
              </a:rPr>
              <a:t>)</a:t>
            </a:r>
            <a:endParaRPr b="0" lang="en-US" sz="2000" spc="-1" strike="noStrike">
              <a:solidFill>
                <a:srgbClr val="5b524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ushetsky</cp:lastModifiedBy>
  <dcterms:modified xsi:type="dcterms:W3CDTF">2002-03-28T15:15:03Z</dcterms:modified>
  <cp:revision>7</cp:revision>
  <dc:subject/>
  <dc:title>Обучение для новичков и опытных садоводов</dc:title>
</cp:coreProperties>
</file>