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2B7-B87B-4ADF-94EB-05E98999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5D7-BB18-4CD1-B5E6-8F82E7C7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E85-1AEA-4B2D-8F7B-7BBA95C3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9EA-26FB-444A-B4BA-F6FF5CF8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CDDB-5EF9-4109-B9C8-55590412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9362-478E-442E-A7AA-4AF72F04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1C1A-D55A-49E2-85F2-DE987C0F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9CA0-56EA-4622-81F8-F334CF86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0184-2EED-4F1D-A2FC-892A2E79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BEBC-5824-4B85-A07B-02E97B81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7F0A-BE29-44A6-B15B-3B950D1B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476-8946-4E79-A74C-6C579CB6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8EE9-981E-4362-9E07-3AE2C478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B351-9DDD-44AD-95EC-5B0FA549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E9E9-A711-4FD1-9FBE-D610BDC1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536C-8543-4F79-A604-2C58ECA7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19D2-387F-4DD3-94E4-A77F9DB8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D03-D288-4CB6-A8E0-4AA7EF19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ECA-2AD7-4A30-B677-4935EA64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334-1FDA-4A9B-BA02-FEF55334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4D2-E2D5-477D-BF77-E7B76BF5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187-A00A-4A53-B903-A99893F2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C8E-33B4-4C3F-BE96-16EAE3EE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94A-2DC8-47C6-BB12-F700DAF9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E9B6-916E-4572-AFE2-B2C560C9FD7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301C-65A6-4481-856C-4602D74970E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бучение для новичков и опытных садовод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оздание комфортной обстановки на занятиях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Запоминающиеся назван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тдых между занятиям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рганизация рабочего мес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одготовка к занятиям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36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Обновите свои знания по теме занят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оберите необходимые Материалы и оборудование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ыясните, как оборудована аудитор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азместите необходимые Материалы и оборудование в  компании «Все для сада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ерьте готовность к занятию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60199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6019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ополнительные сведения – на слайде 5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накомство со студентам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пределите уровень подготовки ваших студентов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ткорректируйте программу в соответствии с уровнем подготовки аудитори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пользование доступных обучающих средст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Материалы и оборудование «Шаг за шагом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Фотографи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идеоклип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Интернет ссылки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9528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Штат компании «Все для сада» может подготовить для вас презентацию до начала занятий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сновная информация - бесплатно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дготовка проек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Бюджет проек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еобходимое оборудова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ограмма поддержк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Курсы в компании «Все для сада»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9640" y="20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ересадка деревье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езонные посадк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дкормка и удобр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брезка растен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Уход за садом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формление букето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омашние заготовки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опросы и ответ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ак записаться на курсы, численность группы, стоимость занятий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еклама курсо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кидки преподавателям и студентам Разно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50133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Arial Unicode MS"/>
              </a:rPr>
              <a:t>Компания «Все для сада» ищет талантливых садоводов-практиков для занятий с нашими студентами</a:t>
            </a: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.” </a:t>
            </a:r>
            <a:br>
              <a:rPr sz="2000"/>
            </a:b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(</a:t>
            </a:r>
            <a:r>
              <a:rPr b="0" lang="ru-RU" sz="2000" spc="-1" strike="noStrike">
                <a:solidFill>
                  <a:srgbClr val="5b5249"/>
                </a:solidFill>
                <a:latin typeface="Arial Unicode MS"/>
              </a:rPr>
              <a:t>Майк Гэлос,</a:t>
            </a: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 </a:t>
            </a:r>
            <a:r>
              <a:rPr b="0" lang="ru-RU" sz="2000" spc="-1" strike="noStrike">
                <a:solidFill>
                  <a:srgbClr val="5b5249"/>
                </a:solidFill>
                <a:latin typeface="Arial Unicode MS"/>
              </a:rPr>
              <a:t>компания «Все для сада» </a:t>
            </a: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ushetsky</cp:lastModifiedBy>
  <dcterms:modified xsi:type="dcterms:W3CDTF">2002-03-28T15:25:05Z</dcterms:modified>
  <cp:revision>6</cp:revision>
  <dc:subject/>
  <dc:title>Обучение для новичков и опытных садоводов</dc:title>
</cp:coreProperties>
</file>