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CCC7-1E07-4D5E-AF3E-9C28864F8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197F-5BA1-4F88-A2A1-B390B7C5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E6E4-E923-4922-AA56-1DCF76051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3505-1140-4F58-A8BA-CAE9C99CD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D12B-9FBE-4271-9FF5-38405DEB7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1BEB-E1C7-4E31-8118-B4BA8FF1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A067-B79E-4D8D-AD33-1EA1821F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8C56-9A2B-4606-A15C-7552DB43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3EB9-7854-4C76-9A4B-503F0757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7B89-2408-417A-900C-BB800571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F42D-D1EB-4564-88B6-E620E474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E0B4-5D4E-4582-A795-9E9D3AAA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7915-8306-46D3-B17A-18A6C013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64AA-2F50-4307-A1C3-B22D9262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3F51-42E7-4143-A2F5-44FAB2A1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6A17-CF15-4370-99C5-AE5596920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1253-35D7-4119-AB48-5546501E2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D75E-DC78-47E3-8FC2-44D72706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AB8B-EF24-48B5-93C0-B1F6786D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67DA-6DE9-4F05-9909-B3C246A7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2506-69E4-40F7-BB49-CBC30086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566D-253C-4F5C-B81A-EB8A400C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9A40-9ECA-4C65-B59E-97A72EB0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A525-988A-4BFB-917E-A2A5D2DC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AB89-BAB1-4D61-A416-B69C2BFE35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F88D-7667-42DC-A676-C776AE0303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Как пересадить дерево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этрин Терне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мпания «Все для сад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ервые шаг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берите подходящее для пересадки врем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дготовьте почв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дготовьте корн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Транспортировка дере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йствуйте деликатн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торопитес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блюдайте осторожн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ывод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ставьте пла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думайте все детал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все получится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rigorieva</cp:lastModifiedBy>
  <dcterms:modified xsi:type="dcterms:W3CDTF">2002-03-25T12:13:35Z</dcterms:modified>
  <cp:revision>2</cp:revision>
  <dc:subject/>
  <dc:title>Как пересадить дерево</dc:title>
</cp:coreProperties>
</file>