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734-D0A6-4194-85C5-EA672314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76F-5B8F-4135-852B-7BDCE04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C84-C093-41CC-8055-6EC2BB98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3FD-4789-4E05-9BD4-F7B025F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9D66-E9B5-4F47-9255-8360F452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9B7-AC3D-4FAA-B3B3-80B755C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ED14-5B27-4930-82AD-F5CFFD3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C570-3521-495B-811F-8B9F7CEC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0FFE-786D-4FB1-A543-E57A15B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D18E-BB53-42D6-9083-5015DCD8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B69-95AB-4546-AC80-7CD23E1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B36-1C46-46D1-B2AD-EA8E9F5D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1AF-B312-497A-9E83-CD1805E8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55D-43BF-4267-B635-42C3774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BEC4-5622-4B88-BB3A-3A2D87B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E8A-3222-483B-9A2F-F9361DD9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5D2B-C30C-4250-A2EC-D260707A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40B-BEF6-417C-BBD2-427B3334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FDA-526D-4B7C-A1F2-C9B129E9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590-2748-4CEC-AE2C-179AA92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161-01FA-4FBC-9A0E-BDE3C64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E89-8C1D-45B7-A24B-F7864E9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76B-8B97-4D6B-9EB5-A39A836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C40-281C-4A00-888D-CCA318D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573-6AC5-479A-A0E9-CC6344486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A1A-F553-4A28-8C56-DCD54AEFD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пересадить дерев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е шаг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нспортировка дер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ес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корая помощ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х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2:24:16Z</dcterms:modified>
  <cp:revision>3</cp:revision>
  <dc:subject/>
  <dc:title>Как пересадить дерево</dc:title>
</cp:coreProperties>
</file>