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217F-9D24-4222-80D8-69F5BB7B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676A-059A-4EC1-9258-76BB0805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0E0-F50C-4CB0-B7A3-366A323B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206-C9FB-4944-BF8E-E8CC1886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A0AC-2516-41C7-BE98-CBA55C7A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647A-E770-45E9-8DF2-54CABD98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F511-852D-47E6-97A0-0547A1B9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7D60-709D-42CE-B308-97914D71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E75B-D3D6-4629-9428-A4902D8D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C696-327C-42F3-9278-4981547F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ED4A-37C1-4661-A9F5-49F2B1E3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7004-1114-4E11-879B-B374C768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486A-40EF-4999-9A58-D93C3070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E4AE-5A46-45E8-92A0-87C146D5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3D67-5423-4D5D-849B-75FDE878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9AFB-68AB-4924-A53B-51235F14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2A8A-F09D-44D1-9832-F187F762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D0534-8184-4D6D-83FA-DFC8122F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10842-AB0F-4AF3-AC08-3BCB9620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2617F-C2D1-4D6F-BB4F-25FCBD6A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24E43-2CC7-4056-A9CE-70A153D0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DCCF4-779A-4A2C-AD0E-5FFAAEA8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9F8A-716F-448E-86F7-E7E7BCEA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01458-6969-4112-82D9-FE169A3B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16556-D8FE-4614-91D0-FCD7BFD7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3BFB6-21D9-4AFC-9C47-F9736A68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DD494-1DD4-42A2-B1B1-20373012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CA1C5-8625-44A9-84E6-5B0980F5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B50F6-B0ED-4718-867F-5E5F2A0F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E077F-2039-4490-A72D-B20FDFE3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B3643-B28D-4481-90B6-9AB10DB5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66628-8605-4344-AC93-C9D5808A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23DF0-05B5-42BA-99C0-A72A0EEA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934-6283-465F-8BD6-835CEB9E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97A87-C5F3-4B5D-9733-0E5CCB3C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0059F-B1AC-4360-87C5-82D9D098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BA650-36B0-46AF-81D1-6DB1E932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E8F13-BB88-4703-8764-13C54B65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CF914-2350-4545-A6C1-48495E3E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896E9-8BB2-449E-A989-B1678454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1FBB0-E57B-4978-8797-E5848A60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25B0B-C2E1-4AF9-A867-3CDE8181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1F514-D855-4992-B6F9-C1F5956A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E83B6-9668-49AB-89D9-0182A532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616D-2D17-48F3-807D-A92E08C6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1A549-2021-4DBF-8F99-6F676089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BB7CC-8A87-4EC6-AB5A-948CCD90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EB28E-962D-4549-BF55-F90C4AC5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B4169-4337-45AA-8907-FE01A614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3376A-623C-4F5F-A64D-DBF60A92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7EF5B-CF1E-4714-A9B1-E592D6AF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D2442-0C12-462D-AA91-18DF19E1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6468A-6F46-45DB-B61D-17DC476D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96F6C-6326-48CC-9613-BE5D3E1D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19394-C479-4321-8A5B-352D3F6D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CA93-2881-406F-BDA9-4491C9A7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5486E-DF1E-43FF-9CFE-0DA2DA90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02030-85E6-4CEA-89D1-A0174007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A559C-98FE-4A65-8B65-4D1E17A5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F523C-EB77-42D1-880D-28B75B5D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F8E93-8BF5-49F8-891F-8E71AE67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7DAB9-2428-495C-A601-E8B3D95B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BBBDF-0A8E-484C-AE82-0626DA08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15C15-7B7D-46BC-9D81-D74A59F4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F4B42-93BF-44B8-AD4C-34635169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1EFC7-2E62-4035-8219-88927336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E3D-76F5-4D09-8512-54E805EC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A927C-505E-4761-A150-1AE1FB88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C0E7C-FFE6-4026-829E-12A351B2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AE866-3164-4A4C-AB24-21F46F9C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CB3-A3D0-4D7B-8555-77927A62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F88F-9D8B-4A74-84BD-BDFBA44C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50B3-998A-4757-9887-F39BF3A8A881}" type="datetime">
              <a:rPr b="0" lang="ru-RU" sz="1400" spc="-1" strike="noStrike">
                <a:solidFill>
                  <a:srgbClr val="464653"/>
                </a:solidFill>
                <a:latin typeface="Calibri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74E2-ADD1-46F5-A592-BC96C3C59854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5847-130B-436E-903C-C9AE2997E1CC}" type="datetime">
              <a:rPr b="0" lang="ru-RU" sz="1400" spc="-1" strike="noStrike">
                <a:solidFill>
                  <a:srgbClr val="dde9ec"/>
                </a:solidFill>
                <a:latin typeface="Calibri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B001-C1B8-4190-B938-F7D8F2E68696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8058-3E6A-4286-83EE-6294203EF4CE}" type="datetime">
              <a:rPr b="0" lang="ru-RU" sz="1400" spc="-1" strike="noStrike">
                <a:solidFill>
                  <a:srgbClr val="464653"/>
                </a:solidFill>
                <a:latin typeface="Calibri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3F7D-3944-4F74-8ED4-47BE35359A14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793F-97EF-483C-AC94-F5F9829A66C3}" type="datetime">
              <a:rPr b="0" lang="ru-RU" sz="1400" spc="-1" strike="noStrike">
                <a:solidFill>
                  <a:srgbClr val="464653"/>
                </a:solidFill>
                <a:latin typeface="Calibri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BAAA-1B6E-4F44-B866-8FFA99DAB4A9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BDD6-1DDF-4C61-A88D-F29CCE93A69A}" type="datetime">
              <a:rPr b="0" lang="ru-RU" sz="1400" spc="-1" strike="noStrike">
                <a:solidFill>
                  <a:srgbClr val="dde9ec"/>
                </a:solidFill>
                <a:latin typeface="Calibri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0241-833C-472F-9CEB-EF2E65BB9437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06E7-74E4-4960-90A4-22BDDEA96A6F}" type="datetime">
              <a:rPr b="0" lang="ru-RU" sz="1400" spc="-1" strike="noStrike">
                <a:solidFill>
                  <a:srgbClr val="464653"/>
                </a:solidFill>
                <a:latin typeface="Calibri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2706-B01C-441F-8B28-592862FE405F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clipse.org/downloads/" TargetMode="External"/><Relationship Id="rId2" Type="http://schemas.openxmlformats.org/officeDocument/2006/relationships/hyperlink" Target="http://www.oracle.com/technetwork/java/javase/downloads/index.html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225E-E182-4175-AFCD-3C4DFDEFFB0F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755640" y="404640"/>
            <a:ext cx="78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Лаборатория Системного ПРограммировани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ИНформационных Технологий СПб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258920" y="1341360"/>
            <a:ext cx="72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468360" y="256536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бораторная рабо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Разработка приложения для БП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2"/>
          <p:cNvSpPr/>
          <p:nvPr/>
        </p:nvSpPr>
        <p:spPr>
          <a:xfrm>
            <a:off x="216000" y="530064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7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8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0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51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275" name="Picture 52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53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31040" cy="71604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Получение доступа к камере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13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63" name="Picture 14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 Box 15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Прямоугольник 14"/>
          <p:cNvSpPr/>
          <p:nvPr/>
        </p:nvSpPr>
        <p:spPr>
          <a:xfrm>
            <a:off x="1428840" y="1571760"/>
            <a:ext cx="592920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ublic boolean openCam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amera = Camera.ope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15"/>
          <p:cNvSpPr/>
          <p:nvPr/>
        </p:nvSpPr>
        <p:spPr>
          <a:xfrm>
            <a:off x="214200" y="1143000"/>
            <a:ext cx="607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ициализацию и начала работы с каме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6"/>
          <p:cNvSpPr/>
          <p:nvPr/>
        </p:nvSpPr>
        <p:spPr>
          <a:xfrm>
            <a:off x="1428840" y="3500280"/>
            <a:ext cx="5929200" cy="34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arameters.setFlashMode(Camera.Parameters.FLASH_MODE_OF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f (focusBox.isChecked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arameters.setFocusMode(Camera.Parameters.FOCUS_MODE_AUT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arameters.setFocusMode(Camera.Parameters.FOCUS_MODE_INFINIT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17"/>
          <p:cNvSpPr/>
          <p:nvPr/>
        </p:nvSpPr>
        <p:spPr>
          <a:xfrm>
            <a:off x="214200" y="2927520"/>
            <a:ext cx="842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ставляем параметры фокусировки и вспыш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31040" cy="64440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Формат данных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1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3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75" name="Picture 14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15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Rectangle 16"/>
          <p:cNvSpPr/>
          <p:nvPr/>
        </p:nvSpPr>
        <p:spPr>
          <a:xfrm>
            <a:off x="198000" y="1734480"/>
            <a:ext cx="8683200" cy="45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List&lt;Camera.Size&gt; psizes = parameters.getSupportedPictureSizes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t w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t h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or (int i=0; i &lt; psizes.size()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f (w &lt; psizes.get(i).width &amp;&amp; h &lt; psizes.get(i).heigh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 = psizes.get(i).widt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h = psizes.get(i).heig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log ("Picture size: "+String.format("%dx%d", w, h))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arameters.setPictureSize(w,h)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amera.setParameters(parameters)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3"/>
          <p:cNvSpPr/>
          <p:nvPr/>
        </p:nvSpPr>
        <p:spPr>
          <a:xfrm>
            <a:off x="214200" y="1143000"/>
            <a:ext cx="607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аем данные в формат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P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31040" cy="57312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Запись данных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13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85" name="Picture 14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Text Box 15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16"/>
          <p:cNvSpPr/>
          <p:nvPr/>
        </p:nvSpPr>
        <p:spPr>
          <a:xfrm>
            <a:off x="214200" y="2158560"/>
            <a:ext cx="86439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ictureCallback jpegCallback = new PictureCallback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ublic void onPictureTaken(byte[] data, Camera camera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ileOutputStream outStream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tring filename = String.format(imageDir + File.separator + "big" + File.separator + "%d.jpg"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ystem.currentTimeMillis()/10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tring filename2 = String.format(imageDir + File.separator + "small" + File.separator + "%d.jpg"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ystem.currentTimeMillis()/10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tring gps = "No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3"/>
          <p:cNvSpPr/>
          <p:nvPr/>
        </p:nvSpPr>
        <p:spPr>
          <a:xfrm>
            <a:off x="214200" y="1143000"/>
            <a:ext cx="864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ываем данные на носитель с определенными парамет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фон1"/>
          <p:cNvPicPr/>
          <p:nvPr/>
        </p:nvPicPr>
        <p:blipFill>
          <a:blip r:embed="rId1"/>
          <a:stretch/>
        </p:blipFill>
        <p:spPr>
          <a:xfrm>
            <a:off x="0" y="-747720"/>
            <a:ext cx="9180360" cy="7605720"/>
          </a:xfrm>
          <a:prstGeom prst="rect">
            <a:avLst/>
          </a:prstGeom>
          <a:ln w="0">
            <a:noFill/>
          </a:ln>
        </p:spPr>
      </p:pic>
      <p:sp>
        <p:nvSpPr>
          <p:cNvPr id="390" name="WordArt 3"/>
          <p:cNvSpPr txBox="1"/>
          <p:nvPr/>
        </p:nvSpPr>
        <p:spPr>
          <a:xfrm>
            <a:off x="1692360" y="907920"/>
            <a:ext cx="5802120" cy="468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8440">
                  <a:solidFill>
                    <a:srgbClr val="666699"/>
                  </a:solidFill>
                  <a:miter/>
                </a:ln>
                <a:solidFill>
                  <a:srgbClr val="000080">
                    <a:alpha val="86000"/>
                  </a:srgbClr>
                </a:solidFill>
                <a:latin typeface="Souvenir Lt BT"/>
              </a:rPr>
              <a:t>САНКТ-ПЕТЕРБУРГСКИЙ ГОСУДАРСТВЕННЫЙ УНИВЕРСИТЕТ</a:t>
            </a:r>
            <a:endParaRPr b="1" lang="en-US" sz="4000" spc="1" strike="noStrike">
              <a:ln w="28440">
                <a:solidFill>
                  <a:srgbClr val="666699"/>
                </a:solidFill>
                <a:miter/>
              </a:ln>
              <a:solidFill>
                <a:srgbClr val="000080">
                  <a:alpha val="86000"/>
                </a:srgbClr>
              </a:solidFill>
              <a:latin typeface="Souvenir Lt BT"/>
              <a:ea typeface="Souvenir Lt BT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2007360" y="4437000"/>
            <a:ext cx="523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опро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2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3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36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97" name="Picture 37" descr="ЛоготипСПРИНТ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Text Box 38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0596-71AE-461A-8253-E9E5908F60D8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116000" y="260280"/>
            <a:ext cx="72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Цель лабораторной работ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187280" y="1125360"/>
            <a:ext cx="72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755640" y="2205000"/>
            <a:ext cx="83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практического приложения, позволяющего получать фотографии со встроенной фотокамеры и записывать их в заданную нами папку на внешнюю память мобильного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403280" y="4941720"/>
            <a:ext cx="66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www.math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bu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/user/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om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/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b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21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287" name="Picture 22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23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ext Box 50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E3D0-F831-48E1-B67A-36F7B80A7B47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826920" y="404640"/>
            <a:ext cx="72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Пла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1187280" y="1125360"/>
            <a:ext cx="72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3"/>
          <p:cNvSpPr/>
          <p:nvPr/>
        </p:nvSpPr>
        <p:spPr>
          <a:xfrm>
            <a:off x="755640" y="1700280"/>
            <a:ext cx="770400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дключить мобильное устройство к Интернету с помощью GSM-моде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учить кадр от камеры мобильного устрой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хранить кадр в формате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P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диске мобильного устрой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править кадр в центр обработки информ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0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1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23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00" name="Picture 24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25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4000" y="355320"/>
            <a:ext cx="7948440" cy="58428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азбиение задач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7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8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08" name="Picture 20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21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0" name="Picture 22" descr=""/>
          <p:cNvPicPr/>
          <p:nvPr/>
        </p:nvPicPr>
        <p:blipFill>
          <a:blip r:embed="rId2"/>
          <a:stretch/>
        </p:blipFill>
        <p:spPr>
          <a:xfrm>
            <a:off x="1714680" y="1285920"/>
            <a:ext cx="5654520" cy="48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000" y="50760"/>
            <a:ext cx="8240760" cy="91440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Необходимые знания и навык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09680" y="2583000"/>
            <a:ext cx="7129440" cy="2441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щие представления об ОС Andro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азовое знание языка программирования Ja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15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6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7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9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18" name="Picture 20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21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4000" y="25560"/>
            <a:ext cx="7948440" cy="91440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Необходимые программные и аппаратные средств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49360" y="2542680"/>
            <a:ext cx="6392880" cy="3240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К под ОС Windows (или любой другой, подходящей для Android SD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стройство под управлением Android или эмулятор Android SD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15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6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7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8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19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27" name="Picture 20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 Box 21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11280" y="355320"/>
            <a:ext cx="6221520" cy="58428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Описание установк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83960" y="2079720"/>
            <a:ext cx="7584840" cy="3666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а разработки Eclip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1"/>
              </a:rPr>
              <a:t>http://www.eclipse.org/downloads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ановить JDK — Java Development Ki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2"/>
              </a:rPr>
              <a:t>http://www.oracle.com/technetwork/java/javase/downloads/index.htm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1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13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36" name="Picture 14" descr="ЛоготипСПРИНТ"/>
            <p:cNvPicPr/>
            <p:nvPr/>
          </p:nvPicPr>
          <p:blipFill>
            <a:blip r:embed="rId3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Text Box 15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28480" y="355320"/>
            <a:ext cx="6221160" cy="58428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Начало работы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3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44" name="Picture 14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 Box 15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Rectangle 3"/>
          <p:cNvSpPr/>
          <p:nvPr/>
        </p:nvSpPr>
        <p:spPr>
          <a:xfrm>
            <a:off x="285840" y="1428840"/>
            <a:ext cx="85723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пустить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Eclipse SD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здать новое рабочее пространство (например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ndroid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_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amera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здать новый проект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ndroid Application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этого необходимо зайти во вкладку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Fil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перейти в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New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-&gt;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ndroid Application Project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31040" cy="64440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Оборудование 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13840" y="1213920"/>
            <a:ext cx="8582040" cy="4992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271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писать то оборудование, которое будет задействовано в приложен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этого необходимо открыть фай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roidMonife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m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0" algn="ctr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&lt;uses-sd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ndroid:minSdkVersion="8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ndroid:targetSdkVersion="14" /&gt;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  <a:ea typeface="Calibri"/>
              </a:rPr>
              <a:t>&lt;uses-permission android:name="android.permission.CAMERA" /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&lt;uses-permission android:name="android.permission.WRITE_EXTERNAL_STORAGE" /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&lt;uses-feature android:name="android.hardware.camera" /&gt;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&lt;uses-feature android:name="android.hardware.camera.autofocus" /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 algn="ctr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7446960" y="4032360"/>
            <a:ext cx="270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15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55" name="Picture 16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Text Box 17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3:03:25Z</dcterms:created>
  <dc:creator>Андрей</dc:creator>
  <dc:description/>
  <dc:language>en-US</dc:language>
  <cp:lastModifiedBy>KostyaNote</cp:lastModifiedBy>
  <dcterms:modified xsi:type="dcterms:W3CDTF">2013-06-26T15:11:08Z</dcterms:modified>
  <cp:revision>512</cp:revision>
  <dc:subject/>
  <dc:title>Training services</dc:title>
</cp:coreProperties>
</file>