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AD4-BE3B-494A-B1FE-C7CEB33B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0CC-D43D-439A-8B70-85C0655A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44B-5368-4721-B98A-17BB6681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8D1-D677-4DBC-AC8F-252DC255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A1AE-B359-4260-983A-8D9FB0EE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A8A4-E2E5-40ED-BD11-0403EF94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3388-11B1-482E-840A-13FA0829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1C8D-D663-4724-AE09-0B3174CD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3835-8D51-4FDD-8737-62B6DE51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6BA5-294C-4062-92EF-469A5713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B207-410C-4BBF-82BD-29807A88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E21-851E-4017-ABCD-32AA8C39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7086-3C9B-4DB0-9961-CCCBD79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9238-EAA9-47A4-908C-6941F1F9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E16F-154A-4935-BB97-22737100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ED48-4A04-4A43-8197-CF3A831F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80C-BEB3-4850-8309-D9859B84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674-977F-473E-A051-7B459408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C95-9D48-42F9-BDE6-F42CEEF7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4B7-6218-4955-80FE-759E9B6A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60B-0A46-40F7-BF20-0BF50CAA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78D-9E04-4FA6-9701-DC5F3628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5BB-5316-45D3-97B8-FA6D59D0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46A-2007-4F7A-A062-13F7F0BA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A602-C27A-4CFE-A338-B791D985E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3222-DE6F-439B-BFCC-4778FF1E2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накомство с построением диаграмм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ариантов использ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Диаграмма вариантов использова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5000" y="1441440"/>
          <a:ext cx="8748720" cy="50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000" y="1441440"/>
                    <a:ext cx="8748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имер 1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ранслятор выражений..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становка зада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реализовать систему, позволяющую вводить арифметические выражения в строковом виде и вычислять их зна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имер 1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ранслятор выражений..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Вхо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рока – арифметическое выра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усти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ц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+, -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нды – вещественные числа в фор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-]&lt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[.&lt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Выхо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езульт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обрабатывать ошиб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сохранять выражения в фай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предусмотреть сохранение выражений в промежуточном формате для ускоренного вычис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имер 1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ранслятор выражени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ем в команда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им акте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им варианты исполь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им диаграм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20517000">
            <a:off x="3809880" y="3429000"/>
            <a:ext cx="1905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igh Tower Text"/>
              </a:rPr>
              <a:t>?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лата зарплаты через банкомат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становка зада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реализовать систему, позволяющую выплачивать людям зарплату через банком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лата зарплаты через банкомат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банковский счет, на который начисляетс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подходит к банкомату, вставляет карту. Возможные действ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росить остаток на сч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росить снять определенную сумму дене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предусмотреть механизм авторизации. Неправильный ввод пароля не более 2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предусмотреть механизм защиты от сб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лата зарплаты через банко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ем в команда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им акте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им варианты исполь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им диаграм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20517000">
            <a:off x="3809880" y="3429000"/>
            <a:ext cx="1905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igh Tower Text"/>
              </a:rPr>
              <a:t>?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Домашнее задание..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исать сценарии вариантов использования в рассмотренных задач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24280" y="2133720"/>
          <a:ext cx="18288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133720"/>
                    <a:ext cx="18288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987560" y="1676520"/>
          <a:ext cx="614520" cy="186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7560" y="1676520"/>
                    <a:ext cx="6145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590920" y="2438280"/>
          <a:ext cx="1752480" cy="17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2438280"/>
                    <a:ext cx="175248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267080" y="3581280"/>
            <a:ext cx="2971800" cy="2438640"/>
          </a:xfrm>
          <a:prstGeom prst="rect">
            <a:avLst/>
          </a:prstGeom>
          <a:solidFill>
            <a:srgbClr val="fffbd9"/>
          </a:solidFill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392720" y="3646440"/>
          <a:ext cx="2743200" cy="230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92720" y="3646440"/>
                    <a:ext cx="274320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биение группы на ком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еры и варианты использования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грамма вариантов исполь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ение актеров и вариантов исполь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ранслятор выра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дача зарплаты через банком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Разбиение группы на команд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Monotype Corsiva"/>
              </a:rPr>
              <a:t>Разбиваемся на команды по 5-6 челове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05120" y="2567160"/>
            <a:ext cx="541008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UM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визуального моделирования нужна специальная нотация ил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зы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UML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unified modeling language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2000" spc="-1" strike="noStrike">
                <a:solidFill>
                  <a:srgbClr val="99ff33"/>
                </a:solidFill>
                <a:latin typeface="Arial"/>
              </a:rPr>
              <a:t>язык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зуализаци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цирования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руирова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ментов программных сист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зык общего назначения, предназначенный для объектного модел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одели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UM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L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воляет описывать систему следующими </a:t>
            </a:r>
            <a:r>
              <a:rPr b="1" lang="ru-RU" sz="2400" spc="-1" strike="noStrike">
                <a:solidFill>
                  <a:srgbClr val="99ff33"/>
                </a:solidFill>
                <a:latin typeface="Arial"/>
              </a:rPr>
              <a:t>моделя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533520" algn="just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дель функцион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описывается функциональность системы с точки зрения пользов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533520" algn="just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ная мод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выглядит проект системы с точки зрения объектного под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533520" algn="just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намическая мод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взаимодействуют друг с другом компоненты системы в динамике, с течением времени. Какие процессы происходят в сис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Диаграммы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UM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иаграм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дназначены для визуального отображения </a:t>
            </a: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модел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их компон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ML 2.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52727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ипов диаграм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ные диаграммы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раммы поведения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раммы взаимодействия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Понятия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UM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44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ля описания структуры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рибу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онен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ке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ля описания поведения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йств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ыт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бщ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оя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нт использова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ля описания связей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рег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оци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ледова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которые другие понятия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реотип, Кратность, Р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ктеры и Варианты использования в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M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23720" y="2133720"/>
            <a:ext cx="5791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тер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, машина  или программа, воздействует на систему, является внешним по отношению к 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4724280"/>
          <a:ext cx="2590920" cy="132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724280"/>
                    <a:ext cx="259092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31920" y="1676520"/>
          <a:ext cx="9018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31920" y="1676520"/>
                    <a:ext cx="901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124080" y="4648320"/>
            <a:ext cx="5791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ариант использования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ние последовательности действий – (часто с вариантами – сценариями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Связь актеров и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вариантов использова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533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еры и варианты использования общаются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посредством посылки сообщ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533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общения могут идти в обе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533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елка показывает инициатора общения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(актер на рисунке) и может быть опущ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76720" y="4022640"/>
          <a:ext cx="3733920" cy="19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4022640"/>
                    <a:ext cx="37339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81040" y="3641760"/>
          <a:ext cx="9018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1040" y="3641760"/>
                    <a:ext cx="901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36680" y="4784760"/>
          <a:ext cx="3657600" cy="36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6680" y="4784760"/>
                    <a:ext cx="36576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1-09T09:56:58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