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806-04C6-48DD-99AE-4049ABE6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B6D-9263-4781-87A6-DF555228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22E-803E-4547-BF3D-C95A553C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0C0-1BC8-4FB4-A979-3911C2FC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7715-2703-4EE6-A769-79A6FBC6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193D-15D7-4921-9283-94C6BBE3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D92C-26F1-446C-B4B4-335BB1E7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71EB-8B37-4733-BC7A-9C13847C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D4AD-F433-4329-92B8-93E610D1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63AC-61AC-435D-8D83-A628BA71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0F4C-C642-4A26-AD06-F898400A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07B-F7DE-4764-A772-DDA43EB6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97CB-AB97-4F28-81D9-5C91ABA4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D813-B9B0-4CC9-A9E5-7BC813B3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48B2-2588-4F6B-9FDF-B05E4D3C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B6B3-C352-4792-B130-47C2AB2B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E9E4-AB26-4D87-95F6-83A09498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328-02BA-4C71-B355-436366CD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4A5-4577-48F1-9B18-19F511DB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25B-924E-4114-9789-3079D936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FDC-6C6D-431C-A509-A466C336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A3C-8BDF-4361-9B47-4526EA02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387-C958-4142-A291-2CD4BF9A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63A1-7400-41F9-9F14-9F0CE31F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B920-A491-4A27-88E8-1D953719C2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6B7B-1939-4834-9820-E3A61CE870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Технологии программирования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урс на базе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Monotype Corsiva"/>
              </a:rPr>
              <a:t>Microsoft Solutions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52880" y="419112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минар 1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втор принципов объектно-ориентированного подх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ъектный подх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OOA + OOD + 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O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object-oriented analysis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ктно-ориентированный анали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-oriented design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бъектно-ориентированное проектир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-oriented programming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бъектно-ориентированное программир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инципы объектного подхо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Абстрагирование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деляем главное, выявляем виды абстрак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Инкапсуляция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рываем детали реал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Иерархия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ерархия помогает разбить задачу на уровни и постепенно ее реш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Агрегация и наследование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бстракции можно создавать на основе имею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Полиморфизм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орфизм позволяет иметь естественные имена и выполнять действия, релевантные ситуации, разбираясь на этапе работы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машнее задание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ить синтаксис ООП в язык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+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овать классы для представления координатной плоскости и фигур на плоск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овать тестовое приложение. Предусмотреть движение фигу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752480"/>
            <a:ext cx="0" cy="4419720"/>
          </a:xfrm>
          <a:prstGeom prst="line">
            <a:avLst/>
          </a:prstGeom>
          <a:ln w="57240">
            <a:solidFill>
              <a:srgbClr val="00b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019920"/>
            <a:ext cx="7238880" cy="0"/>
          </a:xfrm>
          <a:prstGeom prst="line">
            <a:avLst/>
          </a:prstGeom>
          <a:ln w="5724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4495680"/>
            <a:ext cx="1447920" cy="5335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362320"/>
            <a:ext cx="533520" cy="38088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743200"/>
            <a:ext cx="457200" cy="175248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2743200"/>
            <a:ext cx="761760" cy="17524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64400">
            <a:off x="2438280" y="2666880"/>
            <a:ext cx="1295640" cy="16002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467600">
            <a:off x="4419720" y="4343040"/>
            <a:ext cx="609480" cy="990720"/>
          </a:xfrm>
          <a:prstGeom prst="triangle">
            <a:avLst>
              <a:gd name="adj" fmla="val 1960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0440" y="1319040"/>
            <a:ext cx="4776840" cy="4486320"/>
          </a:xfrm>
          <a:custGeom>
            <a:avLst/>
            <a:gdLst/>
            <a:ahLst/>
            <a:rect l="l" t="t" r="r" b="b"/>
            <a:pathLst>
              <a:path w="3325" h="2826">
                <a:moveTo>
                  <a:pt x="427" y="551"/>
                </a:moveTo>
                <a:cubicBezTo>
                  <a:pt x="388" y="590"/>
                  <a:pt x="361" y="640"/>
                  <a:pt x="331" y="686"/>
                </a:cubicBezTo>
                <a:cubicBezTo>
                  <a:pt x="320" y="703"/>
                  <a:pt x="303" y="717"/>
                  <a:pt x="292" y="734"/>
                </a:cubicBezTo>
                <a:cubicBezTo>
                  <a:pt x="289" y="744"/>
                  <a:pt x="289" y="755"/>
                  <a:pt x="283" y="763"/>
                </a:cubicBezTo>
                <a:cubicBezTo>
                  <a:pt x="270" y="781"/>
                  <a:pt x="235" y="811"/>
                  <a:pt x="235" y="811"/>
                </a:cubicBezTo>
                <a:cubicBezTo>
                  <a:pt x="224" y="842"/>
                  <a:pt x="206" y="866"/>
                  <a:pt x="196" y="897"/>
                </a:cubicBezTo>
                <a:cubicBezTo>
                  <a:pt x="186" y="926"/>
                  <a:pt x="184" y="958"/>
                  <a:pt x="167" y="983"/>
                </a:cubicBezTo>
                <a:cubicBezTo>
                  <a:pt x="154" y="1002"/>
                  <a:pt x="142" y="1022"/>
                  <a:pt x="129" y="1041"/>
                </a:cubicBezTo>
                <a:cubicBezTo>
                  <a:pt x="123" y="1051"/>
                  <a:pt x="110" y="1070"/>
                  <a:pt x="110" y="1070"/>
                </a:cubicBezTo>
                <a:cubicBezTo>
                  <a:pt x="56" y="1397"/>
                  <a:pt x="0" y="1760"/>
                  <a:pt x="110" y="2078"/>
                </a:cubicBezTo>
                <a:cubicBezTo>
                  <a:pt x="127" y="2203"/>
                  <a:pt x="170" y="2378"/>
                  <a:pt x="283" y="2452"/>
                </a:cubicBezTo>
                <a:cubicBezTo>
                  <a:pt x="298" y="2502"/>
                  <a:pt x="339" y="2533"/>
                  <a:pt x="388" y="2548"/>
                </a:cubicBezTo>
                <a:cubicBezTo>
                  <a:pt x="428" y="2575"/>
                  <a:pt x="470" y="2603"/>
                  <a:pt x="513" y="2625"/>
                </a:cubicBezTo>
                <a:cubicBezTo>
                  <a:pt x="534" y="2636"/>
                  <a:pt x="617" y="2653"/>
                  <a:pt x="619" y="2654"/>
                </a:cubicBezTo>
                <a:cubicBezTo>
                  <a:pt x="723" y="2687"/>
                  <a:pt x="826" y="2694"/>
                  <a:pt x="935" y="2702"/>
                </a:cubicBezTo>
                <a:cubicBezTo>
                  <a:pt x="1575" y="2801"/>
                  <a:pt x="2246" y="2826"/>
                  <a:pt x="2865" y="2663"/>
                </a:cubicBezTo>
                <a:cubicBezTo>
                  <a:pt x="2977" y="2590"/>
                  <a:pt x="3108" y="2522"/>
                  <a:pt x="3182" y="2404"/>
                </a:cubicBezTo>
                <a:cubicBezTo>
                  <a:pt x="3208" y="2363"/>
                  <a:pt x="3217" y="2313"/>
                  <a:pt x="3239" y="2270"/>
                </a:cubicBezTo>
                <a:cubicBezTo>
                  <a:pt x="3255" y="2192"/>
                  <a:pt x="3264" y="2105"/>
                  <a:pt x="3287" y="2030"/>
                </a:cubicBezTo>
                <a:cubicBezTo>
                  <a:pt x="3269" y="1463"/>
                  <a:pt x="3325" y="1534"/>
                  <a:pt x="3191" y="1185"/>
                </a:cubicBezTo>
                <a:cubicBezTo>
                  <a:pt x="3159" y="1102"/>
                  <a:pt x="3131" y="1019"/>
                  <a:pt x="3067" y="955"/>
                </a:cubicBezTo>
                <a:cubicBezTo>
                  <a:pt x="3034" y="861"/>
                  <a:pt x="3090" y="1014"/>
                  <a:pt x="3028" y="887"/>
                </a:cubicBezTo>
                <a:cubicBezTo>
                  <a:pt x="3022" y="875"/>
                  <a:pt x="3025" y="860"/>
                  <a:pt x="3019" y="849"/>
                </a:cubicBezTo>
                <a:cubicBezTo>
                  <a:pt x="3012" y="837"/>
                  <a:pt x="2999" y="830"/>
                  <a:pt x="2990" y="820"/>
                </a:cubicBezTo>
                <a:cubicBezTo>
                  <a:pt x="2972" y="799"/>
                  <a:pt x="2960" y="773"/>
                  <a:pt x="2942" y="753"/>
                </a:cubicBezTo>
                <a:cubicBezTo>
                  <a:pt x="2918" y="726"/>
                  <a:pt x="2895" y="696"/>
                  <a:pt x="2865" y="676"/>
                </a:cubicBezTo>
                <a:cubicBezTo>
                  <a:pt x="2846" y="663"/>
                  <a:pt x="2807" y="638"/>
                  <a:pt x="2807" y="638"/>
                </a:cubicBezTo>
                <a:cubicBezTo>
                  <a:pt x="2780" y="596"/>
                  <a:pt x="2721" y="553"/>
                  <a:pt x="2673" y="542"/>
                </a:cubicBezTo>
                <a:cubicBezTo>
                  <a:pt x="2442" y="387"/>
                  <a:pt x="2151" y="387"/>
                  <a:pt x="1886" y="340"/>
                </a:cubicBezTo>
                <a:cubicBezTo>
                  <a:pt x="1562" y="342"/>
                  <a:pt x="701" y="0"/>
                  <a:pt x="407" y="427"/>
                </a:cubicBezTo>
                <a:cubicBezTo>
                  <a:pt x="376" y="525"/>
                  <a:pt x="377" y="467"/>
                  <a:pt x="388" y="609"/>
                </a:cubicBezTo>
                <a:cubicBezTo>
                  <a:pt x="385" y="622"/>
                  <a:pt x="384" y="635"/>
                  <a:pt x="379" y="647"/>
                </a:cubicBezTo>
                <a:cubicBezTo>
                  <a:pt x="374" y="658"/>
                  <a:pt x="359" y="676"/>
                  <a:pt x="359" y="676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3809880"/>
            <a:ext cx="2514600" cy="381240"/>
          </a:xfrm>
          <a:prstGeom prst="rightArrow">
            <a:avLst>
              <a:gd name="adj1" fmla="val 50000"/>
              <a:gd name="adj2" fmla="val 164896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хнологические основы языков программирования высок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ожность зад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хнологии программ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уктурное программ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дульное программ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ъектный под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О и алгоритмическая декомпозиция. Алгоритмы, классы и объек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О Ана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О Проект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О Программ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ципы объектного под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Технологические основы языков программирования высок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Сложность зад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Технологии программ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6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Arial"/>
              </a:rPr>
              <a:t>Структурное программ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6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Arial"/>
              </a:rPr>
              <a:t>Модульное программ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ъектный под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О и алгоритмическая декомпозиция. Алгоритмы, классы и объек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О Ана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О Проект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О Программ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ципы объектного под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ложность зада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жные задачи порождают сложные программные сис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сложные зада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ве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Это не те задачи, которые не может решить конкретный человек (коллектив). Задачи сложны сами по себе по своей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бороться со сложностью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ка ПО по сути проблем похожа на произво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сс создания ПО имеет много аналогий с производственным процессом (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удостроени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любом производстве есть способы преодоления сложно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ехнолог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хнологии программир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Технология программирова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совокупность методов, приемов и средств для сокращения стоимости и повышения качества разработки программных сист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звестные технологии программир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труктурное программ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орема о базисных конструкц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дин вход и один вых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 безусловным переходам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o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держ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ператоры ЯП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одульное программ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биение задачи на подзадачи до тех пор, пока они не станут прост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ход к коллективной разработ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держ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дпрограммы, модули ЯП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хнологические основы языков программирования высокого уров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ожность зад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хнологии программ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уктурное программ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дульное программ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Объектный под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ОО и алгоритмическая декомпозиция. Алгоритмы, классы и объек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ОО Ана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ОО Проект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ОО Программ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Принципы объектного под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ъектный подход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численных технологий стало недостаточно вследствие роста сложности зада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бъектно-ориентированная технолог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ъектный подхо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ъектная декомпозиция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отличия от алгоритмическо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ъектная модель (классы + объект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</cp:lastModifiedBy>
  <dcterms:modified xsi:type="dcterms:W3CDTF">2006-11-09T09:16:01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