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A83-54E7-468B-A942-691996BD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322-B352-480B-9EE5-AD81BF94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0D0-BF07-4289-AE84-111197EE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7C0-41A1-429C-9286-F563B5DA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A90D-B817-4B01-995D-DE891C61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C438-8CB6-46F9-BEDB-ADCB4327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0C20-250E-493B-BDF3-782B10A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ECB0-32E6-4F38-B0C9-4D6FB89C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48AD-3A32-490F-A484-A598409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4724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90D2-2B54-4250-B2B6-3175B1FD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200B-48E4-47FF-933D-589B486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8C1-D026-4F6D-BDCC-020ADEE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F02A-81C7-4529-9183-6F3B8DC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F457-E69D-48F8-83AA-DDFCC12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296E-9174-4EE2-B654-8F5A4522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FF33-0681-4345-9791-2A4D54D7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CEE4-C6FA-4F43-8D63-D73E6E81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D28-A65A-4FFE-AAFA-A9471729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B55-8201-4F11-9BA2-0068B278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2A4-7F71-42BB-B8D6-F4EC748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24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FFA-3585-4FAB-B3AB-7D3ADC46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F74-1775-4342-AFFB-037D8508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3A5-EAE6-4208-80F2-46F15A3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07A-A2AA-43D2-ADEA-FC7E344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644-9963-424D-8944-C1541809A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A7D9-E86D-49D9-9313-462DFE487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накомство с построением диаграмм классо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взаимодействия коман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ство фирмы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nes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пришло к выводу, что производительность труда ее сотрудников не достаточно полно соответствует громкому имени комп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езультате проведенных исследований была выявлена основная причина – недостаточная эффективность обмена информацией между сотруд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решения руководство видит внедрение единого средства электронной коммуник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елу разработчиков компании поручено создать систему, включающую в себя почтовый инструмент и инструмент для обмена мгновенными сообщ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ет работы перс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мпании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ic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были проведены исследования, в результате которых компания поняла, что теряет достаточно много средств из-за не всегда равномерного распределения зарпла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ме денежных потерь есть и недовольство персонала, которое вызвано тем, что те, кто много работают, и  те, кто мало, получают одинаковые зарпл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ания решила изменить данную ситуацию. Вашей компании предложили выработать решение описанной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бронирования билетов для авиакомпан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200" y="1463760"/>
            <a:ext cx="8917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 рынок вышла новая авиакомпания «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obalAvia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». Менеджеры компании решили заказать у вашей фирмы разработку системы бронирования билет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заказе фирма поставила ряд условий, которые обязательно должны быть выполнен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первой версии системы они хотят видеть две части. В первой требуется заносить необходимую информацию. Со второй частью будут работать покупатели биле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формулировании требований менеджеры упомянули, что рейсы у них спланированы так, что до пункта назначения можно долететь с пересадками за разное время и с разным комфорт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дно из требований заключалось в том, что бы система помогала покупать билеты в зависимости от требований пользовате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управления проект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компании 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erSof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” возникла потребность автоматизировать управление проектами. В силу того, что компания существует на рынке разработки ПО недавно и не обладает достаточным количеством свободных финансовых средств, было принято решение не покупать системы управления проектами тип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Projec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стоимость коробочной версии от $600), а разработать собственное простое реш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управления проектами должна иметь единую базу проектов, подключаться к которой могут менеджеры и исполнител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держимое базы составляет информация о ведущихся в компании проект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контроля и распределения ресур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for yo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профессионально занимается подготовкой и проведением презентаций для фир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ирме за последние несколько кварталов сильно увеличился объем заказов. В результате постоянно стали наблюдаться ситуации, когда презентации задерживались из-за нехватки каких-либо ресурсов (аудиторий, проекторов, досок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ирме были проведены исследования и было установлено, что ситуация сильно улучшится, если у фирмы появится электронная система распределения ресурсов, а не бумажная как это было 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анализировать постановку выбранной зада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метить перечень вопросов по сути задачи и требуемой функцион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ход от диаграмм вариантов использования к диаграммам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вучивание кратких постановок зад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реход от диаграмм вариантов использования к диаграммам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рамма вариантов использ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Актеры + Варианты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использ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ценарий (диаграмма действ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основе результатов анализа формируем список классов, основные поля и мет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м, как классы связаны между со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нслятор выраж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м диаграмму кла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м диаграмму кла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раткие постановки зада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e701"/>
                </a:solidFill>
                <a:latin typeface="Arial"/>
              </a:rPr>
              <a:t>Работаем в командах</a:t>
            </a:r>
            <a:r>
              <a:rPr b="1" i="1" lang="en-US" sz="3200" spc="-1" strike="noStrike">
                <a:solidFill>
                  <a:srgbClr val="ffe701"/>
                </a:solidFill>
                <a:latin typeface="Arial"/>
              </a:rPr>
              <a:t>: </a:t>
            </a:r>
            <a:br>
              <a:rPr sz="3200"/>
            </a:br>
            <a:r>
              <a:rPr b="1" i="1" lang="ru-RU" sz="3200" spc="-1" strike="noStrike">
                <a:solidFill>
                  <a:srgbClr val="ffe701"/>
                </a:solidFill>
                <a:latin typeface="Arial"/>
              </a:rPr>
              <a:t>выбираем для себя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 rot="20727000">
            <a:off x="3809880" y="3047760"/>
            <a:ext cx="1905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!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стема обработки метеоинформаци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рма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Mete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желает заказать у вас систему обработки метеоинформации, состоящую из двух ча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ая предназначена для создания и редактирования карт мест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ая для нанесения на карты движения воздушных масс и цикло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сс движения должен задаваться форму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целом система должна давать возможность благодаря анимации получить наглядное представление об изменении метеоусловий на несколько дней впер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дактор математических форму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88552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рма «OurResearch» занимается написанием математических программ по заказ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в фирме часто приходится писать отчеты заказчи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аписании отчетов заказчик хочет видеть в отчетах математические формулы в классическом ви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Вашей фирмы  компания решила заказать удобное средство для перевода и написания математических выражений в разные форматы представ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ем, если в редакторе присутствует ряд взаимосвязанных формул, то фирма хочет видеть адекватный к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известно, что фирма часто использует C/C++, Pascal и Fort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Web-сервис (на основе сокетов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520" y="1599840"/>
            <a:ext cx="87789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обходимо реализовать на стороне сервера хранилище, в которое можно помещать алгоритмы в некотором стандартном виде, а потом исполнять их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ля простоты алгоритмы могут представлять собой математические формул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 алгоритмах должны быть заявлены следующие данны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ходные данны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ходные данны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д алгоритм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оступ к алгоритмам должен быть ограничен на основе разделения прав по роля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09T10:29:02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